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0680" y="0"/>
            <a:ext cx="292284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97800"/>
            <a:ext cx="292248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0680" y="9397800"/>
            <a:ext cx="2922840" cy="4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B6EF-668F-458E-87BC-544F612A357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1650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Es un método moderno que intenta superar los métodos de hace más de 25 añ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o se realizan de manera aislada. Se hacen en paralelo con la descripción de la arquitectura del sistema. Ambos maduran a medida que se desarro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98200" y="4698720"/>
            <a:ext cx="494676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ipo de ordenador (PC, MAC, Mainframe…), sistema operativo, sistema de gestión de bases de datos, protocolos de red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397F-653D-4999-9181-A3BCC05A4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9FB2-AACC-43F0-B974-A6E99A39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D64A-5F7F-4B73-A7E7-74D7A92BF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8A98-C49B-4812-89D9-5879910C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6BCE-F3EB-4A05-BC73-69397E48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6285-DD25-46B8-8178-F673F8CEE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F659-622A-424C-9B99-0E5779F7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DFBD-0947-49EB-82A4-D3AB3387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983D-DBFE-4DF2-B829-FE7558ED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FA1-059F-43EA-8430-B8FDCF51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AB88-F4FA-4B9D-8BB4-8742D39F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88F6-9620-43D6-B8D3-38CEDEBB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C6AED-02C2-430E-84A3-784353D78A4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a 1: Introducción al proceso unificado de desarrollo de soft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F7B1-E1DB-4184-BC71-ECCFAA45857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735840" y="415800"/>
            <a:ext cx="2311560" cy="1260360"/>
            <a:chOff x="735840" y="415800"/>
            <a:chExt cx="2311560" cy="1260360"/>
          </a:xfrm>
        </p:grpSpPr>
        <p:sp>
          <p:nvSpPr>
            <p:cNvPr id="377" name=""/>
            <p:cNvSpPr/>
            <p:nvPr/>
          </p:nvSpPr>
          <p:spPr>
            <a:xfrm>
              <a:off x="1249200" y="563040"/>
              <a:ext cx="446040" cy="185040"/>
            </a:xfrm>
            <a:custGeom>
              <a:avLst/>
              <a:gdLst/>
              <a:ahLst/>
              <a:rect l="l" t="t" r="r" b="b"/>
              <a:pathLst>
                <a:path w="613" h="306">
                  <a:moveTo>
                    <a:pt x="0" y="152"/>
                  </a:moveTo>
                  <a:lnTo>
                    <a:pt x="2" y="136"/>
                  </a:lnTo>
                  <a:lnTo>
                    <a:pt x="7" y="120"/>
                  </a:lnTo>
                  <a:lnTo>
                    <a:pt x="16" y="104"/>
                  </a:lnTo>
                  <a:lnTo>
                    <a:pt x="28" y="88"/>
                  </a:lnTo>
                  <a:lnTo>
                    <a:pt x="44" y="74"/>
                  </a:lnTo>
                  <a:lnTo>
                    <a:pt x="62" y="60"/>
                  </a:lnTo>
                  <a:lnTo>
                    <a:pt x="83" y="48"/>
                  </a:lnTo>
                  <a:lnTo>
                    <a:pt x="107" y="36"/>
                  </a:lnTo>
                  <a:lnTo>
                    <a:pt x="134" y="26"/>
                  </a:lnTo>
                  <a:lnTo>
                    <a:pt x="163" y="17"/>
                  </a:lnTo>
                  <a:lnTo>
                    <a:pt x="193" y="10"/>
                  </a:lnTo>
                  <a:lnTo>
                    <a:pt x="225" y="5"/>
                  </a:lnTo>
                  <a:lnTo>
                    <a:pt x="256" y="1"/>
                  </a:lnTo>
                  <a:lnTo>
                    <a:pt x="290" y="0"/>
                  </a:lnTo>
                  <a:lnTo>
                    <a:pt x="323" y="0"/>
                  </a:lnTo>
                  <a:lnTo>
                    <a:pt x="356" y="1"/>
                  </a:lnTo>
                  <a:lnTo>
                    <a:pt x="388" y="5"/>
                  </a:lnTo>
                  <a:lnTo>
                    <a:pt x="420" y="10"/>
                  </a:lnTo>
                  <a:lnTo>
                    <a:pt x="450" y="17"/>
                  </a:lnTo>
                  <a:lnTo>
                    <a:pt x="478" y="26"/>
                  </a:lnTo>
                  <a:lnTo>
                    <a:pt x="505" y="36"/>
                  </a:lnTo>
                  <a:lnTo>
                    <a:pt x="529" y="48"/>
                  </a:lnTo>
                  <a:lnTo>
                    <a:pt x="550" y="60"/>
                  </a:lnTo>
                  <a:lnTo>
                    <a:pt x="569" y="74"/>
                  </a:lnTo>
                  <a:lnTo>
                    <a:pt x="585" y="88"/>
                  </a:lnTo>
                  <a:lnTo>
                    <a:pt x="597" y="104"/>
                  </a:lnTo>
                  <a:lnTo>
                    <a:pt x="606" y="120"/>
                  </a:lnTo>
                  <a:lnTo>
                    <a:pt x="611" y="136"/>
                  </a:lnTo>
                  <a:lnTo>
                    <a:pt x="613" y="152"/>
                  </a:lnTo>
                  <a:lnTo>
                    <a:pt x="611" y="170"/>
                  </a:lnTo>
                  <a:lnTo>
                    <a:pt x="606" y="186"/>
                  </a:lnTo>
                  <a:lnTo>
                    <a:pt x="597" y="202"/>
                  </a:lnTo>
                  <a:lnTo>
                    <a:pt x="585" y="217"/>
                  </a:lnTo>
                  <a:lnTo>
                    <a:pt x="569" y="232"/>
                  </a:lnTo>
                  <a:lnTo>
                    <a:pt x="550" y="246"/>
                  </a:lnTo>
                  <a:lnTo>
                    <a:pt x="529" y="258"/>
                  </a:lnTo>
                  <a:lnTo>
                    <a:pt x="505" y="270"/>
                  </a:lnTo>
                  <a:lnTo>
                    <a:pt x="478" y="280"/>
                  </a:lnTo>
                  <a:lnTo>
                    <a:pt x="450" y="288"/>
                  </a:lnTo>
                  <a:lnTo>
                    <a:pt x="420" y="296"/>
                  </a:lnTo>
                  <a:lnTo>
                    <a:pt x="388" y="301"/>
                  </a:lnTo>
                  <a:lnTo>
                    <a:pt x="356" y="304"/>
                  </a:lnTo>
                  <a:lnTo>
                    <a:pt x="323" y="306"/>
                  </a:lnTo>
                  <a:lnTo>
                    <a:pt x="290" y="306"/>
                  </a:lnTo>
                  <a:lnTo>
                    <a:pt x="256" y="304"/>
                  </a:lnTo>
                  <a:lnTo>
                    <a:pt x="225" y="301"/>
                  </a:lnTo>
                  <a:lnTo>
                    <a:pt x="193" y="296"/>
                  </a:lnTo>
                  <a:lnTo>
                    <a:pt x="163" y="288"/>
                  </a:lnTo>
                  <a:lnTo>
                    <a:pt x="134" y="280"/>
                  </a:lnTo>
                  <a:lnTo>
                    <a:pt x="107" y="270"/>
                  </a:lnTo>
                  <a:lnTo>
                    <a:pt x="83" y="258"/>
                  </a:lnTo>
                  <a:lnTo>
                    <a:pt x="62" y="246"/>
                  </a:lnTo>
                  <a:lnTo>
                    <a:pt x="44" y="232"/>
                  </a:lnTo>
                  <a:lnTo>
                    <a:pt x="28" y="217"/>
                  </a:lnTo>
                  <a:lnTo>
                    <a:pt x="16" y="202"/>
                  </a:lnTo>
                  <a:lnTo>
                    <a:pt x="7" y="186"/>
                  </a:lnTo>
                  <a:lnTo>
                    <a:pt x="2" y="17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219680" y="1224720"/>
              <a:ext cx="594720" cy="242640"/>
              <a:chOff x="1219680" y="1224720"/>
              <a:chExt cx="594720" cy="242640"/>
            </a:xfrm>
          </p:grpSpPr>
          <p:sp>
            <p:nvSpPr>
              <p:cNvPr id="379" name=""/>
              <p:cNvSpPr/>
              <p:nvPr/>
            </p:nvSpPr>
            <p:spPr>
              <a:xfrm>
                <a:off x="1219680" y="1224720"/>
                <a:ext cx="541440" cy="242640"/>
              </a:xfrm>
              <a:custGeom>
                <a:avLst/>
                <a:gdLst/>
                <a:ahLst/>
                <a:rect l="l" t="t" r="r" b="b"/>
                <a:pathLst>
                  <a:path w="545" h="272">
                    <a:moveTo>
                      <a:pt x="0" y="136"/>
                    </a:moveTo>
                    <a:lnTo>
                      <a:pt x="2" y="120"/>
                    </a:lnTo>
                    <a:lnTo>
                      <a:pt x="7" y="105"/>
                    </a:lnTo>
                    <a:lnTo>
                      <a:pt x="17" y="89"/>
                    </a:lnTo>
                    <a:lnTo>
                      <a:pt x="29" y="75"/>
                    </a:lnTo>
                    <a:lnTo>
                      <a:pt x="45" y="61"/>
                    </a:lnTo>
                    <a:lnTo>
                      <a:pt x="64" y="48"/>
                    </a:lnTo>
                    <a:lnTo>
                      <a:pt x="85" y="37"/>
                    </a:lnTo>
                    <a:lnTo>
                      <a:pt x="110" y="26"/>
                    </a:lnTo>
                    <a:lnTo>
                      <a:pt x="136" y="17"/>
                    </a:lnTo>
                    <a:lnTo>
                      <a:pt x="165" y="11"/>
                    </a:lnTo>
                    <a:lnTo>
                      <a:pt x="195" y="5"/>
                    </a:lnTo>
                    <a:lnTo>
                      <a:pt x="225" y="2"/>
                    </a:lnTo>
                    <a:lnTo>
                      <a:pt x="257" y="0"/>
                    </a:lnTo>
                    <a:lnTo>
                      <a:pt x="289" y="0"/>
                    </a:lnTo>
                    <a:lnTo>
                      <a:pt x="320" y="2"/>
                    </a:lnTo>
                    <a:lnTo>
                      <a:pt x="350" y="5"/>
                    </a:lnTo>
                    <a:lnTo>
                      <a:pt x="380" y="11"/>
                    </a:lnTo>
                    <a:lnTo>
                      <a:pt x="409" y="17"/>
                    </a:lnTo>
                    <a:lnTo>
                      <a:pt x="436" y="26"/>
                    </a:lnTo>
                    <a:lnTo>
                      <a:pt x="460" y="37"/>
                    </a:lnTo>
                    <a:lnTo>
                      <a:pt x="481" y="48"/>
                    </a:lnTo>
                    <a:lnTo>
                      <a:pt x="500" y="61"/>
                    </a:lnTo>
                    <a:lnTo>
                      <a:pt x="517" y="75"/>
                    </a:lnTo>
                    <a:lnTo>
                      <a:pt x="529" y="89"/>
                    </a:lnTo>
                    <a:lnTo>
                      <a:pt x="538" y="105"/>
                    </a:lnTo>
                    <a:lnTo>
                      <a:pt x="543" y="120"/>
                    </a:lnTo>
                    <a:lnTo>
                      <a:pt x="545" y="136"/>
                    </a:lnTo>
                    <a:lnTo>
                      <a:pt x="543" y="152"/>
                    </a:lnTo>
                    <a:lnTo>
                      <a:pt x="538" y="167"/>
                    </a:lnTo>
                    <a:lnTo>
                      <a:pt x="529" y="183"/>
                    </a:lnTo>
                    <a:lnTo>
                      <a:pt x="517" y="197"/>
                    </a:lnTo>
                    <a:lnTo>
                      <a:pt x="500" y="211"/>
                    </a:lnTo>
                    <a:lnTo>
                      <a:pt x="481" y="223"/>
                    </a:lnTo>
                    <a:lnTo>
                      <a:pt x="460" y="235"/>
                    </a:lnTo>
                    <a:lnTo>
                      <a:pt x="436" y="245"/>
                    </a:lnTo>
                    <a:lnTo>
                      <a:pt x="409" y="254"/>
                    </a:lnTo>
                    <a:lnTo>
                      <a:pt x="380" y="261"/>
                    </a:lnTo>
                    <a:lnTo>
                      <a:pt x="350" y="266"/>
                    </a:lnTo>
                    <a:lnTo>
                      <a:pt x="320" y="270"/>
                    </a:lnTo>
                    <a:lnTo>
                      <a:pt x="289" y="272"/>
                    </a:lnTo>
                    <a:lnTo>
                      <a:pt x="257" y="272"/>
                    </a:lnTo>
                    <a:lnTo>
                      <a:pt x="225" y="270"/>
                    </a:lnTo>
                    <a:lnTo>
                      <a:pt x="195" y="266"/>
                    </a:lnTo>
                    <a:lnTo>
                      <a:pt x="165" y="261"/>
                    </a:lnTo>
                    <a:lnTo>
                      <a:pt x="136" y="254"/>
                    </a:lnTo>
                    <a:lnTo>
                      <a:pt x="110" y="245"/>
                    </a:lnTo>
                    <a:lnTo>
                      <a:pt x="85" y="235"/>
                    </a:lnTo>
                    <a:lnTo>
                      <a:pt x="64" y="223"/>
                    </a:lnTo>
                    <a:lnTo>
                      <a:pt x="45" y="211"/>
                    </a:lnTo>
                    <a:lnTo>
                      <a:pt x="29" y="197"/>
                    </a:lnTo>
                    <a:lnTo>
                      <a:pt x="17" y="183"/>
                    </a:lnTo>
                    <a:lnTo>
                      <a:pt x="7" y="167"/>
                    </a:lnTo>
                    <a:lnTo>
                      <a:pt x="2" y="152"/>
                    </a:lnTo>
                    <a:lnTo>
                      <a:pt x="0" y="136"/>
                    </a:lnTo>
                    <a:close/>
                  </a:path>
                </a:pathLst>
              </a:custGeom>
              <a:solidFill>
                <a:srgbClr val="ffffff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249920" y="1278360"/>
                <a:ext cx="56448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1279080" y="880560"/>
              <a:ext cx="448200" cy="185400"/>
            </a:xfrm>
            <a:custGeom>
              <a:avLst/>
              <a:gdLst/>
              <a:ahLst/>
              <a:rect l="l" t="t" r="r" b="b"/>
              <a:pathLst>
                <a:path w="484" h="241">
                  <a:moveTo>
                    <a:pt x="0" y="120"/>
                  </a:moveTo>
                  <a:lnTo>
                    <a:pt x="2" y="105"/>
                  </a:lnTo>
                  <a:lnTo>
                    <a:pt x="8" y="90"/>
                  </a:lnTo>
                  <a:lnTo>
                    <a:pt x="17" y="76"/>
                  </a:lnTo>
                  <a:lnTo>
                    <a:pt x="30" y="62"/>
                  </a:lnTo>
                  <a:lnTo>
                    <a:pt x="47" y="49"/>
                  </a:lnTo>
                  <a:lnTo>
                    <a:pt x="66" y="37"/>
                  </a:lnTo>
                  <a:lnTo>
                    <a:pt x="88" y="26"/>
                  </a:lnTo>
                  <a:lnTo>
                    <a:pt x="113" y="18"/>
                  </a:lnTo>
                  <a:lnTo>
                    <a:pt x="139" y="11"/>
                  </a:lnTo>
                  <a:lnTo>
                    <a:pt x="168" y="5"/>
                  </a:lnTo>
                  <a:lnTo>
                    <a:pt x="196" y="1"/>
                  </a:lnTo>
                  <a:lnTo>
                    <a:pt x="227" y="0"/>
                  </a:lnTo>
                  <a:lnTo>
                    <a:pt x="257" y="0"/>
                  </a:lnTo>
                  <a:lnTo>
                    <a:pt x="288" y="1"/>
                  </a:lnTo>
                  <a:lnTo>
                    <a:pt x="317" y="5"/>
                  </a:lnTo>
                  <a:lnTo>
                    <a:pt x="345" y="11"/>
                  </a:lnTo>
                  <a:lnTo>
                    <a:pt x="371" y="18"/>
                  </a:lnTo>
                  <a:lnTo>
                    <a:pt x="396" y="26"/>
                  </a:lnTo>
                  <a:lnTo>
                    <a:pt x="418" y="37"/>
                  </a:lnTo>
                  <a:lnTo>
                    <a:pt x="438" y="49"/>
                  </a:lnTo>
                  <a:lnTo>
                    <a:pt x="454" y="62"/>
                  </a:lnTo>
                  <a:lnTo>
                    <a:pt x="466" y="76"/>
                  </a:lnTo>
                  <a:lnTo>
                    <a:pt x="476" y="90"/>
                  </a:lnTo>
                  <a:lnTo>
                    <a:pt x="482" y="105"/>
                  </a:lnTo>
                  <a:lnTo>
                    <a:pt x="484" y="120"/>
                  </a:lnTo>
                  <a:lnTo>
                    <a:pt x="482" y="135"/>
                  </a:lnTo>
                  <a:lnTo>
                    <a:pt x="476" y="151"/>
                  </a:lnTo>
                  <a:lnTo>
                    <a:pt x="466" y="165"/>
                  </a:lnTo>
                  <a:lnTo>
                    <a:pt x="454" y="178"/>
                  </a:lnTo>
                  <a:lnTo>
                    <a:pt x="438" y="191"/>
                  </a:lnTo>
                  <a:lnTo>
                    <a:pt x="418" y="203"/>
                  </a:lnTo>
                  <a:lnTo>
                    <a:pt x="396" y="213"/>
                  </a:lnTo>
                  <a:lnTo>
                    <a:pt x="371" y="223"/>
                  </a:lnTo>
                  <a:lnTo>
                    <a:pt x="345" y="229"/>
                  </a:lnTo>
                  <a:lnTo>
                    <a:pt x="317" y="235"/>
                  </a:lnTo>
                  <a:lnTo>
                    <a:pt x="288" y="239"/>
                  </a:lnTo>
                  <a:lnTo>
                    <a:pt x="257" y="241"/>
                  </a:lnTo>
                  <a:lnTo>
                    <a:pt x="227" y="241"/>
                  </a:lnTo>
                  <a:lnTo>
                    <a:pt x="196" y="239"/>
                  </a:lnTo>
                  <a:lnTo>
                    <a:pt x="168" y="235"/>
                  </a:lnTo>
                  <a:lnTo>
                    <a:pt x="139" y="229"/>
                  </a:lnTo>
                  <a:lnTo>
                    <a:pt x="113" y="223"/>
                  </a:lnTo>
                  <a:lnTo>
                    <a:pt x="88" y="213"/>
                  </a:lnTo>
                  <a:lnTo>
                    <a:pt x="66" y="203"/>
                  </a:lnTo>
                  <a:lnTo>
                    <a:pt x="47" y="191"/>
                  </a:lnTo>
                  <a:lnTo>
                    <a:pt x="30" y="178"/>
                  </a:lnTo>
                  <a:lnTo>
                    <a:pt x="17" y="165"/>
                  </a:lnTo>
                  <a:lnTo>
                    <a:pt x="8" y="151"/>
                  </a:lnTo>
                  <a:lnTo>
                    <a:pt x="2" y="135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2" name=""/>
            <p:cNvGrpSpPr/>
            <p:nvPr/>
          </p:nvGrpSpPr>
          <p:grpSpPr>
            <a:xfrm>
              <a:off x="1963080" y="721800"/>
              <a:ext cx="683640" cy="263520"/>
              <a:chOff x="1963080" y="721800"/>
              <a:chExt cx="683640" cy="263520"/>
            </a:xfrm>
          </p:grpSpPr>
          <p:sp>
            <p:nvSpPr>
              <p:cNvPr id="383" name=""/>
              <p:cNvSpPr/>
              <p:nvPr/>
            </p:nvSpPr>
            <p:spPr>
              <a:xfrm>
                <a:off x="1963080" y="721800"/>
                <a:ext cx="683640" cy="211320"/>
              </a:xfrm>
              <a:custGeom>
                <a:avLst/>
                <a:gdLst/>
                <a:ahLst/>
                <a:rect l="l" t="t" r="r" b="b"/>
                <a:pathLst>
                  <a:path w="737" h="353">
                    <a:moveTo>
                      <a:pt x="0" y="177"/>
                    </a:moveTo>
                    <a:lnTo>
                      <a:pt x="2" y="157"/>
                    </a:lnTo>
                    <a:lnTo>
                      <a:pt x="9" y="137"/>
                    </a:lnTo>
                    <a:lnTo>
                      <a:pt x="20" y="119"/>
                    </a:lnTo>
                    <a:lnTo>
                      <a:pt x="36" y="100"/>
                    </a:lnTo>
                    <a:lnTo>
                      <a:pt x="57" y="83"/>
                    </a:lnTo>
                    <a:lnTo>
                      <a:pt x="79" y="67"/>
                    </a:lnTo>
                    <a:lnTo>
                      <a:pt x="107" y="52"/>
                    </a:lnTo>
                    <a:lnTo>
                      <a:pt x="139" y="39"/>
                    </a:lnTo>
                    <a:lnTo>
                      <a:pt x="172" y="28"/>
                    </a:lnTo>
                    <a:lnTo>
                      <a:pt x="209" y="19"/>
                    </a:lnTo>
                    <a:lnTo>
                      <a:pt x="246" y="10"/>
                    </a:lnTo>
                    <a:lnTo>
                      <a:pt x="286" y="5"/>
                    </a:lnTo>
                    <a:lnTo>
                      <a:pt x="327" y="1"/>
                    </a:lnTo>
                    <a:lnTo>
                      <a:pt x="368" y="0"/>
                    </a:lnTo>
                    <a:lnTo>
                      <a:pt x="409" y="1"/>
                    </a:lnTo>
                    <a:lnTo>
                      <a:pt x="450" y="5"/>
                    </a:lnTo>
                    <a:lnTo>
                      <a:pt x="490" y="10"/>
                    </a:lnTo>
                    <a:lnTo>
                      <a:pt x="528" y="19"/>
                    </a:lnTo>
                    <a:lnTo>
                      <a:pt x="564" y="28"/>
                    </a:lnTo>
                    <a:lnTo>
                      <a:pt x="598" y="39"/>
                    </a:lnTo>
                    <a:lnTo>
                      <a:pt x="629" y="52"/>
                    </a:lnTo>
                    <a:lnTo>
                      <a:pt x="657" y="67"/>
                    </a:lnTo>
                    <a:lnTo>
                      <a:pt x="680" y="83"/>
                    </a:lnTo>
                    <a:lnTo>
                      <a:pt x="700" y="100"/>
                    </a:lnTo>
                    <a:lnTo>
                      <a:pt x="716" y="119"/>
                    </a:lnTo>
                    <a:lnTo>
                      <a:pt x="727" y="137"/>
                    </a:lnTo>
                    <a:lnTo>
                      <a:pt x="734" y="157"/>
                    </a:lnTo>
                    <a:lnTo>
                      <a:pt x="737" y="177"/>
                    </a:lnTo>
                    <a:lnTo>
                      <a:pt x="734" y="196"/>
                    </a:lnTo>
                    <a:lnTo>
                      <a:pt x="727" y="216"/>
                    </a:lnTo>
                    <a:lnTo>
                      <a:pt x="716" y="234"/>
                    </a:lnTo>
                    <a:lnTo>
                      <a:pt x="700" y="253"/>
                    </a:lnTo>
                    <a:lnTo>
                      <a:pt x="680" y="270"/>
                    </a:lnTo>
                    <a:lnTo>
                      <a:pt x="657" y="286"/>
                    </a:lnTo>
                    <a:lnTo>
                      <a:pt x="629" y="301"/>
                    </a:lnTo>
                    <a:lnTo>
                      <a:pt x="598" y="314"/>
                    </a:lnTo>
                    <a:lnTo>
                      <a:pt x="564" y="326"/>
                    </a:lnTo>
                    <a:lnTo>
                      <a:pt x="528" y="335"/>
                    </a:lnTo>
                    <a:lnTo>
                      <a:pt x="490" y="343"/>
                    </a:lnTo>
                    <a:lnTo>
                      <a:pt x="450" y="349"/>
                    </a:lnTo>
                    <a:lnTo>
                      <a:pt x="409" y="352"/>
                    </a:lnTo>
                    <a:lnTo>
                      <a:pt x="368" y="353"/>
                    </a:lnTo>
                    <a:lnTo>
                      <a:pt x="327" y="352"/>
                    </a:lnTo>
                    <a:lnTo>
                      <a:pt x="286" y="349"/>
                    </a:lnTo>
                    <a:lnTo>
                      <a:pt x="246" y="343"/>
                    </a:lnTo>
                    <a:lnTo>
                      <a:pt x="209" y="335"/>
                    </a:lnTo>
                    <a:lnTo>
                      <a:pt x="172" y="326"/>
                    </a:lnTo>
                    <a:lnTo>
                      <a:pt x="139" y="314"/>
                    </a:lnTo>
                    <a:lnTo>
                      <a:pt x="107" y="301"/>
                    </a:lnTo>
                    <a:lnTo>
                      <a:pt x="79" y="286"/>
                    </a:lnTo>
                    <a:lnTo>
                      <a:pt x="57" y="270"/>
                    </a:lnTo>
                    <a:lnTo>
                      <a:pt x="36" y="253"/>
                    </a:lnTo>
                    <a:lnTo>
                      <a:pt x="20" y="234"/>
                    </a:lnTo>
                    <a:lnTo>
                      <a:pt x="9" y="216"/>
                    </a:lnTo>
                    <a:lnTo>
                      <a:pt x="2" y="196"/>
                    </a:lnTo>
                    <a:lnTo>
                      <a:pt x="0" y="177"/>
                    </a:lnTo>
                    <a:close/>
                  </a:path>
                </a:pathLst>
              </a:custGeom>
              <a:solidFill>
                <a:srgbClr val="fffff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97640" y="802800"/>
                <a:ext cx="6490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>
              <a:off x="951840" y="669240"/>
              <a:ext cx="267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927000" y="985680"/>
              <a:ext cx="35172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27000" y="1189800"/>
              <a:ext cx="292320" cy="19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2647080" y="827640"/>
              <a:ext cx="20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04120" y="444960"/>
              <a:ext cx="1605600" cy="1067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1635840" y="721440"/>
              <a:ext cx="326880" cy="1054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57280" y="106560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800000" y="80316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735840" y="998640"/>
              <a:ext cx="178920" cy="677520"/>
              <a:chOff x="735840" y="998640"/>
              <a:chExt cx="178920" cy="677520"/>
            </a:xfrm>
          </p:grpSpPr>
          <p:sp>
            <p:nvSpPr>
              <p:cNvPr id="394" name=""/>
              <p:cNvSpPr/>
              <p:nvPr/>
            </p:nvSpPr>
            <p:spPr>
              <a:xfrm>
                <a:off x="780480" y="99864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185" h="179">
                    <a:moveTo>
                      <a:pt x="0" y="89"/>
                    </a:moveTo>
                    <a:lnTo>
                      <a:pt x="3" y="64"/>
                    </a:lnTo>
                    <a:lnTo>
                      <a:pt x="15" y="42"/>
                    </a:lnTo>
                    <a:lnTo>
                      <a:pt x="32" y="23"/>
                    </a:lnTo>
                    <a:lnTo>
                      <a:pt x="54" y="8"/>
                    </a:lnTo>
                    <a:lnTo>
                      <a:pt x="79" y="0"/>
                    </a:lnTo>
                    <a:lnTo>
                      <a:pt x="106" y="0"/>
                    </a:lnTo>
                    <a:lnTo>
                      <a:pt x="131" y="8"/>
                    </a:lnTo>
                    <a:lnTo>
                      <a:pt x="152" y="23"/>
                    </a:lnTo>
                    <a:lnTo>
                      <a:pt x="170" y="42"/>
                    </a:lnTo>
                    <a:lnTo>
                      <a:pt x="181" y="64"/>
                    </a:lnTo>
                    <a:lnTo>
                      <a:pt x="185" y="89"/>
                    </a:lnTo>
                    <a:lnTo>
                      <a:pt x="181" y="115"/>
                    </a:lnTo>
                    <a:lnTo>
                      <a:pt x="170" y="138"/>
                    </a:lnTo>
                    <a:lnTo>
                      <a:pt x="152" y="156"/>
                    </a:lnTo>
                    <a:lnTo>
                      <a:pt x="131" y="171"/>
                    </a:lnTo>
                    <a:lnTo>
                      <a:pt x="106" y="179"/>
                    </a:lnTo>
                    <a:lnTo>
                      <a:pt x="79" y="179"/>
                    </a:lnTo>
                    <a:lnTo>
                      <a:pt x="54" y="171"/>
                    </a:lnTo>
                    <a:lnTo>
                      <a:pt x="32" y="156"/>
                    </a:lnTo>
                    <a:lnTo>
                      <a:pt x="15" y="138"/>
                    </a:lnTo>
                    <a:lnTo>
                      <a:pt x="3" y="115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35840" y="1118160"/>
                <a:ext cx="17892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25120" y="1276560"/>
                <a:ext cx="89640" cy="158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35840" y="1078200"/>
                <a:ext cx="88920" cy="356760"/>
              </a:xfrm>
              <a:custGeom>
                <a:avLst/>
                <a:gdLst/>
                <a:ahLst/>
                <a:rect l="l" t="t" r="r" b="b"/>
                <a:pathLst>
                  <a:path w="183" h="804">
                    <a:moveTo>
                      <a:pt x="183" y="0"/>
                    </a:moveTo>
                    <a:lnTo>
                      <a:pt x="183" y="447"/>
                    </a:lnTo>
                    <a:lnTo>
                      <a:pt x="0" y="804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80480" y="998640"/>
                <a:ext cx="90000" cy="79200"/>
              </a:xfrm>
              <a:custGeom>
                <a:avLst/>
                <a:gdLst/>
                <a:ahLst/>
                <a:rect l="l" t="t" r="r" b="b"/>
                <a:pathLst>
                  <a:path w="185" h="179">
                    <a:moveTo>
                      <a:pt x="0" y="89"/>
                    </a:moveTo>
                    <a:lnTo>
                      <a:pt x="3" y="64"/>
                    </a:lnTo>
                    <a:lnTo>
                      <a:pt x="15" y="42"/>
                    </a:lnTo>
                    <a:lnTo>
                      <a:pt x="32" y="23"/>
                    </a:lnTo>
                    <a:lnTo>
                      <a:pt x="54" y="8"/>
                    </a:lnTo>
                    <a:lnTo>
                      <a:pt x="79" y="0"/>
                    </a:lnTo>
                    <a:lnTo>
                      <a:pt x="106" y="0"/>
                    </a:lnTo>
                    <a:lnTo>
                      <a:pt x="131" y="8"/>
                    </a:lnTo>
                    <a:lnTo>
                      <a:pt x="152" y="23"/>
                    </a:lnTo>
                    <a:lnTo>
                      <a:pt x="170" y="42"/>
                    </a:lnTo>
                    <a:lnTo>
                      <a:pt x="181" y="64"/>
                    </a:lnTo>
                    <a:lnTo>
                      <a:pt x="185" y="89"/>
                    </a:lnTo>
                    <a:lnTo>
                      <a:pt x="181" y="115"/>
                    </a:lnTo>
                    <a:lnTo>
                      <a:pt x="170" y="138"/>
                    </a:lnTo>
                    <a:lnTo>
                      <a:pt x="152" y="156"/>
                    </a:lnTo>
                    <a:lnTo>
                      <a:pt x="131" y="171"/>
                    </a:lnTo>
                    <a:lnTo>
                      <a:pt x="106" y="179"/>
                    </a:lnTo>
                    <a:lnTo>
                      <a:pt x="79" y="179"/>
                    </a:lnTo>
                    <a:lnTo>
                      <a:pt x="54" y="171"/>
                    </a:lnTo>
                    <a:lnTo>
                      <a:pt x="32" y="156"/>
                    </a:lnTo>
                    <a:lnTo>
                      <a:pt x="15" y="138"/>
                    </a:lnTo>
                    <a:lnTo>
                      <a:pt x="3" y="115"/>
                    </a:lnTo>
                    <a:lnTo>
                      <a:pt x="0" y="89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40600" y="146376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755280" y="415800"/>
              <a:ext cx="187560" cy="700920"/>
              <a:chOff x="755280" y="415800"/>
              <a:chExt cx="187560" cy="700920"/>
            </a:xfrm>
          </p:grpSpPr>
          <p:sp>
            <p:nvSpPr>
              <p:cNvPr id="401" name=""/>
              <p:cNvSpPr/>
              <p:nvPr/>
            </p:nvSpPr>
            <p:spPr>
              <a:xfrm>
                <a:off x="801720" y="415800"/>
                <a:ext cx="95040" cy="83160"/>
              </a:xfrm>
              <a:custGeom>
                <a:avLst/>
                <a:gdLst/>
                <a:ahLst/>
                <a:rect l="l" t="t" r="r" b="b"/>
                <a:pathLst>
                  <a:path w="195" h="188">
                    <a:moveTo>
                      <a:pt x="0" y="93"/>
                    </a:moveTo>
                    <a:lnTo>
                      <a:pt x="4" y="67"/>
                    </a:lnTo>
                    <a:lnTo>
                      <a:pt x="16" y="43"/>
                    </a:lnTo>
                    <a:lnTo>
                      <a:pt x="35" y="23"/>
                    </a:lnTo>
                    <a:lnTo>
                      <a:pt x="57" y="8"/>
                    </a:lnTo>
                    <a:lnTo>
                      <a:pt x="83" y="0"/>
                    </a:lnTo>
                    <a:lnTo>
                      <a:pt x="112" y="0"/>
                    </a:lnTo>
                    <a:lnTo>
                      <a:pt x="138" y="8"/>
                    </a:lnTo>
                    <a:lnTo>
                      <a:pt x="160" y="23"/>
                    </a:lnTo>
                    <a:lnTo>
                      <a:pt x="179" y="43"/>
                    </a:lnTo>
                    <a:lnTo>
                      <a:pt x="191" y="67"/>
                    </a:lnTo>
                    <a:lnTo>
                      <a:pt x="195" y="93"/>
                    </a:lnTo>
                    <a:lnTo>
                      <a:pt x="191" y="120"/>
                    </a:lnTo>
                    <a:lnTo>
                      <a:pt x="179" y="144"/>
                    </a:lnTo>
                    <a:lnTo>
                      <a:pt x="160" y="164"/>
                    </a:lnTo>
                    <a:lnTo>
                      <a:pt x="138" y="180"/>
                    </a:lnTo>
                    <a:lnTo>
                      <a:pt x="112" y="188"/>
                    </a:lnTo>
                    <a:lnTo>
                      <a:pt x="83" y="188"/>
                    </a:lnTo>
                    <a:lnTo>
                      <a:pt x="57" y="180"/>
                    </a:lnTo>
                    <a:lnTo>
                      <a:pt x="35" y="164"/>
                    </a:lnTo>
                    <a:lnTo>
                      <a:pt x="16" y="144"/>
                    </a:lnTo>
                    <a:lnTo>
                      <a:pt x="4" y="120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55280" y="541800"/>
                <a:ext cx="187560" cy="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48880" y="708120"/>
                <a:ext cx="93960" cy="166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55280" y="499320"/>
                <a:ext cx="93240" cy="375480"/>
              </a:xfrm>
              <a:custGeom>
                <a:avLst/>
                <a:gdLst/>
                <a:ahLst/>
                <a:rect l="l" t="t" r="r" b="b"/>
                <a:pathLst>
                  <a:path w="192" h="846">
                    <a:moveTo>
                      <a:pt x="192" y="0"/>
                    </a:moveTo>
                    <a:lnTo>
                      <a:pt x="192" y="470"/>
                    </a:lnTo>
                    <a:lnTo>
                      <a:pt x="0" y="846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01720" y="415800"/>
                <a:ext cx="95040" cy="83160"/>
              </a:xfrm>
              <a:custGeom>
                <a:avLst/>
                <a:gdLst/>
                <a:ahLst/>
                <a:rect l="l" t="t" r="r" b="b"/>
                <a:pathLst>
                  <a:path w="195" h="188">
                    <a:moveTo>
                      <a:pt x="0" y="93"/>
                    </a:moveTo>
                    <a:lnTo>
                      <a:pt x="4" y="67"/>
                    </a:lnTo>
                    <a:lnTo>
                      <a:pt x="16" y="43"/>
                    </a:lnTo>
                    <a:lnTo>
                      <a:pt x="35" y="23"/>
                    </a:lnTo>
                    <a:lnTo>
                      <a:pt x="57" y="8"/>
                    </a:lnTo>
                    <a:lnTo>
                      <a:pt x="83" y="0"/>
                    </a:lnTo>
                    <a:lnTo>
                      <a:pt x="112" y="0"/>
                    </a:lnTo>
                    <a:lnTo>
                      <a:pt x="138" y="8"/>
                    </a:lnTo>
                    <a:lnTo>
                      <a:pt x="160" y="23"/>
                    </a:lnTo>
                    <a:lnTo>
                      <a:pt x="179" y="43"/>
                    </a:lnTo>
                    <a:lnTo>
                      <a:pt x="191" y="67"/>
                    </a:lnTo>
                    <a:lnTo>
                      <a:pt x="195" y="93"/>
                    </a:lnTo>
                    <a:lnTo>
                      <a:pt x="191" y="120"/>
                    </a:lnTo>
                    <a:lnTo>
                      <a:pt x="179" y="144"/>
                    </a:lnTo>
                    <a:lnTo>
                      <a:pt x="160" y="164"/>
                    </a:lnTo>
                    <a:lnTo>
                      <a:pt x="138" y="180"/>
                    </a:lnTo>
                    <a:lnTo>
                      <a:pt x="112" y="188"/>
                    </a:lnTo>
                    <a:lnTo>
                      <a:pt x="83" y="188"/>
                    </a:lnTo>
                    <a:lnTo>
                      <a:pt x="57" y="180"/>
                    </a:lnTo>
                    <a:lnTo>
                      <a:pt x="35" y="164"/>
                    </a:lnTo>
                    <a:lnTo>
                      <a:pt x="16" y="144"/>
                    </a:lnTo>
                    <a:lnTo>
                      <a:pt x="4" y="120"/>
                    </a:lnTo>
                    <a:lnTo>
                      <a:pt x="0" y="93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867960" y="904320"/>
                <a:ext cx="360" cy="21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2891880" y="598680"/>
              <a:ext cx="155520" cy="619560"/>
              <a:chOff x="2891880" y="598680"/>
              <a:chExt cx="155520" cy="619560"/>
            </a:xfrm>
          </p:grpSpPr>
          <p:sp>
            <p:nvSpPr>
              <p:cNvPr id="408" name=""/>
              <p:cNvSpPr/>
              <p:nvPr/>
            </p:nvSpPr>
            <p:spPr>
              <a:xfrm>
                <a:off x="2930400" y="598680"/>
                <a:ext cx="78480" cy="69120"/>
              </a:xfrm>
              <a:custGeom>
                <a:avLst/>
                <a:gdLst/>
                <a:ahLst/>
                <a:rect l="l" t="t" r="r" b="b"/>
                <a:pathLst>
                  <a:path w="161" h="156">
                    <a:moveTo>
                      <a:pt x="0" y="77"/>
                    </a:moveTo>
                    <a:lnTo>
                      <a:pt x="4" y="56"/>
                    </a:lnTo>
                    <a:lnTo>
                      <a:pt x="14" y="36"/>
                    </a:lnTo>
                    <a:lnTo>
                      <a:pt x="29" y="20"/>
                    </a:lnTo>
                    <a:lnTo>
                      <a:pt x="47" y="7"/>
                    </a:lnTo>
                    <a:lnTo>
                      <a:pt x="69" y="0"/>
                    </a:lnTo>
                    <a:lnTo>
                      <a:pt x="92" y="0"/>
                    </a:lnTo>
                    <a:lnTo>
                      <a:pt x="114" y="7"/>
                    </a:lnTo>
                    <a:lnTo>
                      <a:pt x="133" y="20"/>
                    </a:lnTo>
                    <a:lnTo>
                      <a:pt x="148" y="36"/>
                    </a:lnTo>
                    <a:lnTo>
                      <a:pt x="158" y="56"/>
                    </a:lnTo>
                    <a:lnTo>
                      <a:pt x="161" y="77"/>
                    </a:lnTo>
                    <a:lnTo>
                      <a:pt x="158" y="100"/>
                    </a:lnTo>
                    <a:lnTo>
                      <a:pt x="148" y="120"/>
                    </a:lnTo>
                    <a:lnTo>
                      <a:pt x="133" y="136"/>
                    </a:lnTo>
                    <a:lnTo>
                      <a:pt x="114" y="149"/>
                    </a:lnTo>
                    <a:lnTo>
                      <a:pt x="92" y="156"/>
                    </a:lnTo>
                    <a:lnTo>
                      <a:pt x="69" y="156"/>
                    </a:lnTo>
                    <a:lnTo>
                      <a:pt x="47" y="149"/>
                    </a:lnTo>
                    <a:lnTo>
                      <a:pt x="29" y="136"/>
                    </a:lnTo>
                    <a:lnTo>
                      <a:pt x="14" y="120"/>
                    </a:lnTo>
                    <a:lnTo>
                      <a:pt x="4" y="100"/>
                    </a:lnTo>
                    <a:lnTo>
                      <a:pt x="0" y="7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2891880" y="703080"/>
                <a:ext cx="155160" cy="36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2970000" y="841320"/>
                <a:ext cx="77400" cy="137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891880" y="668160"/>
                <a:ext cx="77760" cy="311040"/>
              </a:xfrm>
              <a:custGeom>
                <a:avLst/>
                <a:gdLst/>
                <a:ahLst/>
                <a:rect l="l" t="t" r="r" b="b"/>
                <a:pathLst>
                  <a:path w="160" h="701">
                    <a:moveTo>
                      <a:pt x="160" y="0"/>
                    </a:moveTo>
                    <a:lnTo>
                      <a:pt x="160" y="390"/>
                    </a:lnTo>
                    <a:lnTo>
                      <a:pt x="0" y="701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2930400" y="598680"/>
                <a:ext cx="78480" cy="69120"/>
              </a:xfrm>
              <a:custGeom>
                <a:avLst/>
                <a:gdLst/>
                <a:ahLst/>
                <a:rect l="l" t="t" r="r" b="b"/>
                <a:pathLst>
                  <a:path w="161" h="156">
                    <a:moveTo>
                      <a:pt x="0" y="77"/>
                    </a:moveTo>
                    <a:lnTo>
                      <a:pt x="4" y="56"/>
                    </a:lnTo>
                    <a:lnTo>
                      <a:pt x="14" y="36"/>
                    </a:lnTo>
                    <a:lnTo>
                      <a:pt x="29" y="20"/>
                    </a:lnTo>
                    <a:lnTo>
                      <a:pt x="47" y="7"/>
                    </a:lnTo>
                    <a:lnTo>
                      <a:pt x="69" y="0"/>
                    </a:lnTo>
                    <a:lnTo>
                      <a:pt x="92" y="0"/>
                    </a:lnTo>
                    <a:lnTo>
                      <a:pt x="114" y="7"/>
                    </a:lnTo>
                    <a:lnTo>
                      <a:pt x="133" y="20"/>
                    </a:lnTo>
                    <a:lnTo>
                      <a:pt x="148" y="36"/>
                    </a:lnTo>
                    <a:lnTo>
                      <a:pt x="158" y="56"/>
                    </a:lnTo>
                    <a:lnTo>
                      <a:pt x="161" y="77"/>
                    </a:lnTo>
                    <a:lnTo>
                      <a:pt x="158" y="100"/>
                    </a:lnTo>
                    <a:lnTo>
                      <a:pt x="148" y="120"/>
                    </a:lnTo>
                    <a:lnTo>
                      <a:pt x="133" y="136"/>
                    </a:lnTo>
                    <a:lnTo>
                      <a:pt x="114" y="149"/>
                    </a:lnTo>
                    <a:lnTo>
                      <a:pt x="92" y="156"/>
                    </a:lnTo>
                    <a:lnTo>
                      <a:pt x="69" y="156"/>
                    </a:lnTo>
                    <a:lnTo>
                      <a:pt x="47" y="149"/>
                    </a:lnTo>
                    <a:lnTo>
                      <a:pt x="29" y="136"/>
                    </a:lnTo>
                    <a:lnTo>
                      <a:pt x="14" y="120"/>
                    </a:lnTo>
                    <a:lnTo>
                      <a:pt x="4" y="100"/>
                    </a:lnTo>
                    <a:lnTo>
                      <a:pt x="0" y="77"/>
                    </a:lnTo>
                  </a:path>
                </a:pathLst>
              </a:custGeom>
              <a:noFill/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984040" y="1004760"/>
                <a:ext cx="36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4" name=""/>
          <p:cNvGrpSpPr/>
          <p:nvPr/>
        </p:nvGrpSpPr>
        <p:grpSpPr>
          <a:xfrm>
            <a:off x="3851280" y="333360"/>
            <a:ext cx="2398680" cy="1557000"/>
            <a:chOff x="3851280" y="333360"/>
            <a:chExt cx="2398680" cy="1557000"/>
          </a:xfrm>
        </p:grpSpPr>
        <p:sp>
          <p:nvSpPr>
            <p:cNvPr id="415" name=""/>
            <p:cNvSpPr/>
            <p:nvPr/>
          </p:nvSpPr>
          <p:spPr>
            <a:xfrm>
              <a:off x="4550040" y="1306440"/>
              <a:ext cx="23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827240" y="1244880"/>
              <a:ext cx="61200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31960" y="1203840"/>
              <a:ext cx="98640" cy="81720"/>
            </a:xfrm>
            <a:prstGeom prst="diamond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4530240" y="1244880"/>
              <a:ext cx="27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446360" y="1182960"/>
              <a:ext cx="18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773240" y="120312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064120" y="998280"/>
              <a:ext cx="69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044320" y="587160"/>
              <a:ext cx="71136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024160" y="546120"/>
              <a:ext cx="2365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538960" y="792000"/>
              <a:ext cx="27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21280" y="649440"/>
              <a:ext cx="1836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633640" y="874800"/>
              <a:ext cx="1839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4550040" y="361080"/>
              <a:ext cx="493920" cy="328320"/>
              <a:chOff x="4550040" y="361080"/>
              <a:chExt cx="493920" cy="328320"/>
            </a:xfrm>
          </p:grpSpPr>
          <p:sp>
            <p:nvSpPr>
              <p:cNvPr id="428" name=""/>
              <p:cNvSpPr/>
              <p:nvPr/>
            </p:nvSpPr>
            <p:spPr>
              <a:xfrm>
                <a:off x="4550040" y="361080"/>
                <a:ext cx="493920" cy="328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550040" y="443160"/>
                <a:ext cx="4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550040" y="627840"/>
                <a:ext cx="4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4570200" y="854280"/>
              <a:ext cx="493920" cy="329040"/>
              <a:chOff x="4570200" y="854280"/>
              <a:chExt cx="493920" cy="329040"/>
            </a:xfrm>
          </p:grpSpPr>
          <p:sp>
            <p:nvSpPr>
              <p:cNvPr id="432" name=""/>
              <p:cNvSpPr/>
              <p:nvPr/>
            </p:nvSpPr>
            <p:spPr>
              <a:xfrm>
                <a:off x="4570200" y="854280"/>
                <a:ext cx="493920" cy="329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570200" y="936360"/>
                <a:ext cx="4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70200" y="1121760"/>
                <a:ext cx="493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5756040" y="874800"/>
              <a:ext cx="493920" cy="821880"/>
              <a:chOff x="5756040" y="874800"/>
              <a:chExt cx="493920" cy="821880"/>
            </a:xfrm>
          </p:grpSpPr>
          <p:grpSp>
            <p:nvGrpSpPr>
              <p:cNvPr id="436" name=""/>
              <p:cNvGrpSpPr/>
              <p:nvPr/>
            </p:nvGrpSpPr>
            <p:grpSpPr>
              <a:xfrm>
                <a:off x="5756040" y="874800"/>
                <a:ext cx="493920" cy="328680"/>
                <a:chOff x="5756040" y="874800"/>
                <a:chExt cx="493920" cy="3286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5756040" y="874800"/>
                  <a:ext cx="493920" cy="328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5756040" y="956880"/>
                  <a:ext cx="49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756040" y="1141920"/>
                  <a:ext cx="49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5756040" y="1368000"/>
                <a:ext cx="493920" cy="328680"/>
                <a:chOff x="5756040" y="1368000"/>
                <a:chExt cx="493920" cy="32868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5756040" y="1368000"/>
                  <a:ext cx="493920" cy="328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5756040" y="1450080"/>
                  <a:ext cx="49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5756040" y="1635120"/>
                  <a:ext cx="493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5953680" y="1203480"/>
                <a:ext cx="96120" cy="164160"/>
                <a:chOff x="5953680" y="1203480"/>
                <a:chExt cx="96120" cy="16416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5953680" y="1203480"/>
                  <a:ext cx="96120" cy="61560"/>
                </a:xfrm>
                <a:prstGeom prst="triangle">
                  <a:avLst>
                    <a:gd name="adj" fmla="val 50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001560" y="1265040"/>
                  <a:ext cx="0" cy="102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7" name=""/>
            <p:cNvSpPr/>
            <p:nvPr/>
          </p:nvSpPr>
          <p:spPr>
            <a:xfrm>
              <a:off x="4807080" y="1183320"/>
              <a:ext cx="0" cy="6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040360" y="915840"/>
              <a:ext cx="183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5301000" y="998280"/>
              <a:ext cx="158040" cy="205560"/>
            </a:xfrm>
            <a:prstGeom prst="line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185800" y="1206360"/>
              <a:ext cx="453240" cy="163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5185800" y="1262520"/>
              <a:ext cx="45324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87640" y="689760"/>
              <a:ext cx="0" cy="164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3" name=""/>
            <p:cNvGrpSpPr/>
            <p:nvPr/>
          </p:nvGrpSpPr>
          <p:grpSpPr>
            <a:xfrm>
              <a:off x="3851280" y="1094040"/>
              <a:ext cx="586080" cy="476640"/>
              <a:chOff x="3851280" y="1094040"/>
              <a:chExt cx="586080" cy="476640"/>
            </a:xfrm>
          </p:grpSpPr>
          <p:sp>
            <p:nvSpPr>
              <p:cNvPr id="454" name=""/>
              <p:cNvSpPr/>
              <p:nvPr/>
            </p:nvSpPr>
            <p:spPr>
              <a:xfrm>
                <a:off x="3851280" y="1094040"/>
                <a:ext cx="586080" cy="476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851280" y="1213200"/>
                <a:ext cx="58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3851280" y="1481400"/>
                <a:ext cx="58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>
              <a:off x="4581000" y="333360"/>
              <a:ext cx="37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89880" y="841320"/>
              <a:ext cx="3772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814720" y="1347840"/>
              <a:ext cx="379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32120" y="841320"/>
              <a:ext cx="37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976560" y="1092240"/>
              <a:ext cx="3790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900600" y="1206360"/>
              <a:ext cx="3790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606560" y="954360"/>
              <a:ext cx="37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628880" y="446400"/>
              <a:ext cx="1843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837040" y="95436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862600" y="143352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5211720" y="1177920"/>
              <a:ext cx="477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186160" y="1263600"/>
              <a:ext cx="45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684360" y="2205000"/>
            <a:ext cx="2403360" cy="1905120"/>
            <a:chOff x="684360" y="2205000"/>
            <a:chExt cx="2403360" cy="1905120"/>
          </a:xfrm>
        </p:grpSpPr>
        <p:sp>
          <p:nvSpPr>
            <p:cNvPr id="470" name=""/>
            <p:cNvSpPr/>
            <p:nvPr/>
          </p:nvSpPr>
          <p:spPr>
            <a:xfrm flipH="1">
              <a:off x="684360" y="2579040"/>
              <a:ext cx="107712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1968480" y="2579040"/>
              <a:ext cx="1035720" cy="53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2" name=""/>
            <p:cNvGrpSpPr/>
            <p:nvPr/>
          </p:nvGrpSpPr>
          <p:grpSpPr>
            <a:xfrm>
              <a:off x="1471680" y="2205000"/>
              <a:ext cx="994320" cy="373680"/>
              <a:chOff x="1471680" y="2205000"/>
              <a:chExt cx="994320" cy="373680"/>
            </a:xfrm>
          </p:grpSpPr>
          <p:sp>
            <p:nvSpPr>
              <p:cNvPr id="473" name=""/>
              <p:cNvSpPr/>
              <p:nvPr/>
            </p:nvSpPr>
            <p:spPr>
              <a:xfrm>
                <a:off x="1471680" y="2284920"/>
                <a:ext cx="994320" cy="29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471680" y="2205000"/>
                <a:ext cx="289800" cy="79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3120" bIns="33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1471680" y="2338560"/>
              <a:ext cx="10778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4360" y="3140280"/>
              <a:ext cx="2320200" cy="774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974160" y="3193560"/>
              <a:ext cx="538560" cy="186840"/>
              <a:chOff x="974160" y="3193560"/>
              <a:chExt cx="538560" cy="186840"/>
            </a:xfrm>
          </p:grpSpPr>
          <p:sp>
            <p:nvSpPr>
              <p:cNvPr id="478" name=""/>
              <p:cNvSpPr/>
              <p:nvPr/>
            </p:nvSpPr>
            <p:spPr>
              <a:xfrm>
                <a:off x="974160" y="3233520"/>
                <a:ext cx="538560" cy="146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974160" y="3193560"/>
                <a:ext cx="156960" cy="39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1678680" y="3193560"/>
              <a:ext cx="538560" cy="186840"/>
              <a:chOff x="1678680" y="3193560"/>
              <a:chExt cx="538560" cy="186840"/>
            </a:xfrm>
          </p:grpSpPr>
          <p:sp>
            <p:nvSpPr>
              <p:cNvPr id="481" name=""/>
              <p:cNvSpPr/>
              <p:nvPr/>
            </p:nvSpPr>
            <p:spPr>
              <a:xfrm>
                <a:off x="1678680" y="3233520"/>
                <a:ext cx="538560" cy="146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678680" y="3193560"/>
                <a:ext cx="156960" cy="39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2341800" y="3193560"/>
              <a:ext cx="538560" cy="186840"/>
              <a:chOff x="2341800" y="3193560"/>
              <a:chExt cx="538560" cy="186840"/>
            </a:xfrm>
          </p:grpSpPr>
          <p:sp>
            <p:nvSpPr>
              <p:cNvPr id="484" name=""/>
              <p:cNvSpPr/>
              <p:nvPr/>
            </p:nvSpPr>
            <p:spPr>
              <a:xfrm>
                <a:off x="2341800" y="3233520"/>
                <a:ext cx="538560" cy="146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341800" y="3193560"/>
                <a:ext cx="156960" cy="39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767160" y="3460680"/>
              <a:ext cx="1261440" cy="400680"/>
              <a:chOff x="767160" y="3460680"/>
              <a:chExt cx="1261440" cy="400680"/>
            </a:xfrm>
          </p:grpSpPr>
          <p:grpSp>
            <p:nvGrpSpPr>
              <p:cNvPr id="487" name=""/>
              <p:cNvGrpSpPr/>
              <p:nvPr/>
            </p:nvGrpSpPr>
            <p:grpSpPr>
              <a:xfrm>
                <a:off x="958680" y="3618360"/>
                <a:ext cx="157680" cy="65520"/>
                <a:chOff x="958680" y="3618360"/>
                <a:chExt cx="157680" cy="65520"/>
              </a:xfrm>
            </p:grpSpPr>
            <p:sp>
              <p:nvSpPr>
                <p:cNvPr id="488" name=""/>
                <p:cNvSpPr/>
                <p:nvPr/>
              </p:nvSpPr>
              <p:spPr>
                <a:xfrm>
                  <a:off x="1003680" y="3618360"/>
                  <a:ext cx="112680" cy="65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958680" y="3651120"/>
                  <a:ext cx="45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958680" y="3637440"/>
                  <a:ext cx="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1386720" y="3486960"/>
                <a:ext cx="111960" cy="78840"/>
                <a:chOff x="1386720" y="3486960"/>
                <a:chExt cx="111960" cy="7884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1386720" y="3499920"/>
                  <a:ext cx="111960" cy="658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60" bIns="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 flipH="1">
                  <a:off x="1431000" y="3486960"/>
                  <a:ext cx="33480" cy="12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431360" y="3499920"/>
                  <a:ext cx="4464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1803600" y="3480840"/>
                <a:ext cx="124200" cy="65520"/>
                <a:chOff x="1803600" y="3480840"/>
                <a:chExt cx="124200" cy="655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1803600" y="3480840"/>
                  <a:ext cx="113040" cy="65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1803600" y="3546360"/>
                  <a:ext cx="12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811800" y="3645000"/>
                <a:ext cx="1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99" name=""/>
              <p:cNvGrpSpPr/>
              <p:nvPr/>
            </p:nvGrpSpPr>
            <p:grpSpPr>
              <a:xfrm>
                <a:off x="1814760" y="3605400"/>
                <a:ext cx="124200" cy="65520"/>
                <a:chOff x="1814760" y="3605400"/>
                <a:chExt cx="124200" cy="65520"/>
              </a:xfrm>
            </p:grpSpPr>
            <p:sp>
              <p:nvSpPr>
                <p:cNvPr id="500" name=""/>
                <p:cNvSpPr/>
                <p:nvPr/>
              </p:nvSpPr>
              <p:spPr>
                <a:xfrm>
                  <a:off x="1814760" y="3605400"/>
                  <a:ext cx="113040" cy="65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814760" y="3670920"/>
                  <a:ext cx="12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2" name=""/>
              <p:cNvSpPr/>
              <p:nvPr/>
            </p:nvSpPr>
            <p:spPr>
              <a:xfrm>
                <a:off x="1870920" y="3552480"/>
                <a:ext cx="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1116720" y="3539880"/>
                <a:ext cx="270000" cy="10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1499040" y="3519360"/>
                <a:ext cx="30456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1116720" y="3552120"/>
                <a:ext cx="720720" cy="9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1105560" y="3670200"/>
                <a:ext cx="6825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1116720" y="3631680"/>
                <a:ext cx="698040" cy="19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826280" y="3795840"/>
                <a:ext cx="124200" cy="65520"/>
                <a:chOff x="1826280" y="3795840"/>
                <a:chExt cx="124200" cy="6552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1826280" y="3795840"/>
                  <a:ext cx="113040" cy="65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826280" y="3861360"/>
                  <a:ext cx="124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1" name=""/>
              <p:cNvSpPr/>
              <p:nvPr/>
            </p:nvSpPr>
            <p:spPr>
              <a:xfrm>
                <a:off x="1870920" y="3677760"/>
                <a:ext cx="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782280" y="3603600"/>
                <a:ext cx="32040" cy="1872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16"/>
                    </a:moveTo>
                    <a:lnTo>
                      <a:pt x="1" y="12"/>
                    </a:lnTo>
                    <a:lnTo>
                      <a:pt x="3" y="8"/>
                    </a:lnTo>
                    <a:lnTo>
                      <a:pt x="7" y="4"/>
                    </a:lnTo>
                    <a:lnTo>
                      <a:pt x="11" y="1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7" y="16"/>
                    </a:lnTo>
                    <a:lnTo>
                      <a:pt x="36" y="21"/>
                    </a:lnTo>
                    <a:lnTo>
                      <a:pt x="34" y="26"/>
                    </a:lnTo>
                    <a:lnTo>
                      <a:pt x="31" y="29"/>
                    </a:lnTo>
                    <a:lnTo>
                      <a:pt x="26" y="32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1" y="32"/>
                    </a:lnTo>
                    <a:lnTo>
                      <a:pt x="7" y="29"/>
                    </a:lnTo>
                    <a:lnTo>
                      <a:pt x="3" y="26"/>
                    </a:lnTo>
                    <a:lnTo>
                      <a:pt x="1" y="21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67160" y="3631680"/>
                <a:ext cx="6300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798840" y="3669480"/>
                <a:ext cx="30960" cy="37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67160" y="3622320"/>
                <a:ext cx="31680" cy="84960"/>
              </a:xfrm>
              <a:custGeom>
                <a:avLst/>
                <a:gdLst/>
                <a:ahLst/>
                <a:rect l="l" t="t" r="r" b="b"/>
                <a:pathLst>
                  <a:path w="37" h="153">
                    <a:moveTo>
                      <a:pt x="37" y="0"/>
                    </a:moveTo>
                    <a:lnTo>
                      <a:pt x="37" y="85"/>
                    </a:lnTo>
                    <a:lnTo>
                      <a:pt x="0" y="153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2280" y="3603600"/>
                <a:ext cx="32040" cy="18720"/>
              </a:xfrm>
              <a:custGeom>
                <a:avLst/>
                <a:gdLst/>
                <a:ahLst/>
                <a:rect l="l" t="t" r="r" b="b"/>
                <a:pathLst>
                  <a:path w="37" h="34">
                    <a:moveTo>
                      <a:pt x="0" y="16"/>
                    </a:moveTo>
                    <a:lnTo>
                      <a:pt x="1" y="12"/>
                    </a:lnTo>
                    <a:lnTo>
                      <a:pt x="3" y="8"/>
                    </a:lnTo>
                    <a:lnTo>
                      <a:pt x="7" y="4"/>
                    </a:lnTo>
                    <a:lnTo>
                      <a:pt x="11" y="1"/>
                    </a:lnTo>
                    <a:lnTo>
                      <a:pt x="16" y="0"/>
                    </a:lnTo>
                    <a:lnTo>
                      <a:pt x="21" y="0"/>
                    </a:lnTo>
                    <a:lnTo>
                      <a:pt x="26" y="1"/>
                    </a:lnTo>
                    <a:lnTo>
                      <a:pt x="31" y="4"/>
                    </a:lnTo>
                    <a:lnTo>
                      <a:pt x="34" y="8"/>
                    </a:lnTo>
                    <a:lnTo>
                      <a:pt x="36" y="12"/>
                    </a:lnTo>
                    <a:lnTo>
                      <a:pt x="37" y="16"/>
                    </a:lnTo>
                    <a:lnTo>
                      <a:pt x="36" y="21"/>
                    </a:lnTo>
                    <a:lnTo>
                      <a:pt x="34" y="26"/>
                    </a:lnTo>
                    <a:lnTo>
                      <a:pt x="31" y="29"/>
                    </a:lnTo>
                    <a:lnTo>
                      <a:pt x="26" y="32"/>
                    </a:lnTo>
                    <a:lnTo>
                      <a:pt x="21" y="34"/>
                    </a:lnTo>
                    <a:lnTo>
                      <a:pt x="16" y="34"/>
                    </a:lnTo>
                    <a:lnTo>
                      <a:pt x="11" y="32"/>
                    </a:lnTo>
                    <a:lnTo>
                      <a:pt x="7" y="29"/>
                    </a:lnTo>
                    <a:lnTo>
                      <a:pt x="3" y="26"/>
                    </a:lnTo>
                    <a:lnTo>
                      <a:pt x="1" y="21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1567080" y="3763080"/>
                <a:ext cx="123120" cy="65520"/>
                <a:chOff x="1567080" y="3763080"/>
                <a:chExt cx="123120" cy="6552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1567080" y="3763080"/>
                  <a:ext cx="111960" cy="6552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0" bIns="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567080" y="3828600"/>
                  <a:ext cx="123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>
                <a:off x="1904760" y="3677760"/>
                <a:ext cx="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1679400" y="3756600"/>
                <a:ext cx="22500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1105560" y="3677760"/>
                <a:ext cx="461520" cy="10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1927800" y="3533040"/>
                <a:ext cx="10080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1938600" y="3624840"/>
                <a:ext cx="89640" cy="19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1116720" y="3460680"/>
                <a:ext cx="56160" cy="177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2880" y="3461040"/>
                <a:ext cx="64188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"/>
            <p:cNvGrpSpPr/>
            <p:nvPr/>
          </p:nvGrpSpPr>
          <p:grpSpPr>
            <a:xfrm>
              <a:off x="2175840" y="3621240"/>
              <a:ext cx="745560" cy="160200"/>
              <a:chOff x="2175840" y="3621240"/>
              <a:chExt cx="745560" cy="16020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2458440" y="3661200"/>
                <a:ext cx="180000" cy="100080"/>
                <a:chOff x="2458440" y="3661200"/>
                <a:chExt cx="180000" cy="10008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2458440" y="3661200"/>
                  <a:ext cx="163800" cy="10008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458440" y="3761280"/>
                  <a:ext cx="1800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741400" y="3621240"/>
                <a:ext cx="180000" cy="160200"/>
                <a:chOff x="2741400" y="3621240"/>
                <a:chExt cx="180000" cy="16020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2741400" y="3647880"/>
                  <a:ext cx="180000" cy="13356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 flipH="1">
                  <a:off x="2813400" y="3621240"/>
                  <a:ext cx="54000" cy="2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2813400" y="3647880"/>
                  <a:ext cx="72000" cy="53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2175840" y="3641040"/>
                <a:ext cx="179280" cy="120240"/>
                <a:chOff x="2175840" y="3641040"/>
                <a:chExt cx="179280" cy="12024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2226960" y="3641040"/>
                  <a:ext cx="128160" cy="120240"/>
                </a:xfrm>
                <a:prstGeom prst="ellipse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160" bIns="38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175840" y="3701160"/>
                  <a:ext cx="51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V="1">
                  <a:off x="2175840" y="3676680"/>
                  <a:ext cx="0" cy="47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9" name=""/>
            <p:cNvSpPr/>
            <p:nvPr/>
          </p:nvSpPr>
          <p:spPr>
            <a:xfrm>
              <a:off x="684360" y="3835080"/>
              <a:ext cx="1451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2673360" y="3380760"/>
              <a:ext cx="372600" cy="26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756160" y="3380760"/>
              <a:ext cx="331560" cy="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429920" y="2685960"/>
              <a:ext cx="12430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4211280" y="2421000"/>
            <a:ext cx="3024720" cy="1925280"/>
            <a:chOff x="4211280" y="2421000"/>
            <a:chExt cx="3024720" cy="1925280"/>
          </a:xfrm>
        </p:grpSpPr>
        <p:sp>
          <p:nvSpPr>
            <p:cNvPr id="544" name=""/>
            <p:cNvSpPr/>
            <p:nvPr/>
          </p:nvSpPr>
          <p:spPr>
            <a:xfrm flipH="1">
              <a:off x="4211280" y="2799720"/>
              <a:ext cx="135612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 flipV="1">
              <a:off x="5827680" y="2799720"/>
              <a:ext cx="1303560" cy="54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5202360" y="2421000"/>
              <a:ext cx="1251720" cy="378720"/>
              <a:chOff x="5202360" y="2421000"/>
              <a:chExt cx="1251720" cy="378720"/>
            </a:xfrm>
          </p:grpSpPr>
          <p:sp>
            <p:nvSpPr>
              <p:cNvPr id="547" name=""/>
              <p:cNvSpPr/>
              <p:nvPr/>
            </p:nvSpPr>
            <p:spPr>
              <a:xfrm>
                <a:off x="5202360" y="2502000"/>
                <a:ext cx="1251720" cy="297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202360" y="2421000"/>
                <a:ext cx="365040" cy="81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" name=""/>
            <p:cNvSpPr/>
            <p:nvPr/>
          </p:nvSpPr>
          <p:spPr>
            <a:xfrm>
              <a:off x="5202360" y="2556000"/>
              <a:ext cx="13575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211640" y="3356640"/>
              <a:ext cx="2919960" cy="78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4576320" y="3421440"/>
              <a:ext cx="678240" cy="189000"/>
              <a:chOff x="4576320" y="3421440"/>
              <a:chExt cx="678240" cy="189000"/>
            </a:xfrm>
          </p:grpSpPr>
          <p:sp>
            <p:nvSpPr>
              <p:cNvPr id="552" name=""/>
              <p:cNvSpPr/>
              <p:nvPr/>
            </p:nvSpPr>
            <p:spPr>
              <a:xfrm>
                <a:off x="4576320" y="3461760"/>
                <a:ext cx="678240" cy="148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576320" y="3421440"/>
                <a:ext cx="197640" cy="40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"/>
            <p:cNvGrpSpPr/>
            <p:nvPr/>
          </p:nvGrpSpPr>
          <p:grpSpPr>
            <a:xfrm>
              <a:off x="5463360" y="3421440"/>
              <a:ext cx="677520" cy="189000"/>
              <a:chOff x="5463360" y="3421440"/>
              <a:chExt cx="677520" cy="189000"/>
            </a:xfrm>
          </p:grpSpPr>
          <p:sp>
            <p:nvSpPr>
              <p:cNvPr id="555" name=""/>
              <p:cNvSpPr/>
              <p:nvPr/>
            </p:nvSpPr>
            <p:spPr>
              <a:xfrm>
                <a:off x="5463360" y="3461760"/>
                <a:ext cx="677520" cy="148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463360" y="3421440"/>
                <a:ext cx="197640" cy="40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"/>
            <p:cNvGrpSpPr/>
            <p:nvPr/>
          </p:nvGrpSpPr>
          <p:grpSpPr>
            <a:xfrm>
              <a:off x="6297120" y="3421440"/>
              <a:ext cx="678240" cy="189000"/>
              <a:chOff x="6297120" y="3421440"/>
              <a:chExt cx="678240" cy="189000"/>
            </a:xfrm>
          </p:grpSpPr>
          <p:sp>
            <p:nvSpPr>
              <p:cNvPr id="558" name=""/>
              <p:cNvSpPr/>
              <p:nvPr/>
            </p:nvSpPr>
            <p:spPr>
              <a:xfrm>
                <a:off x="6297120" y="3461760"/>
                <a:ext cx="678240" cy="148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97120" y="3421440"/>
                <a:ext cx="197640" cy="40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>
              <a:off x="4211640" y="4071600"/>
              <a:ext cx="182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714360" y="3611160"/>
              <a:ext cx="469440" cy="27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818760" y="3611160"/>
              <a:ext cx="417240" cy="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49440" y="2906640"/>
              <a:ext cx="156528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4" name=""/>
            <p:cNvGrpSpPr/>
            <p:nvPr/>
          </p:nvGrpSpPr>
          <p:grpSpPr>
            <a:xfrm>
              <a:off x="4460760" y="3660840"/>
              <a:ext cx="1102680" cy="584280"/>
              <a:chOff x="4460760" y="3660840"/>
              <a:chExt cx="1102680" cy="584280"/>
            </a:xfrm>
          </p:grpSpPr>
          <p:sp>
            <p:nvSpPr>
              <p:cNvPr id="565" name=""/>
              <p:cNvSpPr/>
              <p:nvPr/>
            </p:nvSpPr>
            <p:spPr>
              <a:xfrm>
                <a:off x="5211360" y="3660840"/>
                <a:ext cx="165600" cy="669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193000" y="3676680"/>
                <a:ext cx="165600" cy="669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4497120" y="408564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V="1">
                <a:off x="4497120" y="406908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4497120" y="405216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V="1">
                <a:off x="4497120" y="40356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4497120" y="401904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flipV="1">
                <a:off x="4497120" y="400176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4497120" y="398556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4497120" y="39690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4497120" y="395208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4497120" y="393516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4497120" y="39186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4497120" y="390204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4497120" y="388512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4497120" y="386856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497120" y="385164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4497120" y="383508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4497120" y="381888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4497120" y="380232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4497120" y="378504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35000" y="3689640"/>
                <a:ext cx="165600" cy="669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5120" y="3732120"/>
                <a:ext cx="4572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599360" y="3709800"/>
                <a:ext cx="250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: IU-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4717800" y="408564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4717800" y="406908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4717800" y="405216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4717800" y="40356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4717800" y="401904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4717800" y="400176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4717800" y="398556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4717800" y="39690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4717800" y="395208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4717800" y="393516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4717800" y="39186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4717800" y="390204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4717800" y="388512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4717800" y="386856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4717800" y="385164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4717800" y="383508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4717800" y="381888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4717800" y="380232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V="1">
                <a:off x="4717800" y="378504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4717800" y="376848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4717800" y="3756600"/>
                <a:ext cx="3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960800" y="3689640"/>
                <a:ext cx="164880" cy="669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979160" y="3732120"/>
                <a:ext cx="12780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023800" y="3709800"/>
                <a:ext cx="568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: Gr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V="1">
                <a:off x="5043600" y="408564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5043600" y="406908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5043600" y="405216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5043600" y="40356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5043600" y="401904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5043600" y="400176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5043600" y="398556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5043600" y="39690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5043600" y="395208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5043600" y="393516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5043600" y="39186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5043600" y="390204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5043600" y="388512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5043600" y="386856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V="1">
                <a:off x="5043600" y="385164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V="1">
                <a:off x="5043600" y="383508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5043600" y="381888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5043600" y="380232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V="1">
                <a:off x="5043600" y="378504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5043600" y="376848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5043600" y="3756600"/>
                <a:ext cx="36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181480" y="3688560"/>
                <a:ext cx="165600" cy="669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237640" y="3731040"/>
                <a:ext cx="5400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256720" y="3709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5264280" y="408564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V="1">
                <a:off x="5264280" y="406908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5264280" y="405216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5264280" y="40356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5264280" y="401904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V="1">
                <a:off x="5264280" y="400176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5264280" y="398556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5264280" y="39690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5264280" y="395208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5264280" y="393516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5264280" y="39186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V="1">
                <a:off x="5264280" y="390204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V="1">
                <a:off x="5264280" y="388548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V="1">
                <a:off x="5264280" y="386856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5264280" y="385236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5264280" y="383508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V="1">
                <a:off x="5264280" y="381888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5264280" y="380232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V="1">
                <a:off x="5264280" y="378504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5264280" y="376848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5264280" y="3755520"/>
                <a:ext cx="36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398200" y="3689640"/>
                <a:ext cx="165240" cy="669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413680" y="3732120"/>
                <a:ext cx="13428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5492160" y="370980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5481000" y="408564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5481000" y="406908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5481000" y="405216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V="1">
                <a:off x="5481000" y="403560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V="1">
                <a:off x="5481000" y="401904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V="1">
                <a:off x="5481000" y="400176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5481000" y="398556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5481000" y="396900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V="1">
                <a:off x="5481000" y="395208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5481000" y="393516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5481000" y="391860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5481000" y="390204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481000" y="3885480"/>
                <a:ext cx="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5481000" y="386856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481000" y="3852360"/>
                <a:ext cx="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5481000" y="383508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V="1">
                <a:off x="5481000" y="3818880"/>
                <a:ext cx="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481000" y="3802320"/>
                <a:ext cx="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5481000" y="378504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5481000" y="3768480"/>
                <a:ext cx="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V="1">
                <a:off x="5481000" y="3756600"/>
                <a:ext cx="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497120" y="3805200"/>
                <a:ext cx="200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697280" y="3805200"/>
                <a:ext cx="205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4704120" y="3796200"/>
                <a:ext cx="13680" cy="1764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0"/>
                    </a:moveTo>
                    <a:lnTo>
                      <a:pt x="34" y="25"/>
                    </a:lnTo>
                    <a:lnTo>
                      <a:pt x="0" y="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674600" y="37702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497120" y="3853080"/>
                <a:ext cx="2001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4697280" y="3853080"/>
                <a:ext cx="20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704120" y="3844080"/>
                <a:ext cx="13680" cy="18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0"/>
                    </a:moveTo>
                    <a:lnTo>
                      <a:pt x="34" y="25"/>
                    </a:lnTo>
                    <a:lnTo>
                      <a:pt x="0" y="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552200" y="38210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717800" y="3901320"/>
                <a:ext cx="3009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031720" y="3895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9" y="17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29" y="17"/>
                    </a:lnTo>
                    <a:close/>
                    <a:moveTo>
                      <a:pt x="0" y="34"/>
                    </a:moveTo>
                    <a:lnTo>
                      <a:pt x="29" y="1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031720" y="3895200"/>
                <a:ext cx="11520" cy="1188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9" y="17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29" y="1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5031720" y="3901320"/>
                <a:ext cx="11520" cy="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H="1">
                <a:off x="5012640" y="3901320"/>
                <a:ext cx="187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858560" y="387036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043600" y="3949200"/>
                <a:ext cx="1965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252040" y="394272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1" y="34"/>
                    </a:lnTo>
                    <a:lnTo>
                      <a:pt x="0" y="0"/>
                    </a:lnTo>
                    <a:lnTo>
                      <a:pt x="30" y="17"/>
                    </a:lnTo>
                    <a:close/>
                    <a:moveTo>
                      <a:pt x="1" y="34"/>
                    </a:moveTo>
                    <a:lnTo>
                      <a:pt x="30" y="17"/>
                    </a:ln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252040" y="3942720"/>
                <a:ext cx="12240" cy="1188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1" y="34"/>
                    </a:lnTo>
                    <a:lnTo>
                      <a:pt x="0" y="0"/>
                    </a:lnTo>
                    <a:lnTo>
                      <a:pt x="30" y="1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252760" y="3948840"/>
                <a:ext cx="11160" cy="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flipH="1">
                <a:off x="5233320" y="3949200"/>
                <a:ext cx="19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25680" y="39211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11360" y="3784680"/>
                <a:ext cx="270360" cy="123840"/>
              </a:xfrm>
              <a:custGeom>
                <a:avLst/>
                <a:gdLst/>
                <a:ahLst/>
                <a:rect l="l" t="t" r="r" b="b"/>
                <a:pathLst>
                  <a:path w="671" h="352">
                    <a:moveTo>
                      <a:pt x="671" y="82"/>
                    </a:moveTo>
                    <a:lnTo>
                      <a:pt x="602" y="0"/>
                    </a:lnTo>
                    <a:lnTo>
                      <a:pt x="602" y="82"/>
                    </a:lnTo>
                    <a:lnTo>
                      <a:pt x="671" y="82"/>
                    </a:lnTo>
                    <a:close/>
                    <a:moveTo>
                      <a:pt x="0" y="352"/>
                    </a:moveTo>
                    <a:lnTo>
                      <a:pt x="671" y="352"/>
                    </a:lnTo>
                    <a:lnTo>
                      <a:pt x="671" y="82"/>
                    </a:lnTo>
                    <a:lnTo>
                      <a:pt x="602" y="82"/>
                    </a:lnTo>
                    <a:lnTo>
                      <a:pt x="602" y="0"/>
                    </a:lnTo>
                    <a:lnTo>
                      <a:pt x="0" y="0"/>
                    </a:lnTo>
                    <a:lnTo>
                      <a:pt x="0" y="35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360400" y="37940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358600" y="38210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360400" y="384624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343840" y="38718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738680" y="399780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757760" y="3997800"/>
                <a:ext cx="111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776480" y="3997800"/>
                <a:ext cx="118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4796280" y="3997800"/>
                <a:ext cx="111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15000" y="3997800"/>
                <a:ext cx="118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834080" y="3997800"/>
                <a:ext cx="111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853160" y="3997800"/>
                <a:ext cx="118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872600" y="3997800"/>
                <a:ext cx="111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891320" y="3997800"/>
                <a:ext cx="111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10400" y="3997800"/>
                <a:ext cx="118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929480" y="3997800"/>
                <a:ext cx="111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948560" y="399780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968000" y="3997800"/>
                <a:ext cx="111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986720" y="399780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005800" y="3997800"/>
                <a:ext cx="111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025240" y="399780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H="1">
                <a:off x="4717440" y="3997800"/>
                <a:ext cx="20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717800" y="3988440"/>
                <a:ext cx="13320" cy="18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34" y="51"/>
                    </a:moveTo>
                    <a:lnTo>
                      <a:pt x="0" y="26"/>
                    </a:lnTo>
                    <a:lnTo>
                      <a:pt x="3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868280" y="396720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717800" y="4045680"/>
                <a:ext cx="76968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109120" y="4015080"/>
                <a:ext cx="67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231880" y="4062600"/>
                <a:ext cx="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29" name=""/>
              <p:cNvGrpSpPr/>
              <p:nvPr/>
            </p:nvGrpSpPr>
            <p:grpSpPr>
              <a:xfrm>
                <a:off x="4460760" y="3660840"/>
                <a:ext cx="96480" cy="87120"/>
                <a:chOff x="4460760" y="3660840"/>
                <a:chExt cx="96480" cy="87120"/>
              </a:xfrm>
            </p:grpSpPr>
            <p:sp>
              <p:nvSpPr>
                <p:cNvPr id="730" name=""/>
                <p:cNvSpPr/>
                <p:nvPr/>
              </p:nvSpPr>
              <p:spPr>
                <a:xfrm flipV="1">
                  <a:off x="4556880" y="3743280"/>
                  <a:ext cx="360" cy="4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 flipV="1">
                  <a:off x="4556880" y="3738240"/>
                  <a:ext cx="360" cy="2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4478400" y="3660840"/>
                  <a:ext cx="34920" cy="1368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0" y="43"/>
                      </a:moveTo>
                      <a:lnTo>
                        <a:pt x="2" y="30"/>
                      </a:lnTo>
                      <a:lnTo>
                        <a:pt x="6" y="19"/>
                      </a:lnTo>
                      <a:lnTo>
                        <a:pt x="15" y="10"/>
                      </a:lnTo>
                      <a:lnTo>
                        <a:pt x="26" y="3"/>
                      </a:ln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61" y="3"/>
                      </a:lnTo>
                      <a:lnTo>
                        <a:pt x="71" y="10"/>
                      </a:lnTo>
                      <a:lnTo>
                        <a:pt x="79" y="19"/>
                      </a:lnTo>
                      <a:lnTo>
                        <a:pt x="85" y="30"/>
                      </a:lnTo>
                      <a:lnTo>
                        <a:pt x="87" y="43"/>
                      </a:lnTo>
                      <a:lnTo>
                        <a:pt x="85" y="54"/>
                      </a:lnTo>
                      <a:lnTo>
                        <a:pt x="79" y="66"/>
                      </a:lnTo>
                      <a:lnTo>
                        <a:pt x="71" y="75"/>
                      </a:lnTo>
                      <a:lnTo>
                        <a:pt x="61" y="82"/>
                      </a:lnTo>
                      <a:lnTo>
                        <a:pt x="49" y="85"/>
                      </a:lnTo>
                      <a:lnTo>
                        <a:pt x="37" y="85"/>
                      </a:lnTo>
                      <a:lnTo>
                        <a:pt x="26" y="82"/>
                      </a:lnTo>
                      <a:lnTo>
                        <a:pt x="15" y="75"/>
                      </a:lnTo>
                      <a:lnTo>
                        <a:pt x="6" y="66"/>
                      </a:lnTo>
                      <a:lnTo>
                        <a:pt x="2" y="54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4460760" y="3681720"/>
                  <a:ext cx="698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4495680" y="3710160"/>
                  <a:ext cx="34560" cy="28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4460760" y="3674520"/>
                  <a:ext cx="34920" cy="63720"/>
                </a:xfrm>
                <a:custGeom>
                  <a:avLst/>
                  <a:gdLst/>
                  <a:ahLst/>
                  <a:rect l="l" t="t" r="r" b="b"/>
                  <a:pathLst>
                    <a:path w="87" h="390">
                      <a:moveTo>
                        <a:pt x="87" y="0"/>
                      </a:moveTo>
                      <a:lnTo>
                        <a:pt x="87" y="217"/>
                      </a:lnTo>
                      <a:lnTo>
                        <a:pt x="0" y="39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478400" y="3660840"/>
                  <a:ext cx="34920" cy="1368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0" y="43"/>
                      </a:moveTo>
                      <a:lnTo>
                        <a:pt x="2" y="30"/>
                      </a:lnTo>
                      <a:lnTo>
                        <a:pt x="6" y="19"/>
                      </a:lnTo>
                      <a:lnTo>
                        <a:pt x="15" y="10"/>
                      </a:lnTo>
                      <a:lnTo>
                        <a:pt x="26" y="3"/>
                      </a:ln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61" y="3"/>
                      </a:lnTo>
                      <a:lnTo>
                        <a:pt x="71" y="10"/>
                      </a:lnTo>
                      <a:lnTo>
                        <a:pt x="79" y="19"/>
                      </a:lnTo>
                      <a:lnTo>
                        <a:pt x="85" y="30"/>
                      </a:lnTo>
                      <a:lnTo>
                        <a:pt x="87" y="43"/>
                      </a:lnTo>
                      <a:lnTo>
                        <a:pt x="85" y="54"/>
                      </a:lnTo>
                      <a:lnTo>
                        <a:pt x="79" y="66"/>
                      </a:lnTo>
                      <a:lnTo>
                        <a:pt x="71" y="75"/>
                      </a:lnTo>
                      <a:lnTo>
                        <a:pt x="61" y="82"/>
                      </a:lnTo>
                      <a:lnTo>
                        <a:pt x="49" y="85"/>
                      </a:lnTo>
                      <a:lnTo>
                        <a:pt x="37" y="85"/>
                      </a:lnTo>
                      <a:lnTo>
                        <a:pt x="26" y="82"/>
                      </a:lnTo>
                      <a:lnTo>
                        <a:pt x="15" y="75"/>
                      </a:lnTo>
                      <a:lnTo>
                        <a:pt x="6" y="66"/>
                      </a:lnTo>
                      <a:lnTo>
                        <a:pt x="2" y="54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7" name=""/>
            <p:cNvGrpSpPr/>
            <p:nvPr/>
          </p:nvGrpSpPr>
          <p:grpSpPr>
            <a:xfrm>
              <a:off x="5848560" y="3685680"/>
              <a:ext cx="1086840" cy="536040"/>
              <a:chOff x="5848560" y="3685680"/>
              <a:chExt cx="1086840" cy="536040"/>
            </a:xfrm>
          </p:grpSpPr>
          <p:sp>
            <p:nvSpPr>
              <p:cNvPr id="738" name=""/>
              <p:cNvSpPr/>
              <p:nvPr/>
            </p:nvSpPr>
            <p:spPr>
              <a:xfrm>
                <a:off x="6598800" y="3685680"/>
                <a:ext cx="165240" cy="67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6580800" y="3701520"/>
                <a:ext cx="165240" cy="67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884560" y="411048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884560" y="409392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884560" y="407664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84560" y="406008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884560" y="404388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884560" y="402660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5884560" y="401040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5884560" y="399348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5884560" y="397692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5884560" y="396036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5884560" y="394344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5884560" y="392688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5884560" y="391032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V="1">
                <a:off x="5884560" y="389304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5884560" y="387648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V="1">
                <a:off x="5884560" y="385956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V="1">
                <a:off x="5884560" y="3843000"/>
                <a:ext cx="36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5884560" y="3827160"/>
                <a:ext cx="36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V="1">
                <a:off x="5884560" y="3810240"/>
                <a:ext cx="36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6022440" y="3714480"/>
                <a:ext cx="165960" cy="669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082920" y="3756960"/>
                <a:ext cx="4536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095520" y="3734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6105600" y="4110480"/>
                <a:ext cx="72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6105600" y="409392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6105600" y="407664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6105600" y="406008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6105600" y="404388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V="1">
                <a:off x="6105600" y="402660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V="1">
                <a:off x="6105600" y="401040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V="1">
                <a:off x="6105600" y="399348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V="1">
                <a:off x="6105600" y="397692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>
                <a:off x="6105600" y="3960360"/>
                <a:ext cx="72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V="1">
                <a:off x="6105600" y="394344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6105600" y="392688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V="1">
                <a:off x="6105600" y="3910320"/>
                <a:ext cx="72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V="1">
                <a:off x="6105600" y="389304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V="1">
                <a:off x="6105600" y="387648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6105600" y="385956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6105600" y="384300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105600" y="3827160"/>
                <a:ext cx="72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V="1">
                <a:off x="6105600" y="381024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6105600" y="379332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6105600" y="3781080"/>
                <a:ext cx="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6347880" y="3714480"/>
                <a:ext cx="165240" cy="6696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366960" y="3756960"/>
                <a:ext cx="12744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413040" y="3734640"/>
                <a:ext cx="5544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Arial"/>
                  </a:rPr>
                  <a:t>: Gr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V="1">
                <a:off x="6431040" y="4110480"/>
                <a:ext cx="72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V="1">
                <a:off x="6431040" y="409392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6431040" y="407664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V="1">
                <a:off x="6431040" y="406008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V="1">
                <a:off x="6431040" y="404388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V="1">
                <a:off x="6431040" y="402660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V="1">
                <a:off x="6431040" y="401040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V="1">
                <a:off x="6431040" y="399348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6431040" y="397692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6431040" y="3960360"/>
                <a:ext cx="72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V="1">
                <a:off x="6431040" y="394344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6431040" y="392688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6431040" y="3910320"/>
                <a:ext cx="72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V="1">
                <a:off x="6431040" y="389304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6431040" y="387648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V="1">
                <a:off x="6431040" y="385956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431040" y="3843000"/>
                <a:ext cx="72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6431040" y="3827160"/>
                <a:ext cx="72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6431040" y="381024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6431040" y="3793320"/>
                <a:ext cx="72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6431040" y="3781080"/>
                <a:ext cx="720" cy="5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568920" y="3713400"/>
                <a:ext cx="165240" cy="6732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6624720" y="3755880"/>
                <a:ext cx="54000" cy="3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6644520" y="373464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6652440" y="4110480"/>
                <a:ext cx="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6652440" y="409392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6652440" y="407664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6652440" y="406008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flipV="1">
                <a:off x="6652440" y="404388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6652440" y="402660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6652440" y="401040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V="1">
                <a:off x="6652440" y="399348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6652440" y="397692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V="1">
                <a:off x="6652440" y="3960360"/>
                <a:ext cx="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652440" y="394344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6652440" y="392688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V="1">
                <a:off x="6652440" y="390996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6652440" y="389304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V="1">
                <a:off x="6652440" y="3877200"/>
                <a:ext cx="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6652440" y="385956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flipV="1">
                <a:off x="6652440" y="3843000"/>
                <a:ext cx="0" cy="10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V="1">
                <a:off x="6652440" y="3827160"/>
                <a:ext cx="0" cy="10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6652440" y="381024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V="1">
                <a:off x="6652440" y="3793320"/>
                <a:ext cx="0" cy="9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6652440" y="3780360"/>
                <a:ext cx="0" cy="6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6801480" y="3756960"/>
                <a:ext cx="133920" cy="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6878160" y="3734640"/>
                <a:ext cx="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884560" y="3830040"/>
                <a:ext cx="2005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6085080" y="3830040"/>
                <a:ext cx="201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091560" y="382104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0"/>
                    </a:moveTo>
                    <a:lnTo>
                      <a:pt x="34" y="25"/>
                    </a:lnTo>
                    <a:lnTo>
                      <a:pt x="0" y="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6063480" y="379548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1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884560" y="3877920"/>
                <a:ext cx="200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6085080" y="3877920"/>
                <a:ext cx="201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6091560" y="386892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0" y="0"/>
                    </a:moveTo>
                    <a:lnTo>
                      <a:pt x="34" y="25"/>
                    </a:lnTo>
                    <a:lnTo>
                      <a:pt x="0" y="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940000" y="384624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6105600" y="3925800"/>
                <a:ext cx="3009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6419160" y="3919680"/>
                <a:ext cx="11520" cy="1224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9" y="17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29" y="17"/>
                    </a:lnTo>
                    <a:close/>
                    <a:moveTo>
                      <a:pt x="0" y="34"/>
                    </a:moveTo>
                    <a:lnTo>
                      <a:pt x="29" y="17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419160" y="3919680"/>
                <a:ext cx="11520" cy="1224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9" y="17"/>
                    </a:moveTo>
                    <a:lnTo>
                      <a:pt x="0" y="34"/>
                    </a:lnTo>
                    <a:lnTo>
                      <a:pt x="0" y="0"/>
                    </a:lnTo>
                    <a:lnTo>
                      <a:pt x="29" y="1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6419160" y="3925800"/>
                <a:ext cx="11520" cy="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6400440" y="3925800"/>
                <a:ext cx="187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6246360" y="3897000"/>
                <a:ext cx="8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3: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6431040" y="3974040"/>
                <a:ext cx="1965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639480" y="3967200"/>
                <a:ext cx="12600" cy="122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1" y="34"/>
                    </a:lnTo>
                    <a:lnTo>
                      <a:pt x="0" y="0"/>
                    </a:lnTo>
                    <a:lnTo>
                      <a:pt x="30" y="17"/>
                    </a:lnTo>
                    <a:close/>
                    <a:moveTo>
                      <a:pt x="1" y="34"/>
                    </a:moveTo>
                    <a:lnTo>
                      <a:pt x="30" y="17"/>
                    </a:lnTo>
                    <a:lnTo>
                      <a:pt x="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639480" y="3967200"/>
                <a:ext cx="12600" cy="122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30" y="17"/>
                    </a:moveTo>
                    <a:lnTo>
                      <a:pt x="1" y="34"/>
                    </a:lnTo>
                    <a:lnTo>
                      <a:pt x="0" y="0"/>
                    </a:lnTo>
                    <a:lnTo>
                      <a:pt x="30" y="17"/>
                    </a:lnTo>
                  </a:path>
                </a:pathLst>
              </a:custGeom>
              <a:noFill/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6640560" y="3973320"/>
                <a:ext cx="11520" cy="57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6620760" y="3974040"/>
                <a:ext cx="194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513480" y="39430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6731280" y="3897000"/>
                <a:ext cx="295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6126120" y="4022280"/>
                <a:ext cx="1224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6145560" y="402228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6164280" y="402228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6184080" y="4022280"/>
                <a:ext cx="1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6202800" y="402228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221520" y="402228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241320" y="402228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6260040" y="402228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6279120" y="402228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6297480" y="4022280"/>
                <a:ext cx="126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6317280" y="402228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6336360" y="402228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6355800" y="4022280"/>
                <a:ext cx="1080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6374520" y="402228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6393240" y="4022280"/>
                <a:ext cx="1188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6413040" y="4022280"/>
                <a:ext cx="1152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flipH="1">
                <a:off x="6105600" y="4022280"/>
                <a:ext cx="20160" cy="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6105600" y="4012920"/>
                <a:ext cx="13320" cy="18000"/>
              </a:xfrm>
              <a:custGeom>
                <a:avLst/>
                <a:gdLst/>
                <a:ahLst/>
                <a:rect l="l" t="t" r="r" b="b"/>
                <a:pathLst>
                  <a:path w="34" h="51">
                    <a:moveTo>
                      <a:pt x="34" y="51"/>
                    </a:moveTo>
                    <a:lnTo>
                      <a:pt x="0" y="26"/>
                    </a:lnTo>
                    <a:lnTo>
                      <a:pt x="34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919840" y="4064760"/>
                <a:ext cx="769320" cy="2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497280" y="4041360"/>
                <a:ext cx="676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74" name=""/>
              <p:cNvGrpSpPr/>
              <p:nvPr/>
            </p:nvGrpSpPr>
            <p:grpSpPr>
              <a:xfrm>
                <a:off x="5848560" y="3685680"/>
                <a:ext cx="96120" cy="87120"/>
                <a:chOff x="5848560" y="3685680"/>
                <a:chExt cx="96120" cy="87120"/>
              </a:xfrm>
            </p:grpSpPr>
            <p:sp>
              <p:nvSpPr>
                <p:cNvPr id="875" name=""/>
                <p:cNvSpPr/>
                <p:nvPr/>
              </p:nvSpPr>
              <p:spPr>
                <a:xfrm flipV="1">
                  <a:off x="5944320" y="3768120"/>
                  <a:ext cx="360" cy="4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 flipV="1">
                  <a:off x="5944320" y="3763080"/>
                  <a:ext cx="360" cy="2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5866200" y="3685680"/>
                  <a:ext cx="34920" cy="1368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0" y="43"/>
                      </a:moveTo>
                      <a:lnTo>
                        <a:pt x="2" y="30"/>
                      </a:lnTo>
                      <a:lnTo>
                        <a:pt x="6" y="19"/>
                      </a:lnTo>
                      <a:lnTo>
                        <a:pt x="15" y="10"/>
                      </a:lnTo>
                      <a:lnTo>
                        <a:pt x="26" y="3"/>
                      </a:ln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61" y="3"/>
                      </a:lnTo>
                      <a:lnTo>
                        <a:pt x="71" y="10"/>
                      </a:lnTo>
                      <a:lnTo>
                        <a:pt x="79" y="19"/>
                      </a:lnTo>
                      <a:lnTo>
                        <a:pt x="85" y="30"/>
                      </a:lnTo>
                      <a:lnTo>
                        <a:pt x="87" y="43"/>
                      </a:lnTo>
                      <a:lnTo>
                        <a:pt x="85" y="54"/>
                      </a:lnTo>
                      <a:lnTo>
                        <a:pt x="79" y="66"/>
                      </a:lnTo>
                      <a:lnTo>
                        <a:pt x="71" y="75"/>
                      </a:lnTo>
                      <a:lnTo>
                        <a:pt x="61" y="82"/>
                      </a:lnTo>
                      <a:lnTo>
                        <a:pt x="49" y="85"/>
                      </a:lnTo>
                      <a:lnTo>
                        <a:pt x="37" y="85"/>
                      </a:lnTo>
                      <a:lnTo>
                        <a:pt x="26" y="82"/>
                      </a:lnTo>
                      <a:lnTo>
                        <a:pt x="15" y="75"/>
                      </a:lnTo>
                      <a:lnTo>
                        <a:pt x="6" y="66"/>
                      </a:lnTo>
                      <a:lnTo>
                        <a:pt x="2" y="54"/>
                      </a:lnTo>
                      <a:lnTo>
                        <a:pt x="0" y="4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5848560" y="3706560"/>
                  <a:ext cx="694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5883480" y="3735000"/>
                  <a:ext cx="34560" cy="280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5848560" y="3699360"/>
                  <a:ext cx="34920" cy="63720"/>
                </a:xfrm>
                <a:custGeom>
                  <a:avLst/>
                  <a:gdLst/>
                  <a:ahLst/>
                  <a:rect l="l" t="t" r="r" b="b"/>
                  <a:pathLst>
                    <a:path w="87" h="390">
                      <a:moveTo>
                        <a:pt x="87" y="0"/>
                      </a:moveTo>
                      <a:lnTo>
                        <a:pt x="87" y="217"/>
                      </a:lnTo>
                      <a:lnTo>
                        <a:pt x="0" y="39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>
                  <a:off x="5866200" y="3685680"/>
                  <a:ext cx="34920" cy="13680"/>
                </a:xfrm>
                <a:custGeom>
                  <a:avLst/>
                  <a:gdLst/>
                  <a:ahLst/>
                  <a:rect l="l" t="t" r="r" b="b"/>
                  <a:pathLst>
                    <a:path w="87" h="85">
                      <a:moveTo>
                        <a:pt x="0" y="43"/>
                      </a:moveTo>
                      <a:lnTo>
                        <a:pt x="2" y="30"/>
                      </a:lnTo>
                      <a:lnTo>
                        <a:pt x="6" y="19"/>
                      </a:lnTo>
                      <a:lnTo>
                        <a:pt x="15" y="10"/>
                      </a:lnTo>
                      <a:lnTo>
                        <a:pt x="26" y="3"/>
                      </a:lnTo>
                      <a:lnTo>
                        <a:pt x="37" y="0"/>
                      </a:lnTo>
                      <a:lnTo>
                        <a:pt x="49" y="0"/>
                      </a:lnTo>
                      <a:lnTo>
                        <a:pt x="61" y="3"/>
                      </a:lnTo>
                      <a:lnTo>
                        <a:pt x="71" y="10"/>
                      </a:lnTo>
                      <a:lnTo>
                        <a:pt x="79" y="19"/>
                      </a:lnTo>
                      <a:lnTo>
                        <a:pt x="85" y="30"/>
                      </a:lnTo>
                      <a:lnTo>
                        <a:pt x="87" y="43"/>
                      </a:lnTo>
                      <a:lnTo>
                        <a:pt x="85" y="54"/>
                      </a:lnTo>
                      <a:lnTo>
                        <a:pt x="79" y="66"/>
                      </a:lnTo>
                      <a:lnTo>
                        <a:pt x="71" y="75"/>
                      </a:lnTo>
                      <a:lnTo>
                        <a:pt x="61" y="82"/>
                      </a:lnTo>
                      <a:lnTo>
                        <a:pt x="49" y="85"/>
                      </a:lnTo>
                      <a:lnTo>
                        <a:pt x="37" y="85"/>
                      </a:lnTo>
                      <a:lnTo>
                        <a:pt x="26" y="82"/>
                      </a:lnTo>
                      <a:lnTo>
                        <a:pt x="15" y="75"/>
                      </a:lnTo>
                      <a:lnTo>
                        <a:pt x="6" y="66"/>
                      </a:lnTo>
                      <a:lnTo>
                        <a:pt x="2" y="54"/>
                      </a:lnTo>
                      <a:lnTo>
                        <a:pt x="0" y="43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82" name=""/>
          <p:cNvSpPr/>
          <p:nvPr/>
        </p:nvSpPr>
        <p:spPr>
          <a:xfrm>
            <a:off x="6588000" y="333360"/>
            <a:ext cx="237672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Centrado en la ARQUITE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61520" y="1700280"/>
            <a:ext cx="303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ISTA DEL MODELO DE CASOS DE 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990240" y="1773360"/>
            <a:ext cx="27302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ISTA DEL MODELO DEL DOMINIO 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ISTA DEL DIAGRAMA DE CL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05880" y="4149720"/>
            <a:ext cx="268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ISTA DEL MODELO DEL ANÁLI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21880" y="4292640"/>
            <a:ext cx="25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VISTA DEL MODELO DEL DISE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539000" y="4724280"/>
            <a:ext cx="436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+ VISTAS DEL MODELO DE IMPLEMENTACIÓN Y PRUEB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826920" y="5305320"/>
            <a:ext cx="792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 Narrow"/>
              </a:rPr>
              <a:t>SON VISTAS DE LOS MODELOS (NO MODELOS COMPLETOS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D2E-0891-431F-AE51-EA4F5DC2A21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. Ciclo de vida </a:t>
            </a:r>
            <a:r>
              <a:rPr b="0" i="1" lang="en-US" sz="4400" spc="-1" strike="noStrike">
                <a:solidFill>
                  <a:srgbClr val="000000"/>
                </a:solidFill>
                <a:latin typeface="Arial Black"/>
              </a:rPr>
              <a:t>iterativo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 e </a:t>
            </a:r>
            <a:r>
              <a:rPr b="0" i="1" lang="en-US" sz="4400" spc="-1" strike="noStrike">
                <a:solidFill>
                  <a:srgbClr val="000000"/>
                </a:solidFill>
                <a:latin typeface="Arial Black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TERATIV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e repiten VARIOS MINIPROYECTO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ada mini-proyecto AMPLÍA EL PRODUCT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BC32-7E2A-459B-84DB-780BE57A01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 CV del proceso unificad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8818560" cy="46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UN CICLO DE VIDA SE REPITE A LO LARGO DEL TIEMPO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TRAS CADA CICLO DE VIDA </a:t>
            </a:r>
            <a:r>
              <a:rPr b="0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VERSIÓN NUEVA DEL PRODUCT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UN CICLO DE VIDA SE DIVIDE EN FAS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ADA FASE SE DIVIDE EN ITERACION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15360" indent="-3153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EN CADA ITERACIÓN SE REALIZAN FLUJOS DE TRABAJ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A11C-53D7-46E8-90D0-16678F879E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"/>
          <p:cNvSpPr/>
          <p:nvPr/>
        </p:nvSpPr>
        <p:spPr>
          <a:xfrm>
            <a:off x="0" y="-17640"/>
            <a:ext cx="8991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 CV del proceso unifi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0" y="914400"/>
            <a:ext cx="8610120" cy="5751360"/>
            <a:chOff x="0" y="914400"/>
            <a:chExt cx="8610120" cy="5751360"/>
          </a:xfrm>
        </p:grpSpPr>
        <p:sp>
          <p:nvSpPr>
            <p:cNvPr id="895" name=""/>
            <p:cNvSpPr/>
            <p:nvPr/>
          </p:nvSpPr>
          <p:spPr>
            <a:xfrm>
              <a:off x="7591320" y="5141880"/>
              <a:ext cx="79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591320" y="5361120"/>
              <a:ext cx="7920" cy="1076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591320" y="5580000"/>
              <a:ext cx="7920" cy="10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91320" y="5799240"/>
              <a:ext cx="7920" cy="11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591320" y="6018120"/>
              <a:ext cx="7920" cy="1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73120" y="2324160"/>
              <a:ext cx="114948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60440" y="4970520"/>
              <a:ext cx="1220760" cy="2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23800" y="5013360"/>
              <a:ext cx="11653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523800" y="5019840"/>
              <a:ext cx="125568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23800" y="5022720"/>
              <a:ext cx="114156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226440" y="2209680"/>
              <a:ext cx="1489680" cy="3954600"/>
              <a:chOff x="226440" y="2209680"/>
              <a:chExt cx="1489680" cy="3954600"/>
            </a:xfrm>
          </p:grpSpPr>
          <p:sp>
            <p:nvSpPr>
              <p:cNvPr id="906" name=""/>
              <p:cNvSpPr/>
              <p:nvPr/>
            </p:nvSpPr>
            <p:spPr>
              <a:xfrm>
                <a:off x="588960" y="2209680"/>
                <a:ext cx="1121040" cy="44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650880" y="2252520"/>
                <a:ext cx="1065240" cy="22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649440" y="2259000"/>
                <a:ext cx="10461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687600" y="3098520"/>
                <a:ext cx="920520" cy="449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10" name=""/>
              <p:cNvGrpSpPr/>
              <p:nvPr/>
            </p:nvGrpSpPr>
            <p:grpSpPr>
              <a:xfrm>
                <a:off x="226440" y="2369880"/>
                <a:ext cx="1488240" cy="3794400"/>
                <a:chOff x="226440" y="2369880"/>
                <a:chExt cx="1488240" cy="3794400"/>
              </a:xfrm>
            </p:grpSpPr>
            <p:sp>
              <p:nvSpPr>
                <p:cNvPr id="911" name=""/>
                <p:cNvSpPr/>
                <p:nvPr/>
              </p:nvSpPr>
              <p:spPr>
                <a:xfrm>
                  <a:off x="228600" y="3925800"/>
                  <a:ext cx="1384200" cy="52848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230040" y="2369880"/>
                  <a:ext cx="1381320" cy="49536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454680" y="2522520"/>
                  <a:ext cx="9104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Requisito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1011240" y="2444760"/>
                  <a:ext cx="64296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1011240" y="2446200"/>
                  <a:ext cx="693720" cy="235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1011240" y="2592360"/>
                  <a:ext cx="628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7" name=""/>
                <p:cNvSpPr/>
                <p:nvPr/>
              </p:nvSpPr>
              <p:spPr>
                <a:xfrm>
                  <a:off x="1015920" y="4020840"/>
                  <a:ext cx="574920" cy="21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1015920" y="4025880"/>
                  <a:ext cx="619200" cy="23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015920" y="4027320"/>
                  <a:ext cx="56052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455760" y="4046400"/>
                  <a:ext cx="5936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iseñ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079640" y="5881680"/>
                  <a:ext cx="442800" cy="26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141560" y="5924520"/>
                  <a:ext cx="38556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1141560" y="5930640"/>
                  <a:ext cx="420480" cy="2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4" name=""/>
                <p:cNvSpPr/>
                <p:nvPr/>
              </p:nvSpPr>
              <p:spPr>
                <a:xfrm>
                  <a:off x="1141560" y="5933880"/>
                  <a:ext cx="374400" cy="2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57160" y="3220920"/>
                  <a:ext cx="857520" cy="21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982800" y="3227400"/>
                  <a:ext cx="717480" cy="23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982800" y="3230280"/>
                  <a:ext cx="650880" cy="21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547560" y="3925800"/>
                  <a:ext cx="920880" cy="44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230040" y="4698720"/>
                  <a:ext cx="1382760" cy="53496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226440" y="4865400"/>
                  <a:ext cx="135720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mplementación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1" name=""/>
                <p:cNvSpPr/>
                <p:nvPr/>
              </p:nvSpPr>
              <p:spPr>
                <a:xfrm>
                  <a:off x="230040" y="5448240"/>
                  <a:ext cx="1382760" cy="53640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20640" y="5618160"/>
                  <a:ext cx="70344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Prueb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228600" y="3132000"/>
                  <a:ext cx="1384200" cy="533520"/>
                </a:xfrm>
                <a:prstGeom prst="rect">
                  <a:avLst/>
                </a:pr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460800" y="3268440"/>
                  <a:ext cx="68508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nálisi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5" name=""/>
            <p:cNvSpPr/>
            <p:nvPr/>
          </p:nvSpPr>
          <p:spPr>
            <a:xfrm>
              <a:off x="4000680" y="2481120"/>
              <a:ext cx="37800" cy="97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421160" y="1066680"/>
              <a:ext cx="100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Fa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0" y="914400"/>
              <a:ext cx="1752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lujos de trabaj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8" name=""/>
            <p:cNvGrpSpPr/>
            <p:nvPr/>
          </p:nvGrpSpPr>
          <p:grpSpPr>
            <a:xfrm>
              <a:off x="2057400" y="1828800"/>
              <a:ext cx="6552720" cy="4836960"/>
              <a:chOff x="2057400" y="1828800"/>
              <a:chExt cx="6552720" cy="4836960"/>
            </a:xfrm>
          </p:grpSpPr>
          <p:sp>
            <p:nvSpPr>
              <p:cNvPr id="939" name=""/>
              <p:cNvSpPr/>
              <p:nvPr/>
            </p:nvSpPr>
            <p:spPr>
              <a:xfrm>
                <a:off x="7642080" y="4125960"/>
                <a:ext cx="7560" cy="111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1"/>
                    </a:lnTo>
                    <a:lnTo>
                      <a:pt x="2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44640" y="2028960"/>
                <a:ext cx="615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4601880" y="2028960"/>
                <a:ext cx="1224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4539960" y="2028960"/>
                <a:ext cx="12240" cy="12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489360" y="2316240"/>
                <a:ext cx="12600" cy="14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095880" y="394020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4348080" y="4549680"/>
                <a:ext cx="2520" cy="111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660400" y="3220920"/>
                <a:ext cx="5808240" cy="249480"/>
              </a:xfrm>
              <a:custGeom>
                <a:avLst/>
                <a:gdLst/>
                <a:ahLst/>
                <a:rect l="l" t="t" r="r" b="b"/>
                <a:pathLst>
                  <a:path w="1695" h="73">
                    <a:moveTo>
                      <a:pt x="54" y="73"/>
                    </a:moveTo>
                    <a:lnTo>
                      <a:pt x="70" y="73"/>
                    </a:lnTo>
                    <a:lnTo>
                      <a:pt x="234" y="64"/>
                    </a:lnTo>
                    <a:lnTo>
                      <a:pt x="237" y="64"/>
                    </a:lnTo>
                    <a:lnTo>
                      <a:pt x="242" y="63"/>
                    </a:lnTo>
                    <a:lnTo>
                      <a:pt x="246" y="63"/>
                    </a:lnTo>
                    <a:lnTo>
                      <a:pt x="249" y="62"/>
                    </a:lnTo>
                    <a:lnTo>
                      <a:pt x="299" y="47"/>
                    </a:lnTo>
                    <a:lnTo>
                      <a:pt x="306" y="45"/>
                    </a:lnTo>
                    <a:lnTo>
                      <a:pt x="310" y="43"/>
                    </a:lnTo>
                    <a:lnTo>
                      <a:pt x="314" y="41"/>
                    </a:lnTo>
                    <a:lnTo>
                      <a:pt x="365" y="12"/>
                    </a:lnTo>
                    <a:lnTo>
                      <a:pt x="372" y="9"/>
                    </a:lnTo>
                    <a:lnTo>
                      <a:pt x="380" y="7"/>
                    </a:lnTo>
                    <a:lnTo>
                      <a:pt x="419" y="0"/>
                    </a:lnTo>
                    <a:lnTo>
                      <a:pt x="423" y="0"/>
                    </a:lnTo>
                    <a:lnTo>
                      <a:pt x="427" y="0"/>
                    </a:lnTo>
                    <a:lnTo>
                      <a:pt x="435" y="1"/>
                    </a:lnTo>
                    <a:lnTo>
                      <a:pt x="522" y="25"/>
                    </a:lnTo>
                    <a:lnTo>
                      <a:pt x="528" y="26"/>
                    </a:lnTo>
                    <a:lnTo>
                      <a:pt x="532" y="27"/>
                    </a:lnTo>
                    <a:lnTo>
                      <a:pt x="534" y="27"/>
                    </a:lnTo>
                    <a:lnTo>
                      <a:pt x="536" y="27"/>
                    </a:lnTo>
                    <a:lnTo>
                      <a:pt x="539" y="28"/>
                    </a:lnTo>
                    <a:lnTo>
                      <a:pt x="541" y="30"/>
                    </a:lnTo>
                    <a:lnTo>
                      <a:pt x="543" y="31"/>
                    </a:lnTo>
                    <a:lnTo>
                      <a:pt x="545" y="33"/>
                    </a:lnTo>
                    <a:lnTo>
                      <a:pt x="548" y="35"/>
                    </a:lnTo>
                    <a:lnTo>
                      <a:pt x="550" y="36"/>
                    </a:lnTo>
                    <a:lnTo>
                      <a:pt x="553" y="36"/>
                    </a:lnTo>
                    <a:lnTo>
                      <a:pt x="562" y="36"/>
                    </a:lnTo>
                    <a:lnTo>
                      <a:pt x="564" y="36"/>
                    </a:lnTo>
                    <a:lnTo>
                      <a:pt x="566" y="37"/>
                    </a:lnTo>
                    <a:lnTo>
                      <a:pt x="569" y="39"/>
                    </a:lnTo>
                    <a:lnTo>
                      <a:pt x="571" y="41"/>
                    </a:lnTo>
                    <a:lnTo>
                      <a:pt x="573" y="42"/>
                    </a:lnTo>
                    <a:lnTo>
                      <a:pt x="576" y="44"/>
                    </a:lnTo>
                    <a:lnTo>
                      <a:pt x="578" y="45"/>
                    </a:lnTo>
                    <a:lnTo>
                      <a:pt x="580" y="45"/>
                    </a:lnTo>
                    <a:lnTo>
                      <a:pt x="590" y="45"/>
                    </a:lnTo>
                    <a:lnTo>
                      <a:pt x="599" y="45"/>
                    </a:lnTo>
                    <a:lnTo>
                      <a:pt x="608" y="45"/>
                    </a:lnTo>
                    <a:lnTo>
                      <a:pt x="618" y="45"/>
                    </a:lnTo>
                    <a:lnTo>
                      <a:pt x="627" y="45"/>
                    </a:lnTo>
                    <a:lnTo>
                      <a:pt x="636" y="45"/>
                    </a:lnTo>
                    <a:lnTo>
                      <a:pt x="645" y="45"/>
                    </a:lnTo>
                    <a:lnTo>
                      <a:pt x="655" y="45"/>
                    </a:lnTo>
                    <a:lnTo>
                      <a:pt x="664" y="45"/>
                    </a:lnTo>
                    <a:lnTo>
                      <a:pt x="673" y="45"/>
                    </a:lnTo>
                    <a:lnTo>
                      <a:pt x="675" y="46"/>
                    </a:lnTo>
                    <a:lnTo>
                      <a:pt x="678" y="47"/>
                    </a:lnTo>
                    <a:lnTo>
                      <a:pt x="680" y="48"/>
                    </a:lnTo>
                    <a:lnTo>
                      <a:pt x="682" y="50"/>
                    </a:lnTo>
                    <a:lnTo>
                      <a:pt x="685" y="52"/>
                    </a:lnTo>
                    <a:lnTo>
                      <a:pt x="687" y="53"/>
                    </a:lnTo>
                    <a:lnTo>
                      <a:pt x="690" y="54"/>
                    </a:lnTo>
                    <a:lnTo>
                      <a:pt x="692" y="55"/>
                    </a:lnTo>
                    <a:lnTo>
                      <a:pt x="701" y="55"/>
                    </a:lnTo>
                    <a:lnTo>
                      <a:pt x="710" y="55"/>
                    </a:lnTo>
                    <a:lnTo>
                      <a:pt x="720" y="55"/>
                    </a:lnTo>
                    <a:lnTo>
                      <a:pt x="729" y="55"/>
                    </a:lnTo>
                    <a:lnTo>
                      <a:pt x="738" y="55"/>
                    </a:lnTo>
                    <a:lnTo>
                      <a:pt x="747" y="55"/>
                    </a:lnTo>
                    <a:lnTo>
                      <a:pt x="757" y="55"/>
                    </a:lnTo>
                    <a:lnTo>
                      <a:pt x="766" y="55"/>
                    </a:lnTo>
                    <a:lnTo>
                      <a:pt x="775" y="55"/>
                    </a:lnTo>
                    <a:lnTo>
                      <a:pt x="788" y="55"/>
                    </a:lnTo>
                    <a:lnTo>
                      <a:pt x="865" y="63"/>
                    </a:lnTo>
                    <a:lnTo>
                      <a:pt x="873" y="64"/>
                    </a:lnTo>
                    <a:lnTo>
                      <a:pt x="881" y="64"/>
                    </a:lnTo>
                    <a:lnTo>
                      <a:pt x="967" y="64"/>
                    </a:lnTo>
                    <a:lnTo>
                      <a:pt x="983" y="64"/>
                    </a:lnTo>
                    <a:lnTo>
                      <a:pt x="1256" y="64"/>
                    </a:lnTo>
                    <a:lnTo>
                      <a:pt x="1271" y="64"/>
                    </a:lnTo>
                    <a:lnTo>
                      <a:pt x="1608" y="73"/>
                    </a:lnTo>
                    <a:lnTo>
                      <a:pt x="1624" y="73"/>
                    </a:lnTo>
                    <a:lnTo>
                      <a:pt x="1692" y="73"/>
                    </a:lnTo>
                    <a:lnTo>
                      <a:pt x="1695" y="73"/>
                    </a:lnTo>
                    <a:lnTo>
                      <a:pt x="1692" y="73"/>
                    </a:lnTo>
                    <a:lnTo>
                      <a:pt x="1270" y="73"/>
                    </a:lnTo>
                    <a:lnTo>
                      <a:pt x="847" y="73"/>
                    </a:lnTo>
                    <a:lnTo>
                      <a:pt x="425" y="73"/>
                    </a:lnTo>
                    <a:lnTo>
                      <a:pt x="4" y="73"/>
                    </a:lnTo>
                    <a:lnTo>
                      <a:pt x="0" y="73"/>
                    </a:lnTo>
                    <a:lnTo>
                      <a:pt x="4" y="73"/>
                    </a:lnTo>
                    <a:lnTo>
                      <a:pt x="54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2895480" y="3432240"/>
                <a:ext cx="566280" cy="44280"/>
              </a:xfrm>
              <a:custGeom>
                <a:avLst/>
                <a:gdLst/>
                <a:ahLst/>
                <a:rect l="l" t="t" r="r" b="b"/>
                <a:pathLst>
                  <a:path w="165" h="13">
                    <a:moveTo>
                      <a:pt x="0" y="9"/>
                    </a:moveTo>
                    <a:lnTo>
                      <a:pt x="0" y="13"/>
                    </a:lnTo>
                    <a:lnTo>
                      <a:pt x="165" y="4"/>
                    </a:lnTo>
                    <a:lnTo>
                      <a:pt x="16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895480" y="346392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462120" y="3425760"/>
                <a:ext cx="50400" cy="208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2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462120" y="343224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512880" y="3373560"/>
                <a:ext cx="174240" cy="66600"/>
              </a:xfrm>
              <a:custGeom>
                <a:avLst/>
                <a:gdLst/>
                <a:ahLst/>
                <a:rect l="l" t="t" r="r" b="b"/>
                <a:pathLst>
                  <a:path w="51" h="19">
                    <a:moveTo>
                      <a:pt x="0" y="15"/>
                    </a:moveTo>
                    <a:lnTo>
                      <a:pt x="1" y="19"/>
                    </a:lnTo>
                    <a:lnTo>
                      <a:pt x="51" y="4"/>
                    </a:lnTo>
                    <a:lnTo>
                      <a:pt x="5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684240" y="3352680"/>
                <a:ext cx="50400" cy="34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6"/>
                    </a:moveTo>
                    <a:lnTo>
                      <a:pt x="14" y="0"/>
                    </a:lnTo>
                    <a:lnTo>
                      <a:pt x="15" y="4"/>
                    </a:lnTo>
                    <a:lnTo>
                      <a:pt x="1" y="1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684240" y="337356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728880" y="3257640"/>
                <a:ext cx="183600" cy="109440"/>
              </a:xfrm>
              <a:custGeom>
                <a:avLst/>
                <a:gdLst/>
                <a:ahLst/>
                <a:rect l="l" t="t" r="r" b="b"/>
                <a:pathLst>
                  <a:path w="54" h="32">
                    <a:moveTo>
                      <a:pt x="0" y="29"/>
                    </a:moveTo>
                    <a:lnTo>
                      <a:pt x="2" y="32"/>
                    </a:lnTo>
                    <a:lnTo>
                      <a:pt x="54" y="3"/>
                    </a:lnTo>
                    <a:lnTo>
                      <a:pt x="52" y="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911400" y="3236760"/>
                <a:ext cx="50400" cy="3024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0" y="5"/>
                    </a:moveTo>
                    <a:lnTo>
                      <a:pt x="7" y="2"/>
                    </a:lnTo>
                    <a:lnTo>
                      <a:pt x="14" y="0"/>
                    </a:lnTo>
                    <a:lnTo>
                      <a:pt x="15" y="4"/>
                    </a:lnTo>
                    <a:lnTo>
                      <a:pt x="8" y="6"/>
                    </a:lnTo>
                    <a:lnTo>
                      <a:pt x="1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3957480" y="3213000"/>
                <a:ext cx="137520" cy="36720"/>
              </a:xfrm>
              <a:custGeom>
                <a:avLst/>
                <a:gdLst/>
                <a:ahLst/>
                <a:rect l="l" t="t" r="r" b="b"/>
                <a:pathLst>
                  <a:path w="40" h="11">
                    <a:moveTo>
                      <a:pt x="0" y="7"/>
                    </a:moveTo>
                    <a:lnTo>
                      <a:pt x="0" y="11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5360" y="321300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8" y="0"/>
                    </a:lnTo>
                    <a:lnTo>
                      <a:pt x="16" y="1"/>
                    </a:lnTo>
                    <a:lnTo>
                      <a:pt x="16" y="5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5360" y="321300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147920" y="3216240"/>
                <a:ext cx="301320" cy="92160"/>
              </a:xfrm>
              <a:custGeom>
                <a:avLst/>
                <a:gdLst/>
                <a:ahLst/>
                <a:rect l="l" t="t" r="r" b="b"/>
                <a:pathLst>
                  <a:path w="88" h="27">
                    <a:moveTo>
                      <a:pt x="1" y="0"/>
                    </a:moveTo>
                    <a:lnTo>
                      <a:pt x="0" y="4"/>
                    </a:lnTo>
                    <a:lnTo>
                      <a:pt x="87" y="27"/>
                    </a:lnTo>
                    <a:lnTo>
                      <a:pt x="88" y="2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44920" y="329580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" y="0"/>
                    </a:moveTo>
                    <a:lnTo>
                      <a:pt x="13" y="3"/>
                    </a:lnTo>
                    <a:lnTo>
                      <a:pt x="12" y="7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444920" y="329580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485960" y="3306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" y="0"/>
                    </a:moveTo>
                    <a:lnTo>
                      <a:pt x="6" y="1"/>
                    </a:lnTo>
                    <a:lnTo>
                      <a:pt x="10" y="4"/>
                    </a:lnTo>
                    <a:lnTo>
                      <a:pt x="9" y="8"/>
                    </a:lnTo>
                    <a:lnTo>
                      <a:pt x="5" y="5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485960" y="3306600"/>
                <a:ext cx="4320" cy="12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516200" y="3319560"/>
                <a:ext cx="34560" cy="302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0"/>
                    </a:moveTo>
                    <a:lnTo>
                      <a:pt x="10" y="5"/>
                    </a:lnTo>
                    <a:lnTo>
                      <a:pt x="9" y="9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551120" y="3336840"/>
                <a:ext cx="34560" cy="12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547880" y="333684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581360" y="3336840"/>
                <a:ext cx="36000" cy="302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0"/>
                    </a:moveTo>
                    <a:lnTo>
                      <a:pt x="5" y="1"/>
                    </a:lnTo>
                    <a:lnTo>
                      <a:pt x="10" y="5"/>
                    </a:lnTo>
                    <a:lnTo>
                      <a:pt x="9" y="9"/>
                    </a:lnTo>
                    <a:lnTo>
                      <a:pt x="4" y="5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613040" y="3352680"/>
                <a:ext cx="34560" cy="288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" y="0"/>
                    </a:moveTo>
                    <a:lnTo>
                      <a:pt x="10" y="4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962240" y="336708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9" y="9"/>
                    </a:lnTo>
                    <a:lnTo>
                      <a:pt x="5" y="6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993920" y="3384720"/>
                <a:ext cx="37800" cy="266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" y="0"/>
                    </a:moveTo>
                    <a:lnTo>
                      <a:pt x="11" y="4"/>
                    </a:lnTo>
                    <a:lnTo>
                      <a:pt x="10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316120" y="3398760"/>
                <a:ext cx="44280" cy="1584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0"/>
                    </a:moveTo>
                    <a:lnTo>
                      <a:pt x="13" y="1"/>
                    </a:lnTo>
                    <a:lnTo>
                      <a:pt x="13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316120" y="3398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360760" y="3402000"/>
                <a:ext cx="261720" cy="41400"/>
              </a:xfrm>
              <a:custGeom>
                <a:avLst/>
                <a:gdLst/>
                <a:ahLst/>
                <a:rect l="l" t="t" r="r" b="b"/>
                <a:pathLst>
                  <a:path w="77" h="12">
                    <a:moveTo>
                      <a:pt x="0" y="0"/>
                    </a:moveTo>
                    <a:lnTo>
                      <a:pt x="0" y="4"/>
                    </a:lnTo>
                    <a:lnTo>
                      <a:pt x="77" y="12"/>
                    </a:lnTo>
                    <a:lnTo>
                      <a:pt x="77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360760" y="340200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622840" y="3429000"/>
                <a:ext cx="56520" cy="176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16" y="1"/>
                    </a:lnTo>
                    <a:lnTo>
                      <a:pt x="16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622840" y="342900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679720" y="3432240"/>
                <a:ext cx="293400" cy="144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679720" y="343224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973480" y="3432240"/>
                <a:ext cx="53640" cy="144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973480" y="343224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027480" y="3432240"/>
                <a:ext cx="933120" cy="144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6027480" y="343224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6960960" y="3432240"/>
                <a:ext cx="53640" cy="144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960960" y="343224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7014960" y="3432240"/>
                <a:ext cx="1155240" cy="44280"/>
              </a:xfrm>
              <a:custGeom>
                <a:avLst/>
                <a:gdLst/>
                <a:ahLst/>
                <a:rect l="l" t="t" r="r" b="b"/>
                <a:pathLst>
                  <a:path w="337" h="13">
                    <a:moveTo>
                      <a:pt x="0" y="0"/>
                    </a:moveTo>
                    <a:lnTo>
                      <a:pt x="0" y="4"/>
                    </a:lnTo>
                    <a:lnTo>
                      <a:pt x="337" y="13"/>
                    </a:lnTo>
                    <a:lnTo>
                      <a:pt x="337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014960" y="343224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8170560" y="346392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8224560" y="346392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8459640" y="346392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0"/>
                    </a:moveTo>
                    <a:lnTo>
                      <a:pt x="3" y="4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8459640" y="34639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2660400" y="346392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669760" y="346392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2841480" y="346392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2673000" y="2479680"/>
                <a:ext cx="3684240" cy="287280"/>
              </a:xfrm>
              <a:custGeom>
                <a:avLst/>
                <a:gdLst/>
                <a:ahLst/>
                <a:rect l="l" t="t" r="r" b="b"/>
                <a:pathLst>
                  <a:path w="1075" h="84">
                    <a:moveTo>
                      <a:pt x="943" y="75"/>
                    </a:moveTo>
                    <a:lnTo>
                      <a:pt x="933" y="75"/>
                    </a:lnTo>
                    <a:lnTo>
                      <a:pt x="924" y="75"/>
                    </a:lnTo>
                    <a:lnTo>
                      <a:pt x="915" y="75"/>
                    </a:lnTo>
                    <a:lnTo>
                      <a:pt x="906" y="75"/>
                    </a:lnTo>
                    <a:lnTo>
                      <a:pt x="896" y="75"/>
                    </a:lnTo>
                    <a:lnTo>
                      <a:pt x="887" y="75"/>
                    </a:lnTo>
                    <a:lnTo>
                      <a:pt x="878" y="75"/>
                    </a:lnTo>
                    <a:lnTo>
                      <a:pt x="868" y="75"/>
                    </a:lnTo>
                    <a:lnTo>
                      <a:pt x="859" y="75"/>
                    </a:lnTo>
                    <a:lnTo>
                      <a:pt x="850" y="75"/>
                    </a:lnTo>
                    <a:lnTo>
                      <a:pt x="841" y="75"/>
                    </a:lnTo>
                    <a:lnTo>
                      <a:pt x="831" y="75"/>
                    </a:lnTo>
                    <a:lnTo>
                      <a:pt x="822" y="75"/>
                    </a:lnTo>
                    <a:lnTo>
                      <a:pt x="813" y="75"/>
                    </a:lnTo>
                    <a:lnTo>
                      <a:pt x="804" y="75"/>
                    </a:lnTo>
                    <a:lnTo>
                      <a:pt x="802" y="74"/>
                    </a:lnTo>
                    <a:lnTo>
                      <a:pt x="800" y="73"/>
                    </a:lnTo>
                    <a:lnTo>
                      <a:pt x="794" y="70"/>
                    </a:lnTo>
                    <a:lnTo>
                      <a:pt x="789" y="67"/>
                    </a:lnTo>
                    <a:lnTo>
                      <a:pt x="785" y="65"/>
                    </a:lnTo>
                    <a:lnTo>
                      <a:pt x="780" y="64"/>
                    </a:lnTo>
                    <a:lnTo>
                      <a:pt x="771" y="61"/>
                    </a:lnTo>
                    <a:lnTo>
                      <a:pt x="762" y="58"/>
                    </a:lnTo>
                    <a:lnTo>
                      <a:pt x="757" y="56"/>
                    </a:lnTo>
                    <a:lnTo>
                      <a:pt x="752" y="56"/>
                    </a:lnTo>
                    <a:lnTo>
                      <a:pt x="748" y="56"/>
                    </a:lnTo>
                    <a:lnTo>
                      <a:pt x="740" y="54"/>
                    </a:lnTo>
                    <a:lnTo>
                      <a:pt x="732" y="51"/>
                    </a:lnTo>
                    <a:lnTo>
                      <a:pt x="724" y="48"/>
                    </a:lnTo>
                    <a:lnTo>
                      <a:pt x="720" y="47"/>
                    </a:lnTo>
                    <a:lnTo>
                      <a:pt x="719" y="46"/>
                    </a:lnTo>
                    <a:lnTo>
                      <a:pt x="717" y="45"/>
                    </a:lnTo>
                    <a:lnTo>
                      <a:pt x="711" y="42"/>
                    </a:lnTo>
                    <a:lnTo>
                      <a:pt x="706" y="39"/>
                    </a:lnTo>
                    <a:lnTo>
                      <a:pt x="701" y="38"/>
                    </a:lnTo>
                    <a:lnTo>
                      <a:pt x="692" y="38"/>
                    </a:lnTo>
                    <a:lnTo>
                      <a:pt x="683" y="36"/>
                    </a:lnTo>
                    <a:lnTo>
                      <a:pt x="677" y="35"/>
                    </a:lnTo>
                    <a:lnTo>
                      <a:pt x="675" y="34"/>
                    </a:lnTo>
                    <a:lnTo>
                      <a:pt x="674" y="33"/>
                    </a:lnTo>
                    <a:lnTo>
                      <a:pt x="671" y="31"/>
                    </a:lnTo>
                    <a:lnTo>
                      <a:pt x="669" y="30"/>
                    </a:lnTo>
                    <a:lnTo>
                      <a:pt x="667" y="29"/>
                    </a:lnTo>
                    <a:lnTo>
                      <a:pt x="664" y="28"/>
                    </a:lnTo>
                    <a:lnTo>
                      <a:pt x="655" y="28"/>
                    </a:lnTo>
                    <a:lnTo>
                      <a:pt x="651" y="27"/>
                    </a:lnTo>
                    <a:lnTo>
                      <a:pt x="645" y="23"/>
                    </a:lnTo>
                    <a:lnTo>
                      <a:pt x="638" y="20"/>
                    </a:lnTo>
                    <a:lnTo>
                      <a:pt x="633" y="18"/>
                    </a:lnTo>
                    <a:lnTo>
                      <a:pt x="501" y="10"/>
                    </a:lnTo>
                    <a:lnTo>
                      <a:pt x="488" y="10"/>
                    </a:lnTo>
                    <a:lnTo>
                      <a:pt x="486" y="9"/>
                    </a:lnTo>
                    <a:lnTo>
                      <a:pt x="483" y="8"/>
                    </a:lnTo>
                    <a:lnTo>
                      <a:pt x="481" y="7"/>
                    </a:lnTo>
                    <a:lnTo>
                      <a:pt x="479" y="5"/>
                    </a:lnTo>
                    <a:lnTo>
                      <a:pt x="477" y="3"/>
                    </a:lnTo>
                    <a:lnTo>
                      <a:pt x="475" y="2"/>
                    </a:lnTo>
                    <a:lnTo>
                      <a:pt x="469" y="0"/>
                    </a:lnTo>
                    <a:lnTo>
                      <a:pt x="460" y="0"/>
                    </a:lnTo>
                    <a:lnTo>
                      <a:pt x="451" y="0"/>
                    </a:lnTo>
                    <a:lnTo>
                      <a:pt x="443" y="2"/>
                    </a:lnTo>
                    <a:lnTo>
                      <a:pt x="435" y="5"/>
                    </a:lnTo>
                    <a:lnTo>
                      <a:pt x="419" y="9"/>
                    </a:lnTo>
                    <a:lnTo>
                      <a:pt x="412" y="10"/>
                    </a:lnTo>
                    <a:lnTo>
                      <a:pt x="404" y="10"/>
                    </a:lnTo>
                    <a:lnTo>
                      <a:pt x="395" y="10"/>
                    </a:lnTo>
                    <a:lnTo>
                      <a:pt x="386" y="10"/>
                    </a:lnTo>
                    <a:lnTo>
                      <a:pt x="377" y="10"/>
                    </a:lnTo>
                    <a:lnTo>
                      <a:pt x="367" y="10"/>
                    </a:lnTo>
                    <a:lnTo>
                      <a:pt x="361" y="10"/>
                    </a:lnTo>
                    <a:lnTo>
                      <a:pt x="357" y="11"/>
                    </a:lnTo>
                    <a:lnTo>
                      <a:pt x="353" y="12"/>
                    </a:lnTo>
                    <a:lnTo>
                      <a:pt x="344" y="16"/>
                    </a:lnTo>
                    <a:lnTo>
                      <a:pt x="339" y="17"/>
                    </a:lnTo>
                    <a:lnTo>
                      <a:pt x="333" y="19"/>
                    </a:lnTo>
                    <a:lnTo>
                      <a:pt x="327" y="19"/>
                    </a:lnTo>
                    <a:lnTo>
                      <a:pt x="321" y="19"/>
                    </a:lnTo>
                    <a:lnTo>
                      <a:pt x="312" y="19"/>
                    </a:lnTo>
                    <a:lnTo>
                      <a:pt x="302" y="19"/>
                    </a:lnTo>
                    <a:lnTo>
                      <a:pt x="297" y="19"/>
                    </a:lnTo>
                    <a:lnTo>
                      <a:pt x="290" y="21"/>
                    </a:lnTo>
                    <a:lnTo>
                      <a:pt x="0" y="84"/>
                    </a:lnTo>
                    <a:lnTo>
                      <a:pt x="661" y="84"/>
                    </a:lnTo>
                    <a:lnTo>
                      <a:pt x="677" y="84"/>
                    </a:lnTo>
                    <a:lnTo>
                      <a:pt x="1004" y="84"/>
                    </a:lnTo>
                    <a:lnTo>
                      <a:pt x="1020" y="84"/>
                    </a:lnTo>
                    <a:lnTo>
                      <a:pt x="1075" y="84"/>
                    </a:lnTo>
                    <a:lnTo>
                      <a:pt x="955" y="75"/>
                    </a:lnTo>
                    <a:lnTo>
                      <a:pt x="943" y="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870160" y="2728800"/>
                <a:ext cx="3312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840280" y="2728800"/>
                <a:ext cx="2952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862240" y="2728800"/>
                <a:ext cx="1584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808600" y="2728800"/>
                <a:ext cx="3132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833800" y="2728800"/>
                <a:ext cx="1224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775120" y="2728800"/>
                <a:ext cx="3312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803560" y="2728800"/>
                <a:ext cx="1260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743440" y="2728800"/>
                <a:ext cx="3132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713200" y="2728800"/>
                <a:ext cx="2988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736960" y="2728800"/>
                <a:ext cx="1404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682960" y="2728800"/>
                <a:ext cx="2988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705280" y="2728800"/>
                <a:ext cx="1548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648040" y="2728800"/>
                <a:ext cx="3456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675040" y="2728800"/>
                <a:ext cx="1404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617800" y="2728800"/>
                <a:ext cx="2988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641560" y="2728800"/>
                <a:ext cx="1260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86120" y="2728800"/>
                <a:ext cx="3132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555880" y="2728800"/>
                <a:ext cx="2988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522760" y="2728800"/>
                <a:ext cx="3276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491080" y="2728800"/>
                <a:ext cx="3132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528880" y="2728800"/>
                <a:ext cx="1404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460840" y="2728800"/>
                <a:ext cx="2988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497200" y="2728800"/>
                <a:ext cx="1548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24120" y="2728800"/>
                <a:ext cx="3636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66960" y="2728800"/>
                <a:ext cx="1404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360760" y="2700360"/>
                <a:ext cx="68040" cy="4428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8" y="13"/>
                    </a:moveTo>
                    <a:lnTo>
                      <a:pt x="9" y="8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11" y="5"/>
                    </a:lnTo>
                    <a:lnTo>
                      <a:pt x="20" y="10"/>
                    </a:lnTo>
                    <a:lnTo>
                      <a:pt x="18" y="1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263920" y="2666880"/>
                <a:ext cx="102960" cy="4140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28" y="12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30" y="9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138640" y="2638440"/>
                <a:ext cx="102600" cy="41400"/>
              </a:xfrm>
              <a:custGeom>
                <a:avLst/>
                <a:gdLst/>
                <a:ahLst/>
                <a:rect l="l" t="t" r="r" b="b"/>
                <a:pathLst>
                  <a:path w="30" h="12">
                    <a:moveTo>
                      <a:pt x="28" y="12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30" y="9"/>
                    </a:lnTo>
                    <a:lnTo>
                      <a:pt x="28" y="1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71680" y="2603520"/>
                <a:ext cx="71280" cy="4284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19" y="13"/>
                    </a:moveTo>
                    <a:lnTo>
                      <a:pt x="10" y="8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12" y="5"/>
                    </a:lnTo>
                    <a:lnTo>
                      <a:pt x="21" y="10"/>
                    </a:lnTo>
                    <a:lnTo>
                      <a:pt x="19" y="1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133600" y="2633760"/>
                <a:ext cx="14040" cy="12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44680" y="2600280"/>
                <a:ext cx="316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978080" y="2589120"/>
                <a:ext cx="66240" cy="23760"/>
              </a:xfrm>
              <a:custGeom>
                <a:avLst/>
                <a:gdLst/>
                <a:ahLst/>
                <a:rect l="l" t="t" r="r" b="b"/>
                <a:pathLst>
                  <a:path w="19" h="7">
                    <a:moveTo>
                      <a:pt x="19" y="7"/>
                    </a:moveTo>
                    <a:lnTo>
                      <a:pt x="10" y="6"/>
                    </a:lnTo>
                    <a:lnTo>
                      <a:pt x="0" y="3"/>
                    </a:lnTo>
                    <a:lnTo>
                      <a:pt x="0" y="0"/>
                    </a:lnTo>
                    <a:lnTo>
                      <a:pt x="10" y="3"/>
                    </a:lnTo>
                    <a:lnTo>
                      <a:pt x="19" y="4"/>
                    </a:lnTo>
                    <a:lnTo>
                      <a:pt x="19" y="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038560" y="2600280"/>
                <a:ext cx="12240" cy="12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944960" y="2571840"/>
                <a:ext cx="37440" cy="2844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1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4838400" y="2538360"/>
                <a:ext cx="82080" cy="44640"/>
              </a:xfrm>
              <a:custGeom>
                <a:avLst/>
                <a:gdLst/>
                <a:ahLst/>
                <a:rect l="l" t="t" r="r" b="b"/>
                <a:pathLst>
                  <a:path w="24" h="13">
                    <a:moveTo>
                      <a:pt x="22" y="13"/>
                    </a:moveTo>
                    <a:lnTo>
                      <a:pt x="12" y="8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14" y="5"/>
                    </a:lnTo>
                    <a:lnTo>
                      <a:pt x="24" y="10"/>
                    </a:lnTo>
                    <a:lnTo>
                      <a:pt x="22" y="1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4390920" y="2509920"/>
                <a:ext cx="450360" cy="38160"/>
              </a:xfrm>
              <a:custGeom>
                <a:avLst/>
                <a:gdLst/>
                <a:ahLst/>
                <a:rect l="l" t="t" r="r" b="b"/>
                <a:pathLst>
                  <a:path w="132" h="11">
                    <a:moveTo>
                      <a:pt x="132" y="11"/>
                    </a:moveTo>
                    <a:lnTo>
                      <a:pt x="132" y="8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32" y="1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4311360" y="2494080"/>
                <a:ext cx="37800" cy="270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9" y="8"/>
                    </a:moveTo>
                    <a:lnTo>
                      <a:pt x="4" y="6"/>
                    </a:lnTo>
                    <a:lnTo>
                      <a:pt x="0" y="3"/>
                    </a:lnTo>
                    <a:lnTo>
                      <a:pt x="2" y="0"/>
                    </a:lnTo>
                    <a:lnTo>
                      <a:pt x="6" y="3"/>
                    </a:lnTo>
                    <a:lnTo>
                      <a:pt x="11" y="5"/>
                    </a:lnTo>
                    <a:lnTo>
                      <a:pt x="9" y="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4276440" y="2476440"/>
                <a:ext cx="41040" cy="270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0" y="8"/>
                    </a:moveTo>
                    <a:lnTo>
                      <a:pt x="0" y="3"/>
                    </a:lnTo>
                    <a:lnTo>
                      <a:pt x="2" y="0"/>
                    </a:lnTo>
                    <a:lnTo>
                      <a:pt x="12" y="5"/>
                    </a:lnTo>
                    <a:lnTo>
                      <a:pt x="10" y="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4106520" y="2476440"/>
                <a:ext cx="115560" cy="41400"/>
              </a:xfrm>
              <a:custGeom>
                <a:avLst/>
                <a:gdLst/>
                <a:ahLst/>
                <a:rect l="l" t="t" r="r" b="b"/>
                <a:pathLst>
                  <a:path w="34" h="12">
                    <a:moveTo>
                      <a:pt x="34" y="3"/>
                    </a:moveTo>
                    <a:lnTo>
                      <a:pt x="18" y="7"/>
                    </a:lnTo>
                    <a:lnTo>
                      <a:pt x="2" y="12"/>
                    </a:lnTo>
                    <a:lnTo>
                      <a:pt x="0" y="9"/>
                    </a:lnTo>
                    <a:lnTo>
                      <a:pt x="16" y="4"/>
                    </a:lnTo>
                    <a:lnTo>
                      <a:pt x="32" y="0"/>
                    </a:lnTo>
                    <a:lnTo>
                      <a:pt x="34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4057560" y="2506680"/>
                <a:ext cx="51840" cy="14400"/>
              </a:xfrm>
              <a:custGeom>
                <a:avLst/>
                <a:gdLst/>
                <a:ahLst/>
                <a:rect l="l" t="t" r="r" b="b"/>
                <a:pathLst>
                  <a:path w="15" h="4">
                    <a:moveTo>
                      <a:pt x="15" y="3"/>
                    </a:moveTo>
                    <a:lnTo>
                      <a:pt x="0" y="4"/>
                    </a:lnTo>
                    <a:lnTo>
                      <a:pt x="0" y="1"/>
                    </a:lnTo>
                    <a:lnTo>
                      <a:pt x="15" y="0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4101840" y="2503440"/>
                <a:ext cx="1404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3879720" y="2509920"/>
                <a:ext cx="51840" cy="17280"/>
              </a:xfrm>
              <a:custGeom>
                <a:avLst/>
                <a:gdLst/>
                <a:ahLst/>
                <a:rect l="l" t="t" r="r" b="b"/>
                <a:pathLst>
                  <a:path w="15" h="5">
                    <a:moveTo>
                      <a:pt x="15" y="3"/>
                    </a:moveTo>
                    <a:lnTo>
                      <a:pt x="10" y="3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8" y="0"/>
                    </a:lnTo>
                    <a:lnTo>
                      <a:pt x="15" y="0"/>
                    </a:lnTo>
                    <a:lnTo>
                      <a:pt x="15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3811320" y="2517840"/>
                <a:ext cx="75960" cy="33120"/>
              </a:xfrm>
              <a:custGeom>
                <a:avLst/>
                <a:gdLst/>
                <a:ahLst/>
                <a:rect l="l" t="t" r="r" b="b"/>
                <a:pathLst>
                  <a:path w="22" h="10">
                    <a:moveTo>
                      <a:pt x="22" y="3"/>
                    </a:moveTo>
                    <a:lnTo>
                      <a:pt x="13" y="7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11" y="4"/>
                    </a:lnTo>
                    <a:lnTo>
                      <a:pt x="20" y="0"/>
                    </a:lnTo>
                    <a:lnTo>
                      <a:pt x="22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3808080" y="2538360"/>
                <a:ext cx="12600" cy="12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3742920" y="2538360"/>
                <a:ext cx="298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3708000" y="2538360"/>
                <a:ext cx="3456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3663720" y="2541600"/>
                <a:ext cx="47160" cy="17280"/>
              </a:xfrm>
              <a:custGeom>
                <a:avLst/>
                <a:gdLst/>
                <a:ahLst/>
                <a:rect l="l" t="t" r="r" b="b"/>
                <a:pathLst>
                  <a:path w="14" h="5">
                    <a:moveTo>
                      <a:pt x="14" y="3"/>
                    </a:moveTo>
                    <a:lnTo>
                      <a:pt x="2" y="5"/>
                    </a:lnTo>
                    <a:lnTo>
                      <a:pt x="0" y="2"/>
                    </a:lnTo>
                    <a:lnTo>
                      <a:pt x="12" y="0"/>
                    </a:lnTo>
                    <a:lnTo>
                      <a:pt x="14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3701880" y="2538360"/>
                <a:ext cx="12240" cy="12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665080" y="2548080"/>
                <a:ext cx="1006200" cy="226800"/>
              </a:xfrm>
              <a:custGeom>
                <a:avLst/>
                <a:gdLst/>
                <a:ahLst/>
                <a:rect l="l" t="t" r="r" b="b"/>
                <a:pathLst>
                  <a:path w="293" h="66">
                    <a:moveTo>
                      <a:pt x="293" y="3"/>
                    </a:moveTo>
                    <a:lnTo>
                      <a:pt x="291" y="0"/>
                    </a:lnTo>
                    <a:lnTo>
                      <a:pt x="0" y="63"/>
                    </a:lnTo>
                    <a:lnTo>
                      <a:pt x="2" y="66"/>
                    </a:lnTo>
                    <a:lnTo>
                      <a:pt x="293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945040" y="2733840"/>
                <a:ext cx="408960" cy="41040"/>
              </a:xfrm>
              <a:custGeom>
                <a:avLst/>
                <a:gdLst/>
                <a:ahLst/>
                <a:rect l="l" t="t" r="r" b="b"/>
                <a:pathLst>
                  <a:path w="119" h="12">
                    <a:moveTo>
                      <a:pt x="119" y="12"/>
                    </a:moveTo>
                    <a:lnTo>
                      <a:pt x="119" y="9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119" y="1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903640" y="2733840"/>
                <a:ext cx="41040" cy="10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940360" y="2728800"/>
                <a:ext cx="1224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913360" y="2728800"/>
                <a:ext cx="1368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8" name=""/>
              <p:cNvGrpSpPr/>
              <p:nvPr/>
            </p:nvGrpSpPr>
            <p:grpSpPr>
              <a:xfrm>
                <a:off x="3901320" y="6173640"/>
                <a:ext cx="295200" cy="383760"/>
                <a:chOff x="3901320" y="6173640"/>
                <a:chExt cx="295200" cy="383760"/>
              </a:xfrm>
            </p:grpSpPr>
            <p:sp>
              <p:nvSpPr>
                <p:cNvPr id="1049" name=""/>
                <p:cNvSpPr/>
                <p:nvPr/>
              </p:nvSpPr>
              <p:spPr>
                <a:xfrm>
                  <a:off x="3901320" y="617364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3942360" y="6173640"/>
                  <a:ext cx="51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1" name=""/>
                <p:cNvSpPr/>
                <p:nvPr/>
              </p:nvSpPr>
              <p:spPr>
                <a:xfrm>
                  <a:off x="3995640" y="617364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2" name=""/>
                <p:cNvSpPr/>
                <p:nvPr/>
              </p:nvSpPr>
              <p:spPr>
                <a:xfrm>
                  <a:off x="4101840" y="6173640"/>
                  <a:ext cx="60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152960" y="617364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3945240" y="639288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#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4053600" y="639288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6" name=""/>
              <p:cNvGrpSpPr/>
              <p:nvPr/>
            </p:nvGrpSpPr>
            <p:grpSpPr>
              <a:xfrm>
                <a:off x="4544280" y="6172200"/>
                <a:ext cx="296640" cy="383400"/>
                <a:chOff x="4544280" y="6172200"/>
                <a:chExt cx="296640" cy="38340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544280" y="617220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584960" y="6172200"/>
                  <a:ext cx="51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9" name=""/>
                <p:cNvSpPr/>
                <p:nvPr/>
              </p:nvSpPr>
              <p:spPr>
                <a:xfrm>
                  <a:off x="4638600" y="617220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4744800" y="6172200"/>
                  <a:ext cx="60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4797360" y="617220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4587840" y="639108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#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4698360" y="639108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4" name=""/>
              <p:cNvGrpSpPr/>
              <p:nvPr/>
            </p:nvGrpSpPr>
            <p:grpSpPr>
              <a:xfrm>
                <a:off x="5190480" y="6173640"/>
                <a:ext cx="295560" cy="383760"/>
                <a:chOff x="5190480" y="6173640"/>
                <a:chExt cx="295560" cy="383760"/>
              </a:xfrm>
            </p:grpSpPr>
            <p:sp>
              <p:nvSpPr>
                <p:cNvPr id="1065" name=""/>
                <p:cNvSpPr/>
                <p:nvPr/>
              </p:nvSpPr>
              <p:spPr>
                <a:xfrm>
                  <a:off x="5190480" y="617364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6" name=""/>
                <p:cNvSpPr/>
                <p:nvPr/>
              </p:nvSpPr>
              <p:spPr>
                <a:xfrm>
                  <a:off x="5231520" y="6173640"/>
                  <a:ext cx="51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5284800" y="617364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5391360" y="6173640"/>
                  <a:ext cx="60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5442480" y="617364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5234400" y="639288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#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5344200" y="6392880"/>
                  <a:ext cx="9360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5779080" y="6173640"/>
                <a:ext cx="408600" cy="383760"/>
                <a:chOff x="5779080" y="6173640"/>
                <a:chExt cx="408600" cy="38376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5839200" y="617364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5880600" y="6173640"/>
                  <a:ext cx="51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5933520" y="617364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6040440" y="6173640"/>
                  <a:ext cx="60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6093000" y="617364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779080" y="639288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#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5884920" y="6392880"/>
                  <a:ext cx="9360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5990760" y="6392880"/>
                  <a:ext cx="8928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6101640" y="639288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2" name=""/>
              <p:cNvGrpSpPr/>
              <p:nvPr/>
            </p:nvGrpSpPr>
            <p:grpSpPr>
              <a:xfrm>
                <a:off x="6437520" y="6173640"/>
                <a:ext cx="412560" cy="383760"/>
                <a:chOff x="6437520" y="6173640"/>
                <a:chExt cx="412560" cy="38376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6503400" y="617364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6542640" y="6173640"/>
                  <a:ext cx="51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5" name=""/>
                <p:cNvSpPr/>
                <p:nvPr/>
              </p:nvSpPr>
              <p:spPr>
                <a:xfrm>
                  <a:off x="6594120" y="617364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6706800" y="6173640"/>
                  <a:ext cx="60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757200" y="617364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437520" y="639288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#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6546240" y="6392880"/>
                  <a:ext cx="9360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6656760" y="6392880"/>
                  <a:ext cx="8928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1" name=""/>
                <p:cNvSpPr/>
                <p:nvPr/>
              </p:nvSpPr>
              <p:spPr>
                <a:xfrm>
                  <a:off x="6764040" y="639288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2" name=""/>
              <p:cNvGrpSpPr/>
              <p:nvPr/>
            </p:nvGrpSpPr>
            <p:grpSpPr>
              <a:xfrm>
                <a:off x="7249680" y="6173640"/>
                <a:ext cx="297000" cy="383760"/>
                <a:chOff x="7249680" y="6173640"/>
                <a:chExt cx="297000" cy="383760"/>
              </a:xfrm>
            </p:grpSpPr>
            <p:sp>
              <p:nvSpPr>
                <p:cNvPr id="1093" name=""/>
                <p:cNvSpPr/>
                <p:nvPr/>
              </p:nvSpPr>
              <p:spPr>
                <a:xfrm>
                  <a:off x="7249680" y="617364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4" name=""/>
                <p:cNvSpPr/>
                <p:nvPr/>
              </p:nvSpPr>
              <p:spPr>
                <a:xfrm>
                  <a:off x="7290360" y="6173640"/>
                  <a:ext cx="51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7345440" y="617364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7449840" y="6173640"/>
                  <a:ext cx="60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7503120" y="617364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8" name=""/>
                <p:cNvSpPr/>
                <p:nvPr/>
              </p:nvSpPr>
              <p:spPr>
                <a:xfrm>
                  <a:off x="7269120" y="639288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#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7375680" y="6392880"/>
                  <a:ext cx="1364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7912800" y="6173640"/>
                <a:ext cx="461160" cy="383760"/>
                <a:chOff x="7912800" y="6173640"/>
                <a:chExt cx="461160" cy="383760"/>
              </a:xfrm>
            </p:grpSpPr>
            <p:sp>
              <p:nvSpPr>
                <p:cNvPr id="1101" name=""/>
                <p:cNvSpPr/>
                <p:nvPr/>
              </p:nvSpPr>
              <p:spPr>
                <a:xfrm>
                  <a:off x="8003520" y="617364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2" name=""/>
                <p:cNvSpPr/>
                <p:nvPr/>
              </p:nvSpPr>
              <p:spPr>
                <a:xfrm>
                  <a:off x="8044560" y="6173640"/>
                  <a:ext cx="51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3" name=""/>
                <p:cNvSpPr/>
                <p:nvPr/>
              </p:nvSpPr>
              <p:spPr>
                <a:xfrm>
                  <a:off x="8098560" y="617364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4" name=""/>
                <p:cNvSpPr/>
                <p:nvPr/>
              </p:nvSpPr>
              <p:spPr>
                <a:xfrm>
                  <a:off x="8206200" y="6173640"/>
                  <a:ext cx="6012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8256600" y="6173640"/>
                  <a:ext cx="4356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6" name=""/>
                <p:cNvSpPr/>
                <p:nvPr/>
              </p:nvSpPr>
              <p:spPr>
                <a:xfrm>
                  <a:off x="7912800" y="639288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#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8017560" y="6392880"/>
                  <a:ext cx="1364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8181000" y="6392880"/>
                  <a:ext cx="8928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+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9" name=""/>
                <p:cNvSpPr/>
                <p:nvPr/>
              </p:nvSpPr>
              <p:spPr>
                <a:xfrm>
                  <a:off x="8287920" y="6392880"/>
                  <a:ext cx="86040" cy="164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6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10" name=""/>
              <p:cNvSpPr/>
              <p:nvPr/>
            </p:nvSpPr>
            <p:spPr>
              <a:xfrm>
                <a:off x="2769840" y="3981600"/>
                <a:ext cx="5797440" cy="349200"/>
              </a:xfrm>
              <a:custGeom>
                <a:avLst/>
                <a:gdLst/>
                <a:ahLst/>
                <a:rect l="l" t="t" r="r" b="b"/>
                <a:pathLst>
                  <a:path w="1692" h="102">
                    <a:moveTo>
                      <a:pt x="53" y="102"/>
                    </a:moveTo>
                    <a:lnTo>
                      <a:pt x="69" y="102"/>
                    </a:lnTo>
                    <a:lnTo>
                      <a:pt x="231" y="93"/>
                    </a:lnTo>
                    <a:lnTo>
                      <a:pt x="247" y="92"/>
                    </a:lnTo>
                    <a:lnTo>
                      <a:pt x="352" y="84"/>
                    </a:lnTo>
                    <a:lnTo>
                      <a:pt x="360" y="83"/>
                    </a:lnTo>
                    <a:lnTo>
                      <a:pt x="367" y="82"/>
                    </a:lnTo>
                    <a:lnTo>
                      <a:pt x="519" y="48"/>
                    </a:lnTo>
                    <a:lnTo>
                      <a:pt x="527" y="46"/>
                    </a:lnTo>
                    <a:lnTo>
                      <a:pt x="534" y="43"/>
                    </a:lnTo>
                    <a:lnTo>
                      <a:pt x="621" y="4"/>
                    </a:lnTo>
                    <a:lnTo>
                      <a:pt x="625" y="2"/>
                    </a:lnTo>
                    <a:lnTo>
                      <a:pt x="629" y="1"/>
                    </a:lnTo>
                    <a:lnTo>
                      <a:pt x="633" y="1"/>
                    </a:lnTo>
                    <a:lnTo>
                      <a:pt x="637" y="0"/>
                    </a:lnTo>
                    <a:lnTo>
                      <a:pt x="704" y="0"/>
                    </a:lnTo>
                    <a:lnTo>
                      <a:pt x="717" y="0"/>
                    </a:lnTo>
                    <a:lnTo>
                      <a:pt x="726" y="0"/>
                    </a:lnTo>
                    <a:lnTo>
                      <a:pt x="732" y="1"/>
                    </a:lnTo>
                    <a:lnTo>
                      <a:pt x="738" y="4"/>
                    </a:lnTo>
                    <a:lnTo>
                      <a:pt x="742" y="6"/>
                    </a:lnTo>
                    <a:lnTo>
                      <a:pt x="745" y="7"/>
                    </a:lnTo>
                    <a:lnTo>
                      <a:pt x="749" y="8"/>
                    </a:lnTo>
                    <a:lnTo>
                      <a:pt x="752" y="9"/>
                    </a:lnTo>
                    <a:lnTo>
                      <a:pt x="754" y="10"/>
                    </a:lnTo>
                    <a:lnTo>
                      <a:pt x="760" y="10"/>
                    </a:lnTo>
                    <a:lnTo>
                      <a:pt x="766" y="12"/>
                    </a:lnTo>
                    <a:lnTo>
                      <a:pt x="779" y="16"/>
                    </a:lnTo>
                    <a:lnTo>
                      <a:pt x="786" y="18"/>
                    </a:lnTo>
                    <a:lnTo>
                      <a:pt x="791" y="19"/>
                    </a:lnTo>
                    <a:lnTo>
                      <a:pt x="797" y="20"/>
                    </a:lnTo>
                    <a:lnTo>
                      <a:pt x="803" y="22"/>
                    </a:lnTo>
                    <a:lnTo>
                      <a:pt x="807" y="25"/>
                    </a:lnTo>
                    <a:lnTo>
                      <a:pt x="815" y="28"/>
                    </a:lnTo>
                    <a:lnTo>
                      <a:pt x="822" y="30"/>
                    </a:lnTo>
                    <a:lnTo>
                      <a:pt x="890" y="45"/>
                    </a:lnTo>
                    <a:lnTo>
                      <a:pt x="906" y="49"/>
                    </a:lnTo>
                    <a:lnTo>
                      <a:pt x="983" y="72"/>
                    </a:lnTo>
                    <a:lnTo>
                      <a:pt x="987" y="73"/>
                    </a:lnTo>
                    <a:lnTo>
                      <a:pt x="991" y="74"/>
                    </a:lnTo>
                    <a:lnTo>
                      <a:pt x="995" y="75"/>
                    </a:lnTo>
                    <a:lnTo>
                      <a:pt x="999" y="75"/>
                    </a:lnTo>
                    <a:lnTo>
                      <a:pt x="1244" y="92"/>
                    </a:lnTo>
                    <a:lnTo>
                      <a:pt x="1260" y="93"/>
                    </a:lnTo>
                    <a:lnTo>
                      <a:pt x="1596" y="93"/>
                    </a:lnTo>
                    <a:lnTo>
                      <a:pt x="1604" y="93"/>
                    </a:lnTo>
                    <a:lnTo>
                      <a:pt x="1612" y="94"/>
                    </a:lnTo>
                    <a:lnTo>
                      <a:pt x="1689" y="102"/>
                    </a:lnTo>
                    <a:lnTo>
                      <a:pt x="1692" y="102"/>
                    </a:lnTo>
                    <a:lnTo>
                      <a:pt x="1689" y="102"/>
                    </a:lnTo>
                    <a:lnTo>
                      <a:pt x="1267" y="102"/>
                    </a:lnTo>
                    <a:lnTo>
                      <a:pt x="845" y="102"/>
                    </a:lnTo>
                    <a:lnTo>
                      <a:pt x="424" y="102"/>
                    </a:lnTo>
                    <a:lnTo>
                      <a:pt x="3" y="102"/>
                    </a:lnTo>
                    <a:lnTo>
                      <a:pt x="0" y="102"/>
                    </a:lnTo>
                    <a:lnTo>
                      <a:pt x="3" y="102"/>
                    </a:lnTo>
                    <a:lnTo>
                      <a:pt x="53" y="10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006360" y="4294080"/>
                <a:ext cx="553680" cy="47880"/>
              </a:xfrm>
              <a:custGeom>
                <a:avLst/>
                <a:gdLst/>
                <a:ahLst/>
                <a:rect l="l" t="t" r="r" b="b"/>
                <a:pathLst>
                  <a:path w="162" h="14">
                    <a:moveTo>
                      <a:pt x="0" y="9"/>
                    </a:moveTo>
                    <a:lnTo>
                      <a:pt x="0" y="14"/>
                    </a:lnTo>
                    <a:lnTo>
                      <a:pt x="162" y="4"/>
                    </a:lnTo>
                    <a:lnTo>
                      <a:pt x="162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006360" y="4324320"/>
                <a:ext cx="2880" cy="1764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560400" y="4289400"/>
                <a:ext cx="53640" cy="176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1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560400" y="429408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614400" y="4262400"/>
                <a:ext cx="361800" cy="41400"/>
              </a:xfrm>
              <a:custGeom>
                <a:avLst/>
                <a:gdLst/>
                <a:ahLst/>
                <a:rect l="l" t="t" r="r" b="b"/>
                <a:pathLst>
                  <a:path w="105" h="12">
                    <a:moveTo>
                      <a:pt x="0" y="8"/>
                    </a:moveTo>
                    <a:lnTo>
                      <a:pt x="0" y="12"/>
                    </a:lnTo>
                    <a:lnTo>
                      <a:pt x="105" y="4"/>
                    </a:lnTo>
                    <a:lnTo>
                      <a:pt x="105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614400" y="4289400"/>
                <a:ext cx="4680" cy="144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976560" y="4255920"/>
                <a:ext cx="50400" cy="208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2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976560" y="4262400"/>
                <a:ext cx="1080" cy="144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4027320" y="4140360"/>
                <a:ext cx="520200" cy="128520"/>
              </a:xfrm>
              <a:custGeom>
                <a:avLst/>
                <a:gdLst/>
                <a:ahLst/>
                <a:rect l="l" t="t" r="r" b="b"/>
                <a:pathLst>
                  <a:path w="152" h="38">
                    <a:moveTo>
                      <a:pt x="0" y="34"/>
                    </a:moveTo>
                    <a:lnTo>
                      <a:pt x="0" y="38"/>
                    </a:lnTo>
                    <a:lnTo>
                      <a:pt x="152" y="4"/>
                    </a:lnTo>
                    <a:lnTo>
                      <a:pt x="152" y="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027320" y="425592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547880" y="4121280"/>
                <a:ext cx="53640" cy="3168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5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547880" y="4140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600440" y="3984480"/>
                <a:ext cx="301320" cy="152640"/>
              </a:xfrm>
              <a:custGeom>
                <a:avLst/>
                <a:gdLst/>
                <a:ahLst/>
                <a:rect l="l" t="t" r="r" b="b"/>
                <a:pathLst>
                  <a:path w="88" h="44">
                    <a:moveTo>
                      <a:pt x="0" y="40"/>
                    </a:moveTo>
                    <a:lnTo>
                      <a:pt x="1" y="44"/>
                    </a:lnTo>
                    <a:lnTo>
                      <a:pt x="88" y="4"/>
                    </a:lnTo>
                    <a:lnTo>
                      <a:pt x="87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600440" y="4121280"/>
                <a:ext cx="1080" cy="158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898880" y="3975120"/>
                <a:ext cx="53640" cy="237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3"/>
                    </a:moveTo>
                    <a:lnTo>
                      <a:pt x="8" y="1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8" y="5"/>
                    </a:lnTo>
                    <a:lnTo>
                      <a:pt x="1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898880" y="398448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0"/>
                    </a:moveTo>
                    <a:lnTo>
                      <a:pt x="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952880" y="3975120"/>
                <a:ext cx="252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182920" y="397512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225760" y="397512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254560" y="3975120"/>
                <a:ext cx="43920" cy="270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0"/>
                    </a:moveTo>
                    <a:lnTo>
                      <a:pt x="13" y="4"/>
                    </a:lnTo>
                    <a:lnTo>
                      <a:pt x="12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295600" y="3987720"/>
                <a:ext cx="1728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0"/>
                    </a:moveTo>
                    <a:lnTo>
                      <a:pt x="0" y="4"/>
                    </a:lnTo>
                    <a:lnTo>
                      <a:pt x="4" y="6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295600" y="398772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308200" y="3995640"/>
                <a:ext cx="44280" cy="237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" y="0"/>
                    </a:moveTo>
                    <a:lnTo>
                      <a:pt x="13" y="3"/>
                    </a:lnTo>
                    <a:lnTo>
                      <a:pt x="12" y="7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308200" y="399564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349600" y="4005360"/>
                <a:ext cx="44280" cy="237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" y="0"/>
                    </a:moveTo>
                    <a:lnTo>
                      <a:pt x="13" y="3"/>
                    </a:lnTo>
                    <a:lnTo>
                      <a:pt x="12" y="7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349600" y="400536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391000" y="4016520"/>
                <a:ext cx="48600" cy="2700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" y="0"/>
                    </a:moveTo>
                    <a:lnTo>
                      <a:pt x="0" y="4"/>
                    </a:lnTo>
                    <a:lnTo>
                      <a:pt x="13" y="8"/>
                    </a:lnTo>
                    <a:lnTo>
                      <a:pt x="14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391000" y="401652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435280" y="4029120"/>
                <a:ext cx="45720" cy="252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" y="0"/>
                    </a:moveTo>
                    <a:lnTo>
                      <a:pt x="13" y="3"/>
                    </a:lnTo>
                    <a:lnTo>
                      <a:pt x="12" y="7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435280" y="402912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476680" y="404028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" y="0"/>
                    </a:moveTo>
                    <a:lnTo>
                      <a:pt x="13" y="3"/>
                    </a:lnTo>
                    <a:lnTo>
                      <a:pt x="12" y="7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476680" y="4040280"/>
                <a:ext cx="4320" cy="140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518080" y="4049640"/>
                <a:ext cx="16920" cy="208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0"/>
                    </a:moveTo>
                    <a:lnTo>
                      <a:pt x="0" y="4"/>
                    </a:lnTo>
                    <a:lnTo>
                      <a:pt x="4" y="6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518080" y="4049640"/>
                <a:ext cx="4320" cy="144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532120" y="4057560"/>
                <a:ext cx="53640" cy="3348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" y="0"/>
                    </a:moveTo>
                    <a:lnTo>
                      <a:pt x="16" y="6"/>
                    </a:lnTo>
                    <a:lnTo>
                      <a:pt x="15" y="10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532120" y="405756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584680" y="4078440"/>
                <a:ext cx="234360" cy="63360"/>
              </a:xfrm>
              <a:custGeom>
                <a:avLst/>
                <a:gdLst/>
                <a:ahLst/>
                <a:rect l="l" t="t" r="r" b="b"/>
                <a:pathLst>
                  <a:path w="69" h="19">
                    <a:moveTo>
                      <a:pt x="1" y="0"/>
                    </a:moveTo>
                    <a:lnTo>
                      <a:pt x="0" y="4"/>
                    </a:lnTo>
                    <a:lnTo>
                      <a:pt x="68" y="19"/>
                    </a:lnTo>
                    <a:lnTo>
                      <a:pt x="69" y="15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84680" y="407844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816520" y="4129200"/>
                <a:ext cx="53280" cy="2844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" y="0"/>
                    </a:moveTo>
                    <a:lnTo>
                      <a:pt x="16" y="4"/>
                    </a:lnTo>
                    <a:lnTo>
                      <a:pt x="15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16520" y="4129200"/>
                <a:ext cx="2520" cy="126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67280" y="4141800"/>
                <a:ext cx="271080" cy="93600"/>
              </a:xfrm>
              <a:custGeom>
                <a:avLst/>
                <a:gdLst/>
                <a:ahLst/>
                <a:rect l="l" t="t" r="r" b="b"/>
                <a:pathLst>
                  <a:path w="79" h="27">
                    <a:moveTo>
                      <a:pt x="1" y="0"/>
                    </a:moveTo>
                    <a:lnTo>
                      <a:pt x="0" y="4"/>
                    </a:lnTo>
                    <a:lnTo>
                      <a:pt x="78" y="27"/>
                    </a:lnTo>
                    <a:lnTo>
                      <a:pt x="79" y="2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67280" y="4141800"/>
                <a:ext cx="2520" cy="158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135480" y="4221000"/>
                <a:ext cx="56880" cy="2412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" y="0"/>
                    </a:moveTo>
                    <a:lnTo>
                      <a:pt x="17" y="3"/>
                    </a:lnTo>
                    <a:lnTo>
                      <a:pt x="16" y="7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35480" y="42210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192720" y="4232160"/>
                <a:ext cx="837720" cy="71640"/>
              </a:xfrm>
              <a:custGeom>
                <a:avLst/>
                <a:gdLst/>
                <a:ahLst/>
                <a:rect l="l" t="t" r="r" b="b"/>
                <a:pathLst>
                  <a:path w="244" h="21">
                    <a:moveTo>
                      <a:pt x="0" y="0"/>
                    </a:moveTo>
                    <a:lnTo>
                      <a:pt x="0" y="4"/>
                    </a:lnTo>
                    <a:lnTo>
                      <a:pt x="244" y="21"/>
                    </a:lnTo>
                    <a:lnTo>
                      <a:pt x="244" y="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030800" y="4289400"/>
                <a:ext cx="53640" cy="176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16" y="1"/>
                    </a:lnTo>
                    <a:lnTo>
                      <a:pt x="16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7030800" y="42894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7084800" y="4294080"/>
                <a:ext cx="1155240" cy="12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7084800" y="429408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8240400" y="4294080"/>
                <a:ext cx="53640" cy="158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16" y="1"/>
                    </a:lnTo>
                    <a:lnTo>
                      <a:pt x="16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8240400" y="429408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8294400" y="4297320"/>
                <a:ext cx="263160" cy="41400"/>
              </a:xfrm>
              <a:custGeom>
                <a:avLst/>
                <a:gdLst/>
                <a:ahLst/>
                <a:rect l="l" t="t" r="r" b="b"/>
                <a:pathLst>
                  <a:path w="77" h="12">
                    <a:moveTo>
                      <a:pt x="0" y="0"/>
                    </a:moveTo>
                    <a:lnTo>
                      <a:pt x="0" y="4"/>
                    </a:lnTo>
                    <a:lnTo>
                      <a:pt x="77" y="12"/>
                    </a:lnTo>
                    <a:lnTo>
                      <a:pt x="7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8294400" y="429732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551800" y="4321080"/>
                <a:ext cx="23400" cy="176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2" y="0"/>
                    </a:moveTo>
                    <a:lnTo>
                      <a:pt x="7" y="3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1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8551800" y="4324320"/>
                <a:ext cx="1368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2"/>
                    </a:moveTo>
                    <a:lnTo>
                      <a:pt x="4" y="5"/>
                    </a:lnTo>
                    <a:lnTo>
                      <a:pt x="2" y="5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4" y="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766600" y="432432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4" y="5"/>
                    </a:lnTo>
                    <a:lnTo>
                      <a:pt x="0" y="0"/>
                    </a:lnTo>
                    <a:lnTo>
                      <a:pt x="4" y="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2779560" y="432432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0"/>
                    </a:move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2950920" y="432432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0" h="5">
                    <a:moveTo>
                      <a:pt x="0" y="5"/>
                    </a:moveTo>
                    <a:lnTo>
                      <a:pt x="0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2660400" y="4616280"/>
                <a:ext cx="5783040" cy="444600"/>
              </a:xfrm>
              <a:custGeom>
                <a:avLst/>
                <a:gdLst/>
                <a:ahLst/>
                <a:rect l="l" t="t" r="r" b="b"/>
                <a:pathLst>
                  <a:path w="1688" h="130">
                    <a:moveTo>
                      <a:pt x="44" y="130"/>
                    </a:moveTo>
                    <a:lnTo>
                      <a:pt x="60" y="130"/>
                    </a:lnTo>
                    <a:lnTo>
                      <a:pt x="236" y="121"/>
                    </a:lnTo>
                    <a:lnTo>
                      <a:pt x="252" y="120"/>
                    </a:lnTo>
                    <a:lnTo>
                      <a:pt x="413" y="103"/>
                    </a:lnTo>
                    <a:lnTo>
                      <a:pt x="421" y="102"/>
                    </a:lnTo>
                    <a:lnTo>
                      <a:pt x="428" y="100"/>
                    </a:lnTo>
                    <a:lnTo>
                      <a:pt x="580" y="58"/>
                    </a:lnTo>
                    <a:lnTo>
                      <a:pt x="595" y="54"/>
                    </a:lnTo>
                    <a:lnTo>
                      <a:pt x="738" y="12"/>
                    </a:lnTo>
                    <a:lnTo>
                      <a:pt x="745" y="10"/>
                    </a:lnTo>
                    <a:lnTo>
                      <a:pt x="753" y="9"/>
                    </a:lnTo>
                    <a:lnTo>
                      <a:pt x="821" y="1"/>
                    </a:lnTo>
                    <a:lnTo>
                      <a:pt x="829" y="1"/>
                    </a:lnTo>
                    <a:lnTo>
                      <a:pt x="837" y="0"/>
                    </a:lnTo>
                    <a:lnTo>
                      <a:pt x="1118" y="0"/>
                    </a:lnTo>
                    <a:lnTo>
                      <a:pt x="1131" y="0"/>
                    </a:lnTo>
                    <a:lnTo>
                      <a:pt x="1140" y="0"/>
                    </a:lnTo>
                    <a:lnTo>
                      <a:pt x="1150" y="0"/>
                    </a:lnTo>
                    <a:lnTo>
                      <a:pt x="1159" y="0"/>
                    </a:lnTo>
                    <a:lnTo>
                      <a:pt x="1165" y="1"/>
                    </a:lnTo>
                    <a:lnTo>
                      <a:pt x="1171" y="4"/>
                    </a:lnTo>
                    <a:lnTo>
                      <a:pt x="1175" y="6"/>
                    </a:lnTo>
                    <a:lnTo>
                      <a:pt x="1179" y="7"/>
                    </a:lnTo>
                    <a:lnTo>
                      <a:pt x="1182" y="9"/>
                    </a:lnTo>
                    <a:lnTo>
                      <a:pt x="1185" y="9"/>
                    </a:lnTo>
                    <a:lnTo>
                      <a:pt x="1187" y="10"/>
                    </a:lnTo>
                    <a:lnTo>
                      <a:pt x="1189" y="10"/>
                    </a:lnTo>
                    <a:lnTo>
                      <a:pt x="1192" y="11"/>
                    </a:lnTo>
                    <a:lnTo>
                      <a:pt x="1194" y="13"/>
                    </a:lnTo>
                    <a:lnTo>
                      <a:pt x="1196" y="14"/>
                    </a:lnTo>
                    <a:lnTo>
                      <a:pt x="1199" y="16"/>
                    </a:lnTo>
                    <a:lnTo>
                      <a:pt x="1201" y="18"/>
                    </a:lnTo>
                    <a:lnTo>
                      <a:pt x="1204" y="19"/>
                    </a:lnTo>
                    <a:lnTo>
                      <a:pt x="1206" y="19"/>
                    </a:lnTo>
                    <a:lnTo>
                      <a:pt x="1208" y="19"/>
                    </a:lnTo>
                    <a:lnTo>
                      <a:pt x="1210" y="20"/>
                    </a:lnTo>
                    <a:lnTo>
                      <a:pt x="1213" y="22"/>
                    </a:lnTo>
                    <a:lnTo>
                      <a:pt x="1215" y="24"/>
                    </a:lnTo>
                    <a:lnTo>
                      <a:pt x="1217" y="25"/>
                    </a:lnTo>
                    <a:lnTo>
                      <a:pt x="1220" y="27"/>
                    </a:lnTo>
                    <a:lnTo>
                      <a:pt x="1222" y="28"/>
                    </a:lnTo>
                    <a:lnTo>
                      <a:pt x="1224" y="28"/>
                    </a:lnTo>
                    <a:lnTo>
                      <a:pt x="1226" y="29"/>
                    </a:lnTo>
                    <a:lnTo>
                      <a:pt x="1229" y="30"/>
                    </a:lnTo>
                    <a:lnTo>
                      <a:pt x="1231" y="31"/>
                    </a:lnTo>
                    <a:lnTo>
                      <a:pt x="1234" y="33"/>
                    </a:lnTo>
                    <a:lnTo>
                      <a:pt x="1243" y="42"/>
                    </a:lnTo>
                    <a:lnTo>
                      <a:pt x="1252" y="51"/>
                    </a:lnTo>
                    <a:lnTo>
                      <a:pt x="1261" y="61"/>
                    </a:lnTo>
                    <a:lnTo>
                      <a:pt x="1271" y="70"/>
                    </a:lnTo>
                    <a:lnTo>
                      <a:pt x="1273" y="72"/>
                    </a:lnTo>
                    <a:lnTo>
                      <a:pt x="1275" y="73"/>
                    </a:lnTo>
                    <a:lnTo>
                      <a:pt x="1278" y="74"/>
                    </a:lnTo>
                    <a:lnTo>
                      <a:pt x="1280" y="75"/>
                    </a:lnTo>
                    <a:lnTo>
                      <a:pt x="1282" y="75"/>
                    </a:lnTo>
                    <a:lnTo>
                      <a:pt x="1285" y="76"/>
                    </a:lnTo>
                    <a:lnTo>
                      <a:pt x="1287" y="77"/>
                    </a:lnTo>
                    <a:lnTo>
                      <a:pt x="1289" y="79"/>
                    </a:lnTo>
                    <a:lnTo>
                      <a:pt x="1299" y="89"/>
                    </a:lnTo>
                    <a:lnTo>
                      <a:pt x="1301" y="90"/>
                    </a:lnTo>
                    <a:lnTo>
                      <a:pt x="1303" y="92"/>
                    </a:lnTo>
                    <a:lnTo>
                      <a:pt x="1306" y="93"/>
                    </a:lnTo>
                    <a:lnTo>
                      <a:pt x="1308" y="93"/>
                    </a:lnTo>
                    <a:lnTo>
                      <a:pt x="1310" y="94"/>
                    </a:lnTo>
                    <a:lnTo>
                      <a:pt x="1312" y="95"/>
                    </a:lnTo>
                    <a:lnTo>
                      <a:pt x="1315" y="96"/>
                    </a:lnTo>
                    <a:lnTo>
                      <a:pt x="1317" y="98"/>
                    </a:lnTo>
                    <a:lnTo>
                      <a:pt x="1319" y="100"/>
                    </a:lnTo>
                    <a:lnTo>
                      <a:pt x="1322" y="101"/>
                    </a:lnTo>
                    <a:lnTo>
                      <a:pt x="1324" y="102"/>
                    </a:lnTo>
                    <a:lnTo>
                      <a:pt x="1326" y="102"/>
                    </a:lnTo>
                    <a:lnTo>
                      <a:pt x="1336" y="102"/>
                    </a:lnTo>
                    <a:lnTo>
                      <a:pt x="1341" y="104"/>
                    </a:lnTo>
                    <a:lnTo>
                      <a:pt x="1347" y="106"/>
                    </a:lnTo>
                    <a:lnTo>
                      <a:pt x="1352" y="108"/>
                    </a:lnTo>
                    <a:lnTo>
                      <a:pt x="1355" y="110"/>
                    </a:lnTo>
                    <a:lnTo>
                      <a:pt x="1358" y="111"/>
                    </a:lnTo>
                    <a:lnTo>
                      <a:pt x="1361" y="111"/>
                    </a:lnTo>
                    <a:lnTo>
                      <a:pt x="1364" y="112"/>
                    </a:lnTo>
                    <a:lnTo>
                      <a:pt x="1373" y="112"/>
                    </a:lnTo>
                    <a:lnTo>
                      <a:pt x="1382" y="112"/>
                    </a:lnTo>
                    <a:lnTo>
                      <a:pt x="1391" y="112"/>
                    </a:lnTo>
                    <a:lnTo>
                      <a:pt x="1401" y="112"/>
                    </a:lnTo>
                    <a:lnTo>
                      <a:pt x="1410" y="112"/>
                    </a:lnTo>
                    <a:lnTo>
                      <a:pt x="1419" y="112"/>
                    </a:lnTo>
                    <a:lnTo>
                      <a:pt x="1428" y="112"/>
                    </a:lnTo>
                    <a:lnTo>
                      <a:pt x="1438" y="112"/>
                    </a:lnTo>
                    <a:lnTo>
                      <a:pt x="1440" y="111"/>
                    </a:lnTo>
                    <a:lnTo>
                      <a:pt x="1442" y="110"/>
                    </a:lnTo>
                    <a:lnTo>
                      <a:pt x="1445" y="109"/>
                    </a:lnTo>
                    <a:lnTo>
                      <a:pt x="1447" y="107"/>
                    </a:lnTo>
                    <a:lnTo>
                      <a:pt x="1452" y="103"/>
                    </a:lnTo>
                    <a:lnTo>
                      <a:pt x="1459" y="99"/>
                    </a:lnTo>
                    <a:lnTo>
                      <a:pt x="1461" y="98"/>
                    </a:lnTo>
                    <a:lnTo>
                      <a:pt x="1464" y="97"/>
                    </a:lnTo>
                    <a:lnTo>
                      <a:pt x="1467" y="97"/>
                    </a:lnTo>
                    <a:lnTo>
                      <a:pt x="1471" y="98"/>
                    </a:lnTo>
                    <a:lnTo>
                      <a:pt x="1474" y="99"/>
                    </a:lnTo>
                    <a:lnTo>
                      <a:pt x="1479" y="103"/>
                    </a:lnTo>
                    <a:lnTo>
                      <a:pt x="1484" y="107"/>
                    </a:lnTo>
                    <a:lnTo>
                      <a:pt x="1486" y="109"/>
                    </a:lnTo>
                    <a:lnTo>
                      <a:pt x="1489" y="110"/>
                    </a:lnTo>
                    <a:lnTo>
                      <a:pt x="1491" y="111"/>
                    </a:lnTo>
                    <a:lnTo>
                      <a:pt x="1493" y="112"/>
                    </a:lnTo>
                    <a:lnTo>
                      <a:pt x="1503" y="112"/>
                    </a:lnTo>
                    <a:lnTo>
                      <a:pt x="1512" y="112"/>
                    </a:lnTo>
                    <a:lnTo>
                      <a:pt x="1521" y="112"/>
                    </a:lnTo>
                    <a:lnTo>
                      <a:pt x="1534" y="112"/>
                    </a:lnTo>
                    <a:lnTo>
                      <a:pt x="1536" y="112"/>
                    </a:lnTo>
                    <a:lnTo>
                      <a:pt x="1540" y="112"/>
                    </a:lnTo>
                    <a:lnTo>
                      <a:pt x="1543" y="113"/>
                    </a:lnTo>
                    <a:lnTo>
                      <a:pt x="1547" y="115"/>
                    </a:lnTo>
                    <a:lnTo>
                      <a:pt x="1549" y="116"/>
                    </a:lnTo>
                    <a:lnTo>
                      <a:pt x="1551" y="118"/>
                    </a:lnTo>
                    <a:lnTo>
                      <a:pt x="1554" y="120"/>
                    </a:lnTo>
                    <a:lnTo>
                      <a:pt x="1556" y="121"/>
                    </a:lnTo>
                    <a:lnTo>
                      <a:pt x="1558" y="121"/>
                    </a:lnTo>
                    <a:lnTo>
                      <a:pt x="1568" y="121"/>
                    </a:lnTo>
                    <a:lnTo>
                      <a:pt x="1577" y="121"/>
                    </a:lnTo>
                    <a:lnTo>
                      <a:pt x="1586" y="121"/>
                    </a:lnTo>
                    <a:lnTo>
                      <a:pt x="1596" y="121"/>
                    </a:lnTo>
                    <a:lnTo>
                      <a:pt x="1605" y="121"/>
                    </a:lnTo>
                    <a:lnTo>
                      <a:pt x="1614" y="121"/>
                    </a:lnTo>
                    <a:lnTo>
                      <a:pt x="1623" y="121"/>
                    </a:lnTo>
                    <a:lnTo>
                      <a:pt x="1633" y="121"/>
                    </a:lnTo>
                    <a:lnTo>
                      <a:pt x="1642" y="121"/>
                    </a:lnTo>
                    <a:lnTo>
                      <a:pt x="1651" y="121"/>
                    </a:lnTo>
                    <a:lnTo>
                      <a:pt x="1660" y="121"/>
                    </a:lnTo>
                    <a:lnTo>
                      <a:pt x="1670" y="121"/>
                    </a:lnTo>
                    <a:lnTo>
                      <a:pt x="1679" y="121"/>
                    </a:lnTo>
                    <a:lnTo>
                      <a:pt x="1681" y="121"/>
                    </a:lnTo>
                    <a:lnTo>
                      <a:pt x="1682" y="122"/>
                    </a:lnTo>
                    <a:lnTo>
                      <a:pt x="1683" y="124"/>
                    </a:lnTo>
                    <a:lnTo>
                      <a:pt x="1684" y="126"/>
                    </a:lnTo>
                    <a:lnTo>
                      <a:pt x="1684" y="127"/>
                    </a:lnTo>
                    <a:lnTo>
                      <a:pt x="1685" y="129"/>
                    </a:lnTo>
                    <a:lnTo>
                      <a:pt x="1687" y="130"/>
                    </a:lnTo>
                    <a:lnTo>
                      <a:pt x="1688" y="130"/>
                    </a:lnTo>
                    <a:lnTo>
                      <a:pt x="1685" y="130"/>
                    </a:lnTo>
                    <a:lnTo>
                      <a:pt x="1432" y="130"/>
                    </a:lnTo>
                    <a:lnTo>
                      <a:pt x="1416" y="130"/>
                    </a:lnTo>
                    <a:lnTo>
                      <a:pt x="1274" y="130"/>
                    </a:lnTo>
                    <a:lnTo>
                      <a:pt x="1258" y="130"/>
                    </a:lnTo>
                    <a:lnTo>
                      <a:pt x="948" y="130"/>
                    </a:lnTo>
                    <a:lnTo>
                      <a:pt x="932" y="130"/>
                    </a:lnTo>
                    <a:lnTo>
                      <a:pt x="596" y="130"/>
                    </a:lnTo>
                    <a:lnTo>
                      <a:pt x="580" y="130"/>
                    </a:lnTo>
                    <a:lnTo>
                      <a:pt x="206" y="130"/>
                    </a:lnTo>
                    <a:lnTo>
                      <a:pt x="190" y="130"/>
                    </a:lnTo>
                    <a:lnTo>
                      <a:pt x="4" y="130"/>
                    </a:lnTo>
                    <a:lnTo>
                      <a:pt x="0" y="130"/>
                    </a:lnTo>
                    <a:lnTo>
                      <a:pt x="4" y="130"/>
                    </a:lnTo>
                    <a:lnTo>
                      <a:pt x="44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2808000" y="5054760"/>
                <a:ext cx="5364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2862000" y="5024520"/>
                <a:ext cx="606240" cy="42840"/>
              </a:xfrm>
              <a:custGeom>
                <a:avLst/>
                <a:gdLst/>
                <a:ahLst/>
                <a:rect l="l" t="t" r="r" b="b"/>
                <a:pathLst>
                  <a:path w="177" h="13">
                    <a:moveTo>
                      <a:pt x="0" y="9"/>
                    </a:moveTo>
                    <a:lnTo>
                      <a:pt x="0" y="13"/>
                    </a:lnTo>
                    <a:lnTo>
                      <a:pt x="177" y="4"/>
                    </a:lnTo>
                    <a:lnTo>
                      <a:pt x="177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2862000" y="5054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468600" y="5021280"/>
                <a:ext cx="55080" cy="158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1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3468600" y="5024520"/>
                <a:ext cx="252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3524040" y="4962600"/>
                <a:ext cx="552240" cy="71280"/>
              </a:xfrm>
              <a:custGeom>
                <a:avLst/>
                <a:gdLst/>
                <a:ahLst/>
                <a:rect l="l" t="t" r="r" b="b"/>
                <a:pathLst>
                  <a:path w="161" h="21">
                    <a:moveTo>
                      <a:pt x="0" y="17"/>
                    </a:moveTo>
                    <a:lnTo>
                      <a:pt x="0" y="21"/>
                    </a:lnTo>
                    <a:lnTo>
                      <a:pt x="161" y="4"/>
                    </a:lnTo>
                    <a:lnTo>
                      <a:pt x="161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3524040" y="502128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076640" y="4951440"/>
                <a:ext cx="50400" cy="237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3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4076640" y="4962600"/>
                <a:ext cx="10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4127400" y="4807080"/>
                <a:ext cx="523440" cy="156960"/>
              </a:xfrm>
              <a:custGeom>
                <a:avLst/>
                <a:gdLst/>
                <a:ahLst/>
                <a:rect l="l" t="t" r="r" b="b"/>
                <a:pathLst>
                  <a:path w="153" h="46">
                    <a:moveTo>
                      <a:pt x="0" y="42"/>
                    </a:moveTo>
                    <a:lnTo>
                      <a:pt x="1" y="46"/>
                    </a:lnTo>
                    <a:lnTo>
                      <a:pt x="153" y="4"/>
                    </a:lnTo>
                    <a:lnTo>
                      <a:pt x="152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4647960" y="4794120"/>
                <a:ext cx="53640" cy="270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0" y="4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647960" y="480708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700520" y="4649760"/>
                <a:ext cx="491760" cy="157320"/>
              </a:xfrm>
              <a:custGeom>
                <a:avLst/>
                <a:gdLst/>
                <a:ahLst/>
                <a:rect l="l" t="t" r="r" b="b"/>
                <a:pathLst>
                  <a:path w="144" h="46">
                    <a:moveTo>
                      <a:pt x="0" y="42"/>
                    </a:moveTo>
                    <a:lnTo>
                      <a:pt x="1" y="46"/>
                    </a:lnTo>
                    <a:lnTo>
                      <a:pt x="144" y="4"/>
                    </a:lnTo>
                    <a:lnTo>
                      <a:pt x="143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700520" y="4794120"/>
                <a:ext cx="1080" cy="12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4"/>
                    </a:moveTo>
                    <a:lnTo>
                      <a:pt x="0" y="0"/>
                    </a:lnTo>
                    <a:lnTo>
                      <a:pt x="1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189400" y="4640400"/>
                <a:ext cx="51840" cy="219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3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241600" y="4611600"/>
                <a:ext cx="231480" cy="41400"/>
              </a:xfrm>
              <a:custGeom>
                <a:avLst/>
                <a:gdLst/>
                <a:ahLst/>
                <a:rect l="l" t="t" r="r" b="b"/>
                <a:pathLst>
                  <a:path w="68" h="12">
                    <a:moveTo>
                      <a:pt x="0" y="8"/>
                    </a:moveTo>
                    <a:lnTo>
                      <a:pt x="0" y="12"/>
                    </a:lnTo>
                    <a:lnTo>
                      <a:pt x="68" y="4"/>
                    </a:lnTo>
                    <a:lnTo>
                      <a:pt x="68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241600" y="464040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473440" y="4608360"/>
                <a:ext cx="53640" cy="176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1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473440" y="4611600"/>
                <a:ext cx="2880" cy="144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527440" y="4608360"/>
                <a:ext cx="964800" cy="12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527440" y="4608360"/>
                <a:ext cx="4320" cy="129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492600" y="4608360"/>
                <a:ext cx="39240" cy="12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492600" y="4608360"/>
                <a:ext cx="1440" cy="129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32200" y="4608360"/>
                <a:ext cx="34560" cy="12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32200" y="460836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67120" y="4608360"/>
                <a:ext cx="33120" cy="12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0600" y="4608360"/>
                <a:ext cx="31320" cy="12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29040" y="4608360"/>
                <a:ext cx="42480" cy="28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0"/>
                    </a:moveTo>
                    <a:lnTo>
                      <a:pt x="13" y="4"/>
                    </a:lnTo>
                    <a:lnTo>
                      <a:pt x="12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670440" y="4621320"/>
                <a:ext cx="1692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0"/>
                    </a:moveTo>
                    <a:lnTo>
                      <a:pt x="0" y="4"/>
                    </a:lnTo>
                    <a:lnTo>
                      <a:pt x="4" y="6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670440" y="4621320"/>
                <a:ext cx="1080" cy="158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683040" y="4629240"/>
                <a:ext cx="45720" cy="284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0"/>
                    </a:moveTo>
                    <a:lnTo>
                      <a:pt x="13" y="4"/>
                    </a:lnTo>
                    <a:lnTo>
                      <a:pt x="12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683040" y="462924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724440" y="464184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" y="0"/>
                    </a:moveTo>
                    <a:lnTo>
                      <a:pt x="6" y="1"/>
                    </a:lnTo>
                    <a:lnTo>
                      <a:pt x="10" y="4"/>
                    </a:lnTo>
                    <a:lnTo>
                      <a:pt x="9" y="8"/>
                    </a:lnTo>
                    <a:lnTo>
                      <a:pt x="5" y="5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724440" y="464184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754680" y="4657680"/>
                <a:ext cx="39240" cy="288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" y="0"/>
                    </a:moveTo>
                    <a:lnTo>
                      <a:pt x="11" y="5"/>
                    </a:lnTo>
                    <a:lnTo>
                      <a:pt x="10" y="9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789600" y="4673520"/>
                <a:ext cx="34560" cy="288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" y="0"/>
                    </a:moveTo>
                    <a:lnTo>
                      <a:pt x="5" y="1"/>
                    </a:lnTo>
                    <a:lnTo>
                      <a:pt x="10" y="4"/>
                    </a:lnTo>
                    <a:lnTo>
                      <a:pt x="9" y="8"/>
                    </a:lnTo>
                    <a:lnTo>
                      <a:pt x="4" y="5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789600" y="4673520"/>
                <a:ext cx="4320" cy="12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819840" y="4686480"/>
                <a:ext cx="34560" cy="33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0"/>
                    </a:moveTo>
                    <a:lnTo>
                      <a:pt x="10" y="5"/>
                    </a:lnTo>
                    <a:lnTo>
                      <a:pt x="9" y="9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851520" y="470376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0"/>
                    </a:moveTo>
                    <a:lnTo>
                      <a:pt x="6" y="1"/>
                    </a:lnTo>
                    <a:lnTo>
                      <a:pt x="10" y="5"/>
                    </a:lnTo>
                    <a:lnTo>
                      <a:pt x="9" y="9"/>
                    </a:lnTo>
                    <a:lnTo>
                      <a:pt x="5" y="5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851520" y="4703760"/>
                <a:ext cx="2880" cy="158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878520" y="4724280"/>
                <a:ext cx="43920" cy="414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3" y="0"/>
                    </a:moveTo>
                    <a:lnTo>
                      <a:pt x="13" y="9"/>
                    </a:lnTo>
                    <a:lnTo>
                      <a:pt x="10" y="12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878520" y="4722840"/>
                <a:ext cx="10800" cy="12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3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913440" y="4756320"/>
                <a:ext cx="40680" cy="410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3" y="0"/>
                    </a:moveTo>
                    <a:lnTo>
                      <a:pt x="12" y="9"/>
                    </a:lnTo>
                    <a:lnTo>
                      <a:pt x="9" y="12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943320" y="4786200"/>
                <a:ext cx="41040" cy="4464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3" y="0"/>
                    </a:moveTo>
                    <a:lnTo>
                      <a:pt x="12" y="10"/>
                    </a:lnTo>
                    <a:lnTo>
                      <a:pt x="9" y="13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975360" y="4821120"/>
                <a:ext cx="42480" cy="414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3" y="0"/>
                    </a:moveTo>
                    <a:lnTo>
                      <a:pt x="13" y="9"/>
                    </a:lnTo>
                    <a:lnTo>
                      <a:pt x="10" y="12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7013160" y="484812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0"/>
                    </a:moveTo>
                    <a:lnTo>
                      <a:pt x="10" y="5"/>
                    </a:lnTo>
                    <a:lnTo>
                      <a:pt x="9" y="9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010280" y="4848120"/>
                <a:ext cx="756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1" y="4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7043400" y="4865760"/>
                <a:ext cx="33120" cy="270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" y="0"/>
                    </a:moveTo>
                    <a:lnTo>
                      <a:pt x="6" y="1"/>
                    </a:lnTo>
                    <a:lnTo>
                      <a:pt x="10" y="4"/>
                    </a:lnTo>
                    <a:lnTo>
                      <a:pt x="9" y="8"/>
                    </a:lnTo>
                    <a:lnTo>
                      <a:pt x="5" y="5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7043400" y="486576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7070400" y="4883040"/>
                <a:ext cx="41040" cy="3996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3" y="0"/>
                    </a:moveTo>
                    <a:lnTo>
                      <a:pt x="12" y="9"/>
                    </a:lnTo>
                    <a:lnTo>
                      <a:pt x="9" y="12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7070400" y="4879800"/>
                <a:ext cx="9360" cy="12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3" y="1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7105320" y="4910040"/>
                <a:ext cx="36360" cy="316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" y="0"/>
                    </a:moveTo>
                    <a:lnTo>
                      <a:pt x="11" y="5"/>
                    </a:lnTo>
                    <a:lnTo>
                      <a:pt x="10" y="9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100640" y="4910040"/>
                <a:ext cx="10800" cy="1296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1" y="4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7138800" y="492768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0"/>
                    </a:moveTo>
                    <a:lnTo>
                      <a:pt x="5" y="1"/>
                    </a:lnTo>
                    <a:lnTo>
                      <a:pt x="10" y="5"/>
                    </a:lnTo>
                    <a:lnTo>
                      <a:pt x="9" y="9"/>
                    </a:lnTo>
                    <a:lnTo>
                      <a:pt x="4" y="5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138800" y="4927680"/>
                <a:ext cx="2880" cy="140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170480" y="4943520"/>
                <a:ext cx="33120" cy="284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" y="0"/>
                    </a:moveTo>
                    <a:lnTo>
                      <a:pt x="10" y="4"/>
                    </a:lnTo>
                    <a:lnTo>
                      <a:pt x="9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203960" y="4959360"/>
                <a:ext cx="3456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200720" y="49593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7235640" y="4959360"/>
                <a:ext cx="41040" cy="25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" y="0"/>
                    </a:moveTo>
                    <a:lnTo>
                      <a:pt x="12" y="4"/>
                    </a:lnTo>
                    <a:lnTo>
                      <a:pt x="11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7273800" y="4971960"/>
                <a:ext cx="2016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1" y="0"/>
                    </a:moveTo>
                    <a:lnTo>
                      <a:pt x="0" y="4"/>
                    </a:lnTo>
                    <a:lnTo>
                      <a:pt x="5" y="6"/>
                    </a:lnTo>
                    <a:lnTo>
                      <a:pt x="6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7273800" y="497196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7291080" y="4979880"/>
                <a:ext cx="41040" cy="255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" y="0"/>
                    </a:moveTo>
                    <a:lnTo>
                      <a:pt x="12" y="4"/>
                    </a:lnTo>
                    <a:lnTo>
                      <a:pt x="11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7291080" y="4979880"/>
                <a:ext cx="2880" cy="1296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7588080" y="4975200"/>
                <a:ext cx="32760" cy="302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4" y="3"/>
                    </a:lnTo>
                    <a:lnTo>
                      <a:pt x="9" y="0"/>
                    </a:lnTo>
                    <a:lnTo>
                      <a:pt x="10" y="4"/>
                    </a:lnTo>
                    <a:lnTo>
                      <a:pt x="5" y="7"/>
                    </a:lnTo>
                    <a:lnTo>
                      <a:pt x="1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611840" y="4951440"/>
                <a:ext cx="50400" cy="3636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0" y="8"/>
                    </a:moveTo>
                    <a:lnTo>
                      <a:pt x="12" y="0"/>
                    </a:lnTo>
                    <a:lnTo>
                      <a:pt x="15" y="3"/>
                    </a:lnTo>
                    <a:lnTo>
                      <a:pt x="3" y="11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659360" y="4943520"/>
                <a:ext cx="10800" cy="1908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1"/>
                    </a:moveTo>
                    <a:lnTo>
                      <a:pt x="1" y="5"/>
                    </a:lnTo>
                    <a:lnTo>
                      <a:pt x="3" y="4"/>
                    </a:lnTo>
                    <a:lnTo>
                      <a:pt x="2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653240" y="4946760"/>
                <a:ext cx="900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2" y="0"/>
                    </a:lnTo>
                    <a:lnTo>
                      <a:pt x="3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667280" y="4941720"/>
                <a:ext cx="44280" cy="208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1"/>
                    </a:moveTo>
                    <a:lnTo>
                      <a:pt x="6" y="0"/>
                    </a:lnTo>
                    <a:lnTo>
                      <a:pt x="13" y="2"/>
                    </a:lnTo>
                    <a:lnTo>
                      <a:pt x="13" y="6"/>
                    </a:lnTo>
                    <a:lnTo>
                      <a:pt x="6" y="4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704000" y="4951440"/>
                <a:ext cx="45720" cy="3636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3" y="0"/>
                    </a:moveTo>
                    <a:lnTo>
                      <a:pt x="13" y="8"/>
                    </a:lnTo>
                    <a:lnTo>
                      <a:pt x="10" y="11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704000" y="49467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2" y="0"/>
                    </a:moveTo>
                    <a:lnTo>
                      <a:pt x="3" y="1"/>
                    </a:lnTo>
                    <a:lnTo>
                      <a:pt x="0" y="4"/>
                    </a:lnTo>
                    <a:lnTo>
                      <a:pt x="2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742160" y="4975200"/>
                <a:ext cx="34560" cy="302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0"/>
                    </a:moveTo>
                    <a:lnTo>
                      <a:pt x="10" y="5"/>
                    </a:lnTo>
                    <a:lnTo>
                      <a:pt x="9" y="9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740360" y="4975200"/>
                <a:ext cx="9360" cy="12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4"/>
                    </a:moveTo>
                    <a:lnTo>
                      <a:pt x="1" y="4"/>
                    </a:lnTo>
                    <a:lnTo>
                      <a:pt x="2" y="0"/>
                    </a:lnTo>
                    <a:lnTo>
                      <a:pt x="3" y="1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873920" y="4992840"/>
                <a:ext cx="252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918200" y="499284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921440" y="4992840"/>
                <a:ext cx="47160" cy="284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" y="0"/>
                    </a:moveTo>
                    <a:lnTo>
                      <a:pt x="8" y="1"/>
                    </a:lnTo>
                    <a:lnTo>
                      <a:pt x="14" y="4"/>
                    </a:lnTo>
                    <a:lnTo>
                      <a:pt x="13" y="8"/>
                    </a:lnTo>
                    <a:lnTo>
                      <a:pt x="7" y="5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964280" y="5005440"/>
                <a:ext cx="36000" cy="31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" y="0"/>
                    </a:moveTo>
                    <a:lnTo>
                      <a:pt x="10" y="5"/>
                    </a:lnTo>
                    <a:lnTo>
                      <a:pt x="9" y="9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964280" y="5005440"/>
                <a:ext cx="4320" cy="1584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1" y="0"/>
                    </a:move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8000640" y="5024520"/>
                <a:ext cx="3312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995960" y="502452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1" h="4">
                    <a:moveTo>
                      <a:pt x="0" y="4"/>
                    </a:moveTo>
                    <a:lnTo>
                      <a:pt x="1" y="4"/>
                    </a:lnTo>
                    <a:lnTo>
                      <a:pt x="1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8034120" y="5024520"/>
                <a:ext cx="298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8064360" y="5024520"/>
                <a:ext cx="3132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8096040" y="5024520"/>
                <a:ext cx="298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8126280" y="5024520"/>
                <a:ext cx="3456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8161200" y="5024520"/>
                <a:ext cx="298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8191440" y="5024520"/>
                <a:ext cx="3132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8223120" y="5024520"/>
                <a:ext cx="3276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256240" y="5024520"/>
                <a:ext cx="298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8286480" y="5024520"/>
                <a:ext cx="3132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8318160" y="5024520"/>
                <a:ext cx="298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348400" y="5024520"/>
                <a:ext cx="3600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384760" y="5024520"/>
                <a:ext cx="298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410320" y="5024520"/>
                <a:ext cx="25200" cy="30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1" y="0"/>
                    </a:moveTo>
                    <a:lnTo>
                      <a:pt x="5" y="2"/>
                    </a:lnTo>
                    <a:lnTo>
                      <a:pt x="7" y="6"/>
                    </a:lnTo>
                    <a:lnTo>
                      <a:pt x="4" y="9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8422920" y="5046840"/>
                <a:ext cx="25200" cy="205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4" y="2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1" y="5"/>
                    </a:lnTo>
                    <a:lnTo>
                      <a:pt x="0" y="1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8422920" y="5043600"/>
                <a:ext cx="15480" cy="1116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3" y="0"/>
                    </a:moveTo>
                    <a:lnTo>
                      <a:pt x="4" y="1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8438760" y="50547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3" y="1"/>
                    </a:moveTo>
                    <a:lnTo>
                      <a:pt x="6" y="4"/>
                    </a:lnTo>
                    <a:lnTo>
                      <a:pt x="2" y="4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3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567200" y="5054760"/>
                <a:ext cx="86832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435880" y="5054760"/>
                <a:ext cx="252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513560" y="5054760"/>
                <a:ext cx="532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567200" y="505476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026120" y="5054760"/>
                <a:ext cx="4870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7513560" y="5054760"/>
                <a:ext cx="252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972120" y="5054760"/>
                <a:ext cx="5364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026120" y="5054760"/>
                <a:ext cx="432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908320" y="5054760"/>
                <a:ext cx="106344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972120" y="5054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854320" y="5054760"/>
                <a:ext cx="5364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908320" y="5054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701960" y="5054760"/>
                <a:ext cx="115200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854320" y="5054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4647960" y="5054760"/>
                <a:ext cx="5364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701960" y="5054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366720" y="5054760"/>
                <a:ext cx="12808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4647960" y="5054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309840" y="5054760"/>
                <a:ext cx="5652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366720" y="5054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2669760" y="5054760"/>
                <a:ext cx="63972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3309840" y="5054760"/>
                <a:ext cx="252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2660400" y="5054760"/>
                <a:ext cx="9000" cy="126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669760" y="5054760"/>
                <a:ext cx="288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0"/>
                    </a:move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2669760" y="5054760"/>
                <a:ext cx="1378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2808000" y="5054760"/>
                <a:ext cx="1440" cy="12600"/>
              </a:xfrm>
              <a:custGeom>
                <a:avLst/>
                <a:gdLst/>
                <a:ahLst/>
                <a:rect l="l" t="t" r="r" b="b"/>
                <a:pathLst>
                  <a:path w="0" h="4">
                    <a:moveTo>
                      <a:pt x="0" y="4"/>
                    </a:moveTo>
                    <a:lnTo>
                      <a:pt x="0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2655720" y="5505480"/>
                <a:ext cx="5787720" cy="223920"/>
              </a:xfrm>
              <a:custGeom>
                <a:avLst/>
                <a:gdLst/>
                <a:ahLst/>
                <a:rect l="l" t="t" r="r" b="b"/>
                <a:pathLst>
                  <a:path w="1689" h="65">
                    <a:moveTo>
                      <a:pt x="51" y="65"/>
                    </a:moveTo>
                    <a:lnTo>
                      <a:pt x="67" y="65"/>
                    </a:lnTo>
                    <a:lnTo>
                      <a:pt x="293" y="65"/>
                    </a:lnTo>
                    <a:lnTo>
                      <a:pt x="301" y="65"/>
                    </a:lnTo>
                    <a:lnTo>
                      <a:pt x="309" y="63"/>
                    </a:lnTo>
                    <a:lnTo>
                      <a:pt x="367" y="49"/>
                    </a:lnTo>
                    <a:lnTo>
                      <a:pt x="375" y="47"/>
                    </a:lnTo>
                    <a:lnTo>
                      <a:pt x="383" y="47"/>
                    </a:lnTo>
                    <a:lnTo>
                      <a:pt x="423" y="47"/>
                    </a:lnTo>
                    <a:lnTo>
                      <a:pt x="431" y="48"/>
                    </a:lnTo>
                    <a:lnTo>
                      <a:pt x="438" y="50"/>
                    </a:lnTo>
                    <a:lnTo>
                      <a:pt x="470" y="62"/>
                    </a:lnTo>
                    <a:lnTo>
                      <a:pt x="473" y="63"/>
                    </a:lnTo>
                    <a:lnTo>
                      <a:pt x="477" y="64"/>
                    </a:lnTo>
                    <a:lnTo>
                      <a:pt x="481" y="64"/>
                    </a:lnTo>
                    <a:lnTo>
                      <a:pt x="485" y="64"/>
                    </a:lnTo>
                    <a:lnTo>
                      <a:pt x="516" y="57"/>
                    </a:lnTo>
                    <a:lnTo>
                      <a:pt x="532" y="54"/>
                    </a:lnTo>
                    <a:lnTo>
                      <a:pt x="562" y="48"/>
                    </a:lnTo>
                    <a:lnTo>
                      <a:pt x="570" y="47"/>
                    </a:lnTo>
                    <a:lnTo>
                      <a:pt x="578" y="47"/>
                    </a:lnTo>
                    <a:lnTo>
                      <a:pt x="608" y="47"/>
                    </a:lnTo>
                    <a:lnTo>
                      <a:pt x="616" y="48"/>
                    </a:lnTo>
                    <a:lnTo>
                      <a:pt x="624" y="50"/>
                    </a:lnTo>
                    <a:lnTo>
                      <a:pt x="655" y="62"/>
                    </a:lnTo>
                    <a:lnTo>
                      <a:pt x="663" y="64"/>
                    </a:lnTo>
                    <a:lnTo>
                      <a:pt x="671" y="65"/>
                    </a:lnTo>
                    <a:lnTo>
                      <a:pt x="673" y="65"/>
                    </a:lnTo>
                    <a:lnTo>
                      <a:pt x="677" y="65"/>
                    </a:lnTo>
                    <a:lnTo>
                      <a:pt x="681" y="64"/>
                    </a:lnTo>
                    <a:lnTo>
                      <a:pt x="685" y="63"/>
                    </a:lnTo>
                    <a:lnTo>
                      <a:pt x="689" y="62"/>
                    </a:lnTo>
                    <a:lnTo>
                      <a:pt x="711" y="50"/>
                    </a:lnTo>
                    <a:lnTo>
                      <a:pt x="719" y="47"/>
                    </a:lnTo>
                    <a:lnTo>
                      <a:pt x="723" y="46"/>
                    </a:lnTo>
                    <a:lnTo>
                      <a:pt x="726" y="45"/>
                    </a:lnTo>
                    <a:lnTo>
                      <a:pt x="766" y="39"/>
                    </a:lnTo>
                    <a:lnTo>
                      <a:pt x="774" y="38"/>
                    </a:lnTo>
                    <a:lnTo>
                      <a:pt x="782" y="39"/>
                    </a:lnTo>
                    <a:lnTo>
                      <a:pt x="822" y="45"/>
                    </a:lnTo>
                    <a:lnTo>
                      <a:pt x="838" y="49"/>
                    </a:lnTo>
                    <a:lnTo>
                      <a:pt x="878" y="63"/>
                    </a:lnTo>
                    <a:lnTo>
                      <a:pt x="882" y="64"/>
                    </a:lnTo>
                    <a:lnTo>
                      <a:pt x="886" y="64"/>
                    </a:lnTo>
                    <a:lnTo>
                      <a:pt x="890" y="64"/>
                    </a:lnTo>
                    <a:lnTo>
                      <a:pt x="893" y="63"/>
                    </a:lnTo>
                    <a:lnTo>
                      <a:pt x="998" y="39"/>
                    </a:lnTo>
                    <a:lnTo>
                      <a:pt x="1014" y="36"/>
                    </a:lnTo>
                    <a:lnTo>
                      <a:pt x="1045" y="30"/>
                    </a:lnTo>
                    <a:lnTo>
                      <a:pt x="1048" y="29"/>
                    </a:lnTo>
                    <a:lnTo>
                      <a:pt x="1052" y="30"/>
                    </a:lnTo>
                    <a:lnTo>
                      <a:pt x="1056" y="31"/>
                    </a:lnTo>
                    <a:lnTo>
                      <a:pt x="1059" y="33"/>
                    </a:lnTo>
                    <a:lnTo>
                      <a:pt x="1074" y="42"/>
                    </a:lnTo>
                    <a:lnTo>
                      <a:pt x="1077" y="44"/>
                    </a:lnTo>
                    <a:lnTo>
                      <a:pt x="1080" y="47"/>
                    </a:lnTo>
                    <a:lnTo>
                      <a:pt x="1084" y="54"/>
                    </a:lnTo>
                    <a:lnTo>
                      <a:pt x="1086" y="58"/>
                    </a:lnTo>
                    <a:lnTo>
                      <a:pt x="1088" y="61"/>
                    </a:lnTo>
                    <a:lnTo>
                      <a:pt x="1089" y="61"/>
                    </a:lnTo>
                    <a:lnTo>
                      <a:pt x="1091" y="62"/>
                    </a:lnTo>
                    <a:lnTo>
                      <a:pt x="1094" y="62"/>
                    </a:lnTo>
                    <a:lnTo>
                      <a:pt x="1097" y="62"/>
                    </a:lnTo>
                    <a:lnTo>
                      <a:pt x="1158" y="32"/>
                    </a:lnTo>
                    <a:lnTo>
                      <a:pt x="1161" y="30"/>
                    </a:lnTo>
                    <a:lnTo>
                      <a:pt x="1164" y="29"/>
                    </a:lnTo>
                    <a:lnTo>
                      <a:pt x="1167" y="28"/>
                    </a:lnTo>
                    <a:lnTo>
                      <a:pt x="1170" y="28"/>
                    </a:lnTo>
                    <a:lnTo>
                      <a:pt x="1172" y="28"/>
                    </a:lnTo>
                    <a:lnTo>
                      <a:pt x="1174" y="27"/>
                    </a:lnTo>
                    <a:lnTo>
                      <a:pt x="1177" y="25"/>
                    </a:lnTo>
                    <a:lnTo>
                      <a:pt x="1179" y="23"/>
                    </a:lnTo>
                    <a:lnTo>
                      <a:pt x="1181" y="22"/>
                    </a:lnTo>
                    <a:lnTo>
                      <a:pt x="1184" y="20"/>
                    </a:lnTo>
                    <a:lnTo>
                      <a:pt x="1186" y="19"/>
                    </a:lnTo>
                    <a:lnTo>
                      <a:pt x="1188" y="19"/>
                    </a:lnTo>
                    <a:lnTo>
                      <a:pt x="1194" y="18"/>
                    </a:lnTo>
                    <a:lnTo>
                      <a:pt x="1200" y="15"/>
                    </a:lnTo>
                    <a:lnTo>
                      <a:pt x="1204" y="13"/>
                    </a:lnTo>
                    <a:lnTo>
                      <a:pt x="1207" y="12"/>
                    </a:lnTo>
                    <a:lnTo>
                      <a:pt x="1211" y="11"/>
                    </a:lnTo>
                    <a:lnTo>
                      <a:pt x="1214" y="10"/>
                    </a:lnTo>
                    <a:lnTo>
                      <a:pt x="1216" y="10"/>
                    </a:lnTo>
                    <a:lnTo>
                      <a:pt x="1218" y="9"/>
                    </a:lnTo>
                    <a:lnTo>
                      <a:pt x="1221" y="8"/>
                    </a:lnTo>
                    <a:lnTo>
                      <a:pt x="1223" y="7"/>
                    </a:lnTo>
                    <a:lnTo>
                      <a:pt x="1225" y="5"/>
                    </a:lnTo>
                    <a:lnTo>
                      <a:pt x="1227" y="3"/>
                    </a:lnTo>
                    <a:lnTo>
                      <a:pt x="1230" y="2"/>
                    </a:lnTo>
                    <a:lnTo>
                      <a:pt x="1232" y="1"/>
                    </a:lnTo>
                    <a:lnTo>
                      <a:pt x="1235" y="0"/>
                    </a:lnTo>
                    <a:lnTo>
                      <a:pt x="1244" y="0"/>
                    </a:lnTo>
                    <a:lnTo>
                      <a:pt x="1253" y="0"/>
                    </a:lnTo>
                    <a:lnTo>
                      <a:pt x="1262" y="0"/>
                    </a:lnTo>
                    <a:lnTo>
                      <a:pt x="1272" y="0"/>
                    </a:lnTo>
                    <a:lnTo>
                      <a:pt x="1281" y="0"/>
                    </a:lnTo>
                    <a:lnTo>
                      <a:pt x="1286" y="1"/>
                    </a:lnTo>
                    <a:lnTo>
                      <a:pt x="1293" y="3"/>
                    </a:lnTo>
                    <a:lnTo>
                      <a:pt x="1352" y="25"/>
                    </a:lnTo>
                    <a:lnTo>
                      <a:pt x="1359" y="29"/>
                    </a:lnTo>
                    <a:lnTo>
                      <a:pt x="1362" y="31"/>
                    </a:lnTo>
                    <a:lnTo>
                      <a:pt x="1365" y="33"/>
                    </a:lnTo>
                    <a:lnTo>
                      <a:pt x="1367" y="35"/>
                    </a:lnTo>
                    <a:lnTo>
                      <a:pt x="1369" y="36"/>
                    </a:lnTo>
                    <a:lnTo>
                      <a:pt x="1372" y="37"/>
                    </a:lnTo>
                    <a:lnTo>
                      <a:pt x="1374" y="37"/>
                    </a:lnTo>
                    <a:lnTo>
                      <a:pt x="1383" y="37"/>
                    </a:lnTo>
                    <a:lnTo>
                      <a:pt x="1388" y="38"/>
                    </a:lnTo>
                    <a:lnTo>
                      <a:pt x="1395" y="41"/>
                    </a:lnTo>
                    <a:lnTo>
                      <a:pt x="1399" y="43"/>
                    </a:lnTo>
                    <a:lnTo>
                      <a:pt x="1402" y="44"/>
                    </a:lnTo>
                    <a:lnTo>
                      <a:pt x="1406" y="46"/>
                    </a:lnTo>
                    <a:lnTo>
                      <a:pt x="1409" y="46"/>
                    </a:lnTo>
                    <a:lnTo>
                      <a:pt x="1411" y="47"/>
                    </a:lnTo>
                    <a:lnTo>
                      <a:pt x="1420" y="47"/>
                    </a:lnTo>
                    <a:lnTo>
                      <a:pt x="1429" y="47"/>
                    </a:lnTo>
                    <a:lnTo>
                      <a:pt x="1439" y="47"/>
                    </a:lnTo>
                    <a:lnTo>
                      <a:pt x="1451" y="47"/>
                    </a:lnTo>
                    <a:lnTo>
                      <a:pt x="1547" y="47"/>
                    </a:lnTo>
                    <a:lnTo>
                      <a:pt x="1555" y="47"/>
                    </a:lnTo>
                    <a:lnTo>
                      <a:pt x="1563" y="48"/>
                    </a:lnTo>
                    <a:lnTo>
                      <a:pt x="1603" y="55"/>
                    </a:lnTo>
                    <a:lnTo>
                      <a:pt x="1618" y="57"/>
                    </a:lnTo>
                    <a:lnTo>
                      <a:pt x="1686" y="64"/>
                    </a:lnTo>
                    <a:lnTo>
                      <a:pt x="1689" y="65"/>
                    </a:lnTo>
                    <a:lnTo>
                      <a:pt x="1686" y="65"/>
                    </a:lnTo>
                    <a:lnTo>
                      <a:pt x="1265" y="65"/>
                    </a:lnTo>
                    <a:lnTo>
                      <a:pt x="844" y="65"/>
                    </a:lnTo>
                    <a:lnTo>
                      <a:pt x="423" y="65"/>
                    </a:lnTo>
                    <a:lnTo>
                      <a:pt x="3" y="65"/>
                    </a:lnTo>
                    <a:lnTo>
                      <a:pt x="0" y="65"/>
                    </a:lnTo>
                    <a:lnTo>
                      <a:pt x="3" y="65"/>
                    </a:lnTo>
                    <a:lnTo>
                      <a:pt x="51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2830320" y="5722920"/>
                <a:ext cx="5508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2885760" y="5722920"/>
                <a:ext cx="77436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3660480" y="5715000"/>
                <a:ext cx="53640" cy="205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2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0" y="6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3652560" y="5722920"/>
                <a:ext cx="14040" cy="12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3714480" y="5664240"/>
                <a:ext cx="199800" cy="65160"/>
              </a:xfrm>
              <a:custGeom>
                <a:avLst/>
                <a:gdLst/>
                <a:ahLst/>
                <a:rect l="l" t="t" r="r" b="b"/>
                <a:pathLst>
                  <a:path w="58" h="19">
                    <a:moveTo>
                      <a:pt x="0" y="15"/>
                    </a:moveTo>
                    <a:lnTo>
                      <a:pt x="0" y="19"/>
                    </a:lnTo>
                    <a:lnTo>
                      <a:pt x="58" y="4"/>
                    </a:lnTo>
                    <a:lnTo>
                      <a:pt x="58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14640" y="5661000"/>
                <a:ext cx="53640" cy="176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1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08160" y="5664240"/>
                <a:ext cx="1224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68640" y="5661000"/>
                <a:ext cx="137520" cy="126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62160" y="5661000"/>
                <a:ext cx="12240" cy="12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4106520" y="5661000"/>
                <a:ext cx="48960" cy="205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0" y="0"/>
                    </a:moveTo>
                    <a:lnTo>
                      <a:pt x="8" y="0"/>
                    </a:lnTo>
                    <a:lnTo>
                      <a:pt x="15" y="2"/>
                    </a:lnTo>
                    <a:lnTo>
                      <a:pt x="14" y="6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4098600" y="5661000"/>
                <a:ext cx="14040" cy="12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4154400" y="5667480"/>
                <a:ext cx="112320" cy="5868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1" y="0"/>
                    </a:moveTo>
                    <a:lnTo>
                      <a:pt x="0" y="4"/>
                    </a:lnTo>
                    <a:lnTo>
                      <a:pt x="32" y="17"/>
                    </a:lnTo>
                    <a:lnTo>
                      <a:pt x="33" y="1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4151160" y="5667480"/>
                <a:ext cx="12240" cy="140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4263840" y="5711760"/>
                <a:ext cx="53640" cy="2088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1" y="0"/>
                    </a:moveTo>
                    <a:lnTo>
                      <a:pt x="8" y="2"/>
                    </a:lnTo>
                    <a:lnTo>
                      <a:pt x="16" y="2"/>
                    </a:lnTo>
                    <a:lnTo>
                      <a:pt x="16" y="6"/>
                    </a:lnTo>
                    <a:lnTo>
                      <a:pt x="8" y="6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4317840" y="5694480"/>
                <a:ext cx="105840" cy="38160"/>
              </a:xfrm>
              <a:custGeom>
                <a:avLst/>
                <a:gdLst/>
                <a:ahLst/>
                <a:rect l="l" t="t" r="r" b="b"/>
                <a:pathLst>
                  <a:path w="31" h="11">
                    <a:moveTo>
                      <a:pt x="0" y="7"/>
                    </a:moveTo>
                    <a:lnTo>
                      <a:pt x="0" y="11"/>
                    </a:lnTo>
                    <a:lnTo>
                      <a:pt x="31" y="4"/>
                    </a:lnTo>
                    <a:lnTo>
                      <a:pt x="3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4311360" y="5719680"/>
                <a:ext cx="14040" cy="129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4424040" y="5684760"/>
                <a:ext cx="52200" cy="237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3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4476600" y="5664240"/>
                <a:ext cx="104400" cy="349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0" y="6"/>
                    </a:moveTo>
                    <a:lnTo>
                      <a:pt x="0" y="10"/>
                    </a:lnTo>
                    <a:lnTo>
                      <a:pt x="31" y="4"/>
                    </a:lnTo>
                    <a:lnTo>
                      <a:pt x="3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4470120" y="5684760"/>
                <a:ext cx="1224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4581360" y="5661000"/>
                <a:ext cx="55080" cy="176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1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0" y="5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4590720" y="5664240"/>
                <a:ext cx="1260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4636800" y="5661000"/>
                <a:ext cx="10116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4630320" y="5661000"/>
                <a:ext cx="1260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4738320" y="5661000"/>
                <a:ext cx="56880" cy="20520"/>
              </a:xfrm>
              <a:custGeom>
                <a:avLst/>
                <a:gdLst/>
                <a:ahLst/>
                <a:rect l="l" t="t" r="r" b="b"/>
                <a:pathLst>
                  <a:path w="16" h="6">
                    <a:moveTo>
                      <a:pt x="0" y="0"/>
                    </a:moveTo>
                    <a:lnTo>
                      <a:pt x="8" y="0"/>
                    </a:lnTo>
                    <a:lnTo>
                      <a:pt x="16" y="2"/>
                    </a:lnTo>
                    <a:lnTo>
                      <a:pt x="15" y="6"/>
                    </a:lnTo>
                    <a:lnTo>
                      <a:pt x="7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4790880" y="5668920"/>
                <a:ext cx="109080" cy="57240"/>
              </a:xfrm>
              <a:custGeom>
                <a:avLst/>
                <a:gdLst/>
                <a:ahLst/>
                <a:rect l="l" t="t" r="r" b="b"/>
                <a:pathLst>
                  <a:path w="32" h="17">
                    <a:moveTo>
                      <a:pt x="1" y="0"/>
                    </a:moveTo>
                    <a:lnTo>
                      <a:pt x="0" y="4"/>
                    </a:lnTo>
                    <a:lnTo>
                      <a:pt x="31" y="17"/>
                    </a:lnTo>
                    <a:lnTo>
                      <a:pt x="32" y="13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4898880" y="5713560"/>
                <a:ext cx="56520" cy="237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" y="0"/>
                    </a:moveTo>
                    <a:lnTo>
                      <a:pt x="9" y="2"/>
                    </a:lnTo>
                    <a:lnTo>
                      <a:pt x="17" y="3"/>
                    </a:lnTo>
                    <a:lnTo>
                      <a:pt x="16" y="7"/>
                    </a:lnTo>
                    <a:lnTo>
                      <a:pt x="8" y="6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4962240" y="5713560"/>
                <a:ext cx="52200" cy="23760"/>
              </a:xfrm>
              <a:custGeom>
                <a:avLst/>
                <a:gdLst/>
                <a:ahLst/>
                <a:rect l="l" t="t" r="r" b="b"/>
                <a:pathLst>
                  <a:path w="15" h="7">
                    <a:moveTo>
                      <a:pt x="0" y="3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4955760" y="5722920"/>
                <a:ext cx="1404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014800" y="5672160"/>
                <a:ext cx="82080" cy="54000"/>
              </a:xfrm>
              <a:custGeom>
                <a:avLst/>
                <a:gdLst/>
                <a:ahLst/>
                <a:rect l="l" t="t" r="r" b="b"/>
                <a:pathLst>
                  <a:path w="24" h="16">
                    <a:moveTo>
                      <a:pt x="0" y="12"/>
                    </a:moveTo>
                    <a:lnTo>
                      <a:pt x="1" y="16"/>
                    </a:lnTo>
                    <a:lnTo>
                      <a:pt x="24" y="4"/>
                    </a:lnTo>
                    <a:lnTo>
                      <a:pt x="23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092560" y="5656320"/>
                <a:ext cx="55080" cy="28440"/>
              </a:xfrm>
              <a:custGeom>
                <a:avLst/>
                <a:gdLst/>
                <a:ahLst/>
                <a:rect l="l" t="t" r="r" b="b"/>
                <a:pathLst>
                  <a:path w="16" h="9">
                    <a:moveTo>
                      <a:pt x="0" y="5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143320" y="5635800"/>
                <a:ext cx="136080" cy="3312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0" y="6"/>
                    </a:moveTo>
                    <a:lnTo>
                      <a:pt x="0" y="10"/>
                    </a:lnTo>
                    <a:lnTo>
                      <a:pt x="40" y="4"/>
                    </a:lnTo>
                    <a:lnTo>
                      <a:pt x="4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332320" y="5635800"/>
                <a:ext cx="140760" cy="33120"/>
              </a:xfrm>
              <a:custGeom>
                <a:avLst/>
                <a:gdLst/>
                <a:ahLst/>
                <a:rect l="l" t="t" r="r" b="b"/>
                <a:pathLst>
                  <a:path w="41" h="10">
                    <a:moveTo>
                      <a:pt x="1" y="0"/>
                    </a:moveTo>
                    <a:lnTo>
                      <a:pt x="0" y="4"/>
                    </a:lnTo>
                    <a:lnTo>
                      <a:pt x="40" y="10"/>
                    </a:lnTo>
                    <a:lnTo>
                      <a:pt x="41" y="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470200" y="5656320"/>
                <a:ext cx="53640" cy="2520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" y="0"/>
                    </a:moveTo>
                    <a:lnTo>
                      <a:pt x="16" y="4"/>
                    </a:lnTo>
                    <a:lnTo>
                      <a:pt x="15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522760" y="5668920"/>
                <a:ext cx="140760" cy="61920"/>
              </a:xfrm>
              <a:custGeom>
                <a:avLst/>
                <a:gdLst/>
                <a:ahLst/>
                <a:rect l="l" t="t" r="r" b="b"/>
                <a:pathLst>
                  <a:path w="42" h="18">
                    <a:moveTo>
                      <a:pt x="1" y="0"/>
                    </a:moveTo>
                    <a:lnTo>
                      <a:pt x="0" y="4"/>
                    </a:lnTo>
                    <a:lnTo>
                      <a:pt x="41" y="18"/>
                    </a:lnTo>
                    <a:lnTo>
                      <a:pt x="42" y="1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662440" y="5716440"/>
                <a:ext cx="53640" cy="176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1" y="0"/>
                    </a:moveTo>
                    <a:lnTo>
                      <a:pt x="9" y="1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9" y="5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659200" y="5716440"/>
                <a:ext cx="1224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716440" y="5635800"/>
                <a:ext cx="360000" cy="95040"/>
              </a:xfrm>
              <a:custGeom>
                <a:avLst/>
                <a:gdLst/>
                <a:ahLst/>
                <a:rect l="l" t="t" r="r" b="b"/>
                <a:pathLst>
                  <a:path w="105" h="28">
                    <a:moveTo>
                      <a:pt x="0" y="24"/>
                    </a:moveTo>
                    <a:lnTo>
                      <a:pt x="0" y="28"/>
                    </a:lnTo>
                    <a:lnTo>
                      <a:pt x="105" y="4"/>
                    </a:lnTo>
                    <a:lnTo>
                      <a:pt x="105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076800" y="5622840"/>
                <a:ext cx="53640" cy="25560"/>
              </a:xfrm>
              <a:custGeom>
                <a:avLst/>
                <a:gdLst/>
                <a:ahLst/>
                <a:rect l="l" t="t" r="r" b="b"/>
                <a:pathLst>
                  <a:path w="16" h="7">
                    <a:moveTo>
                      <a:pt x="0" y="3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0" y="7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130800" y="5602320"/>
                <a:ext cx="105840" cy="34920"/>
              </a:xfrm>
              <a:custGeom>
                <a:avLst/>
                <a:gdLst/>
                <a:ahLst/>
                <a:rect l="l" t="t" r="r" b="b"/>
                <a:pathLst>
                  <a:path w="31" h="10">
                    <a:moveTo>
                      <a:pt x="0" y="6"/>
                    </a:moveTo>
                    <a:lnTo>
                      <a:pt x="0" y="10"/>
                    </a:lnTo>
                    <a:lnTo>
                      <a:pt x="31" y="4"/>
                    </a:lnTo>
                    <a:lnTo>
                      <a:pt x="3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6125760" y="5622840"/>
                <a:ext cx="1260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237000" y="5602320"/>
                <a:ext cx="48960" cy="205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  <a:lnTo>
                      <a:pt x="13" y="6"/>
                    </a:lnTo>
                    <a:lnTo>
                      <a:pt x="6" y="4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6230520" y="5602320"/>
                <a:ext cx="1404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6278400" y="5614920"/>
                <a:ext cx="61560" cy="4284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3" y="0"/>
                    </a:moveTo>
                    <a:lnTo>
                      <a:pt x="0" y="3"/>
                    </a:lnTo>
                    <a:lnTo>
                      <a:pt x="15" y="13"/>
                    </a:lnTo>
                    <a:lnTo>
                      <a:pt x="18" y="1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6329160" y="5648400"/>
                <a:ext cx="45720" cy="5076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3" y="0"/>
                    </a:moveTo>
                    <a:lnTo>
                      <a:pt x="8" y="5"/>
                    </a:lnTo>
                    <a:lnTo>
                      <a:pt x="13" y="12"/>
                    </a:lnTo>
                    <a:lnTo>
                      <a:pt x="10" y="15"/>
                    </a:lnTo>
                    <a:lnTo>
                      <a:pt x="5" y="8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6345000" y="5643720"/>
                <a:ext cx="14040" cy="140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6365520" y="5692680"/>
                <a:ext cx="20520" cy="1764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4" y="0"/>
                    </a:moveTo>
                    <a:lnTo>
                      <a:pt x="0" y="1"/>
                    </a:lnTo>
                    <a:lnTo>
                      <a:pt x="2" y="5"/>
                    </a:lnTo>
                    <a:lnTo>
                      <a:pt x="6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6365520" y="5684760"/>
                <a:ext cx="1260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370560" y="5702400"/>
                <a:ext cx="45360" cy="237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3" y="0"/>
                    </a:moveTo>
                    <a:lnTo>
                      <a:pt x="7" y="3"/>
                    </a:lnTo>
                    <a:lnTo>
                      <a:pt x="13" y="3"/>
                    </a:lnTo>
                    <a:lnTo>
                      <a:pt x="12" y="7"/>
                    </a:lnTo>
                    <a:lnTo>
                      <a:pt x="6" y="7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370560" y="5699160"/>
                <a:ext cx="1548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416280" y="5610240"/>
                <a:ext cx="210960" cy="115920"/>
              </a:xfrm>
              <a:custGeom>
                <a:avLst/>
                <a:gdLst/>
                <a:ahLst/>
                <a:rect l="l" t="t" r="r" b="b"/>
                <a:pathLst>
                  <a:path w="62" h="34">
                    <a:moveTo>
                      <a:pt x="0" y="30"/>
                    </a:moveTo>
                    <a:lnTo>
                      <a:pt x="1" y="34"/>
                    </a:lnTo>
                    <a:lnTo>
                      <a:pt x="62" y="4"/>
                    </a:lnTo>
                    <a:lnTo>
                      <a:pt x="61" y="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26160" y="5597640"/>
                <a:ext cx="42480" cy="252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4"/>
                    </a:moveTo>
                    <a:lnTo>
                      <a:pt x="12" y="0"/>
                    </a:lnTo>
                    <a:lnTo>
                      <a:pt x="13" y="4"/>
                    </a:lnTo>
                    <a:lnTo>
                      <a:pt x="1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617880" y="5610240"/>
                <a:ext cx="12600" cy="12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6667200" y="5578560"/>
                <a:ext cx="33120" cy="31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4" y="4"/>
                    </a:lnTo>
                    <a:lnTo>
                      <a:pt x="9" y="0"/>
                    </a:lnTo>
                    <a:lnTo>
                      <a:pt x="10" y="4"/>
                    </a:lnTo>
                    <a:lnTo>
                      <a:pt x="5" y="8"/>
                    </a:lnTo>
                    <a:lnTo>
                      <a:pt x="1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6696000" y="5565600"/>
                <a:ext cx="34560" cy="288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4"/>
                    </a:moveTo>
                    <a:lnTo>
                      <a:pt x="9" y="0"/>
                    </a:lnTo>
                    <a:lnTo>
                      <a:pt x="10" y="4"/>
                    </a:lnTo>
                    <a:lnTo>
                      <a:pt x="1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6729120" y="5553000"/>
                <a:ext cx="42480" cy="255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4"/>
                    </a:moveTo>
                    <a:lnTo>
                      <a:pt x="12" y="0"/>
                    </a:lnTo>
                    <a:lnTo>
                      <a:pt x="13" y="4"/>
                    </a:lnTo>
                    <a:lnTo>
                      <a:pt x="1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6721200" y="5565600"/>
                <a:ext cx="12240" cy="129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6770520" y="5545080"/>
                <a:ext cx="1548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2"/>
                    </a:moveTo>
                    <a:lnTo>
                      <a:pt x="1" y="6"/>
                    </a:lnTo>
                    <a:lnTo>
                      <a:pt x="5" y="4"/>
                    </a:lnTo>
                    <a:lnTo>
                      <a:pt x="4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6776640" y="5553000"/>
                <a:ext cx="12600" cy="12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6783120" y="5532480"/>
                <a:ext cx="44280" cy="252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4"/>
                    </a:moveTo>
                    <a:lnTo>
                      <a:pt x="12" y="0"/>
                    </a:lnTo>
                    <a:lnTo>
                      <a:pt x="13" y="4"/>
                    </a:lnTo>
                    <a:lnTo>
                      <a:pt x="1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6789600" y="5545080"/>
                <a:ext cx="13680" cy="12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6824520" y="5516640"/>
                <a:ext cx="32760" cy="284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4"/>
                    </a:moveTo>
                    <a:lnTo>
                      <a:pt x="5" y="3"/>
                    </a:lnTo>
                    <a:lnTo>
                      <a:pt x="9" y="0"/>
                    </a:lnTo>
                    <a:lnTo>
                      <a:pt x="10" y="4"/>
                    </a:lnTo>
                    <a:lnTo>
                      <a:pt x="6" y="7"/>
                    </a:lnTo>
                    <a:lnTo>
                      <a:pt x="1" y="8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6854760" y="5500800"/>
                <a:ext cx="34560" cy="316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5"/>
                    </a:moveTo>
                    <a:lnTo>
                      <a:pt x="9" y="0"/>
                    </a:lnTo>
                    <a:lnTo>
                      <a:pt x="10" y="4"/>
                    </a:lnTo>
                    <a:lnTo>
                      <a:pt x="1" y="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6886440" y="5500800"/>
                <a:ext cx="32760" cy="140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6878520" y="5500800"/>
                <a:ext cx="12240" cy="140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6919560" y="5500800"/>
                <a:ext cx="29880" cy="140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6911640" y="5500800"/>
                <a:ext cx="15480" cy="140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6949800" y="5500800"/>
                <a:ext cx="31320" cy="140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6981480" y="5500800"/>
                <a:ext cx="33120" cy="140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973560" y="5500800"/>
                <a:ext cx="15480" cy="140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7014960" y="5500800"/>
                <a:ext cx="31320" cy="140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7089480" y="5303880"/>
                <a:ext cx="1224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043400" y="5500800"/>
                <a:ext cx="44280" cy="237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1" y="0"/>
                    </a:moveTo>
                    <a:lnTo>
                      <a:pt x="13" y="3"/>
                    </a:lnTo>
                    <a:lnTo>
                      <a:pt x="12" y="7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7054560" y="5500800"/>
                <a:ext cx="12240" cy="140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7084800" y="5511960"/>
                <a:ext cx="205920" cy="87120"/>
              </a:xfrm>
              <a:custGeom>
                <a:avLst/>
                <a:gdLst/>
                <a:ahLst/>
                <a:rect l="l" t="t" r="r" b="b"/>
                <a:pathLst>
                  <a:path w="60" h="26">
                    <a:moveTo>
                      <a:pt x="1" y="0"/>
                    </a:moveTo>
                    <a:lnTo>
                      <a:pt x="0" y="4"/>
                    </a:lnTo>
                    <a:lnTo>
                      <a:pt x="59" y="26"/>
                    </a:lnTo>
                    <a:lnTo>
                      <a:pt x="60" y="2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7283160" y="5589720"/>
                <a:ext cx="50400" cy="37800"/>
              </a:xfrm>
              <a:custGeom>
                <a:avLst/>
                <a:gdLst/>
                <a:ahLst/>
                <a:rect l="l" t="t" r="r" b="b"/>
                <a:pathLst>
                  <a:path w="15" h="11">
                    <a:moveTo>
                      <a:pt x="3" y="0"/>
                    </a:moveTo>
                    <a:lnTo>
                      <a:pt x="15" y="8"/>
                    </a:lnTo>
                    <a:lnTo>
                      <a:pt x="12" y="11"/>
                    </a:lnTo>
                    <a:lnTo>
                      <a:pt x="0" y="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7283160" y="5586480"/>
                <a:ext cx="12240" cy="12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7327800" y="5614920"/>
                <a:ext cx="37440" cy="255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" y="0"/>
                    </a:moveTo>
                    <a:lnTo>
                      <a:pt x="11" y="4"/>
                    </a:lnTo>
                    <a:lnTo>
                      <a:pt x="10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7365600" y="5627520"/>
                <a:ext cx="29880" cy="129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7357680" y="5627520"/>
                <a:ext cx="14040" cy="1296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7392600" y="5627520"/>
                <a:ext cx="44280" cy="288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0"/>
                    </a:moveTo>
                    <a:lnTo>
                      <a:pt x="13" y="4"/>
                    </a:lnTo>
                    <a:lnTo>
                      <a:pt x="12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7432560" y="5640480"/>
                <a:ext cx="18720" cy="205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1" y="0"/>
                    </a:moveTo>
                    <a:lnTo>
                      <a:pt x="0" y="4"/>
                    </a:lnTo>
                    <a:lnTo>
                      <a:pt x="4" y="6"/>
                    </a:lnTo>
                    <a:lnTo>
                      <a:pt x="5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7448400" y="5648400"/>
                <a:ext cx="43920" cy="2844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" y="0"/>
                    </a:moveTo>
                    <a:lnTo>
                      <a:pt x="13" y="4"/>
                    </a:lnTo>
                    <a:lnTo>
                      <a:pt x="12" y="8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7443720" y="5648400"/>
                <a:ext cx="13680" cy="126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7492680" y="5661000"/>
                <a:ext cx="2988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7522920" y="5661000"/>
                <a:ext cx="2988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530840" y="5661000"/>
                <a:ext cx="1404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7553160" y="5661000"/>
                <a:ext cx="3456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7562520" y="5661000"/>
                <a:ext cx="1260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7588080" y="5661000"/>
                <a:ext cx="4068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7580160" y="5661000"/>
                <a:ext cx="1368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7629120" y="5661000"/>
                <a:ext cx="328320" cy="158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7621200" y="5661000"/>
                <a:ext cx="1404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7957800" y="5661000"/>
                <a:ext cx="55440" cy="17640"/>
              </a:xfrm>
              <a:custGeom>
                <a:avLst/>
                <a:gdLst/>
                <a:ahLst/>
                <a:rect l="l" t="t" r="r" b="b"/>
                <a:pathLst>
                  <a:path w="16" h="5">
                    <a:moveTo>
                      <a:pt x="0" y="0"/>
                    </a:moveTo>
                    <a:lnTo>
                      <a:pt x="16" y="1"/>
                    </a:lnTo>
                    <a:lnTo>
                      <a:pt x="16" y="5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951680" y="5661000"/>
                <a:ext cx="12240" cy="1584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8010360" y="5664240"/>
                <a:ext cx="136080" cy="34920"/>
              </a:xfrm>
              <a:custGeom>
                <a:avLst/>
                <a:gdLst/>
                <a:ahLst/>
                <a:rect l="l" t="t" r="r" b="b"/>
                <a:pathLst>
                  <a:path w="40" h="10">
                    <a:moveTo>
                      <a:pt x="1" y="0"/>
                    </a:moveTo>
                    <a:lnTo>
                      <a:pt x="0" y="4"/>
                    </a:lnTo>
                    <a:lnTo>
                      <a:pt x="39" y="10"/>
                    </a:lnTo>
                    <a:lnTo>
                      <a:pt x="40" y="6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8005680" y="5664240"/>
                <a:ext cx="1368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8142120" y="5684760"/>
                <a:ext cx="58320" cy="255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1" y="0"/>
                    </a:moveTo>
                    <a:lnTo>
                      <a:pt x="17" y="3"/>
                    </a:lnTo>
                    <a:lnTo>
                      <a:pt x="16" y="7"/>
                    </a:lnTo>
                    <a:lnTo>
                      <a:pt x="0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8138880" y="5684760"/>
                <a:ext cx="1548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8200800" y="5695920"/>
                <a:ext cx="234720" cy="38160"/>
              </a:xfrm>
              <a:custGeom>
                <a:avLst/>
                <a:gdLst/>
                <a:ahLst/>
                <a:rect l="l" t="t" r="r" b="b"/>
                <a:pathLst>
                  <a:path w="68" h="11">
                    <a:moveTo>
                      <a:pt x="0" y="0"/>
                    </a:moveTo>
                    <a:lnTo>
                      <a:pt x="0" y="4"/>
                    </a:lnTo>
                    <a:lnTo>
                      <a:pt x="68" y="11"/>
                    </a:lnTo>
                    <a:lnTo>
                      <a:pt x="68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8194320" y="5695920"/>
                <a:ext cx="1404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8427960" y="5719680"/>
                <a:ext cx="23400" cy="1440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2" y="0"/>
                    </a:moveTo>
                    <a:lnTo>
                      <a:pt x="7" y="3"/>
                    </a:lnTo>
                    <a:lnTo>
                      <a:pt x="4" y="3"/>
                    </a:lnTo>
                    <a:lnTo>
                      <a:pt x="0" y="3"/>
                    </a:lnTo>
                    <a:lnTo>
                      <a:pt x="3" y="3"/>
                    </a:lnTo>
                    <a:lnTo>
                      <a:pt x="1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665080" y="5722920"/>
                <a:ext cx="5770440" cy="144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655720" y="5722920"/>
                <a:ext cx="9000" cy="1440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3" y="4"/>
                    </a:moveTo>
                    <a:lnTo>
                      <a:pt x="0" y="4"/>
                    </a:lnTo>
                    <a:lnTo>
                      <a:pt x="3" y="0"/>
                    </a:lnTo>
                    <a:lnTo>
                      <a:pt x="3" y="4"/>
                    </a:lnTo>
                    <a:lnTo>
                      <a:pt x="0" y="0"/>
                    </a:lnTo>
                    <a:lnTo>
                      <a:pt x="3" y="0"/>
                    </a:lnTo>
                    <a:lnTo>
                      <a:pt x="3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665080" y="5722920"/>
                <a:ext cx="164880" cy="144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825640" y="5722920"/>
                <a:ext cx="12240" cy="14400"/>
              </a:xfrm>
              <a:prstGeom prst="ellipse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3681000" y="6097680"/>
                <a:ext cx="41040" cy="550800"/>
              </a:xfrm>
              <a:prstGeom prst="rect">
                <a:avLst/>
              </a:prstGeom>
              <a:noFill/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4986000" y="6097680"/>
                <a:ext cx="41040" cy="558720"/>
              </a:xfrm>
              <a:prstGeom prst="rect">
                <a:avLst/>
              </a:prstGeom>
              <a:noFill/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991200" y="6097680"/>
                <a:ext cx="40680" cy="544320"/>
              </a:xfrm>
              <a:prstGeom prst="rect">
                <a:avLst/>
              </a:prstGeom>
              <a:noFill/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4349520" y="6097680"/>
                <a:ext cx="20160" cy="554040"/>
              </a:xfrm>
              <a:prstGeom prst="rect">
                <a:avLst/>
              </a:prstGeom>
              <a:noFill/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643360" y="6097680"/>
                <a:ext cx="20160" cy="549360"/>
              </a:xfrm>
              <a:prstGeom prst="rect">
                <a:avLst/>
              </a:prstGeom>
              <a:noFill/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287760" y="6097680"/>
                <a:ext cx="20520" cy="549360"/>
              </a:xfrm>
              <a:prstGeom prst="rect">
                <a:avLst/>
              </a:prstGeom>
              <a:noFill/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770600" y="6097680"/>
                <a:ext cx="20160" cy="550800"/>
              </a:xfrm>
              <a:prstGeom prst="rect">
                <a:avLst/>
              </a:prstGeom>
              <a:noFill/>
              <a:ln w="936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3687480" y="1878120"/>
                <a:ext cx="2664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3687480" y="2097000"/>
                <a:ext cx="26640" cy="109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3687480" y="2316240"/>
                <a:ext cx="2664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3687480" y="2535120"/>
                <a:ext cx="26640" cy="109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3687480" y="2754360"/>
                <a:ext cx="2664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3687480" y="2975040"/>
                <a:ext cx="26640" cy="108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3687480" y="3193920"/>
                <a:ext cx="26640" cy="108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3687480" y="3413160"/>
                <a:ext cx="2664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3687480" y="3632040"/>
                <a:ext cx="26640" cy="11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3687480" y="3851280"/>
                <a:ext cx="26640" cy="11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3687480" y="4070520"/>
                <a:ext cx="26640" cy="11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3687480" y="4289400"/>
                <a:ext cx="26640" cy="11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3687480" y="4513320"/>
                <a:ext cx="2664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3687480" y="4732200"/>
                <a:ext cx="26640" cy="109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3687480" y="4951440"/>
                <a:ext cx="2664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3687480" y="5172120"/>
                <a:ext cx="2664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3687480" y="5391000"/>
                <a:ext cx="26640" cy="109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3687480" y="5610240"/>
                <a:ext cx="2664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3687480" y="5829480"/>
                <a:ext cx="26640" cy="11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3687480" y="6048360"/>
                <a:ext cx="2664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993920" y="1878120"/>
                <a:ext cx="2520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993920" y="2097000"/>
                <a:ext cx="25200" cy="109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993920" y="2316240"/>
                <a:ext cx="2520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993920" y="2535120"/>
                <a:ext cx="25200" cy="109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993920" y="2754360"/>
                <a:ext cx="2520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4993920" y="2975040"/>
                <a:ext cx="25200" cy="108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4993920" y="3193920"/>
                <a:ext cx="25200" cy="108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993920" y="3413160"/>
                <a:ext cx="2520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993920" y="3632040"/>
                <a:ext cx="25200" cy="11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4993920" y="3851280"/>
                <a:ext cx="25200" cy="11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4993920" y="4070520"/>
                <a:ext cx="25200" cy="11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993920" y="4289400"/>
                <a:ext cx="25200" cy="11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4993920" y="4513320"/>
                <a:ext cx="2520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4993920" y="4732200"/>
                <a:ext cx="25200" cy="109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4993920" y="4951440"/>
                <a:ext cx="2520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4993920" y="5172120"/>
                <a:ext cx="2520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4993920" y="5391000"/>
                <a:ext cx="25200" cy="109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4993920" y="5610240"/>
                <a:ext cx="2520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4993920" y="5829480"/>
                <a:ext cx="25200" cy="11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4993920" y="6048360"/>
                <a:ext cx="2520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7002360" y="1878120"/>
                <a:ext cx="2808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7002360" y="2097000"/>
                <a:ext cx="28080" cy="109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002360" y="2316240"/>
                <a:ext cx="2808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7002360" y="2535120"/>
                <a:ext cx="28080" cy="109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7002360" y="2754360"/>
                <a:ext cx="2808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002360" y="3193920"/>
                <a:ext cx="28080" cy="108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7002360" y="3413160"/>
                <a:ext cx="2808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002360" y="3632040"/>
                <a:ext cx="28080" cy="11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002360" y="3851280"/>
                <a:ext cx="28080" cy="11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002360" y="4070520"/>
                <a:ext cx="28080" cy="11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002360" y="4289400"/>
                <a:ext cx="28080" cy="114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002360" y="4513320"/>
                <a:ext cx="2808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7002360" y="4732200"/>
                <a:ext cx="28080" cy="109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002360" y="4951440"/>
                <a:ext cx="2808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002360" y="5172120"/>
                <a:ext cx="2808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7002360" y="5391000"/>
                <a:ext cx="28080" cy="109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7002360" y="5610240"/>
                <a:ext cx="2808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002360" y="5829480"/>
                <a:ext cx="28080" cy="11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002360" y="6048360"/>
                <a:ext cx="28080" cy="8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8448480" y="187020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3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3" y="6"/>
                    </a:lnTo>
                    <a:lnTo>
                      <a:pt x="0" y="3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2512800" y="20923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4" y="0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7" y="3"/>
                    </a:lnTo>
                    <a:lnTo>
                      <a:pt x="4" y="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2498400" y="6637320"/>
                <a:ext cx="5960880" cy="23760"/>
              </a:xfrm>
              <a:custGeom>
                <a:avLst/>
                <a:gdLst/>
                <a:ahLst/>
                <a:rect l="l" t="t" r="r" b="b"/>
                <a:pathLst>
                  <a:path w="1739" h="7">
                    <a:moveTo>
                      <a:pt x="0" y="0"/>
                    </a:moveTo>
                    <a:lnTo>
                      <a:pt x="0" y="6"/>
                    </a:lnTo>
                    <a:lnTo>
                      <a:pt x="434" y="6"/>
                    </a:lnTo>
                    <a:lnTo>
                      <a:pt x="869" y="6"/>
                    </a:lnTo>
                    <a:lnTo>
                      <a:pt x="1304" y="6"/>
                    </a:lnTo>
                    <a:lnTo>
                      <a:pt x="1739" y="7"/>
                    </a:lnTo>
                    <a:lnTo>
                      <a:pt x="1739" y="1"/>
                    </a:lnTo>
                    <a:lnTo>
                      <a:pt x="1304" y="0"/>
                    </a:lnTo>
                    <a:lnTo>
                      <a:pt x="869" y="0"/>
                    </a:lnTo>
                    <a:lnTo>
                      <a:pt x="434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2485800" y="6637320"/>
                <a:ext cx="21960" cy="205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3"/>
                    </a:moveTo>
                    <a:lnTo>
                      <a:pt x="0" y="6"/>
                    </a:lnTo>
                    <a:lnTo>
                      <a:pt x="4" y="6"/>
                    </a:lnTo>
                    <a:lnTo>
                      <a:pt x="4" y="0"/>
                    </a:lnTo>
                    <a:lnTo>
                      <a:pt x="7" y="3"/>
                    </a:lnTo>
                    <a:lnTo>
                      <a:pt x="0" y="3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8448480" y="664056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3" y="6"/>
                    </a:moveTo>
                    <a:lnTo>
                      <a:pt x="6" y="6"/>
                    </a:lnTo>
                    <a:lnTo>
                      <a:pt x="6" y="3"/>
                    </a:lnTo>
                    <a:lnTo>
                      <a:pt x="0" y="3"/>
                    </a:lnTo>
                    <a:lnTo>
                      <a:pt x="3" y="0"/>
                    </a:lnTo>
                    <a:lnTo>
                      <a:pt x="3" y="6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295680" y="5380200"/>
                <a:ext cx="10800" cy="109440"/>
              </a:xfrm>
              <a:custGeom>
                <a:avLst/>
                <a:gdLst/>
                <a:ahLst/>
                <a:rect l="l" t="t" r="r" b="b"/>
                <a:pathLst>
                  <a:path w="3" h="32">
                    <a:moveTo>
                      <a:pt x="2" y="0"/>
                    </a:moveTo>
                    <a:lnTo>
                      <a:pt x="0" y="0"/>
                    </a:lnTo>
                    <a:lnTo>
                      <a:pt x="1" y="32"/>
                    </a:lnTo>
                    <a:lnTo>
                      <a:pt x="3" y="3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4357440" y="2278080"/>
                <a:ext cx="4320" cy="11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357440" y="2496960"/>
                <a:ext cx="4320" cy="11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4357440" y="2716200"/>
                <a:ext cx="4320" cy="11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4357440" y="2935440"/>
                <a:ext cx="4320" cy="11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4357440" y="3156120"/>
                <a:ext cx="432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4357440" y="3376440"/>
                <a:ext cx="4320" cy="108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4357440" y="3595680"/>
                <a:ext cx="4320" cy="108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357440" y="3814920"/>
                <a:ext cx="4320" cy="107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4357440" y="4033800"/>
                <a:ext cx="4320" cy="1080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357440" y="4253040"/>
                <a:ext cx="4320" cy="112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4357440" y="4475160"/>
                <a:ext cx="4320" cy="1094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4357440" y="4694400"/>
                <a:ext cx="4320" cy="11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4357440" y="4913280"/>
                <a:ext cx="4320" cy="11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4357440" y="5132520"/>
                <a:ext cx="4320" cy="11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4357440" y="5351400"/>
                <a:ext cx="4320" cy="11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4357440" y="5570640"/>
                <a:ext cx="4320" cy="1108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4357440" y="5789520"/>
                <a:ext cx="4320" cy="1112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4357440" y="6012000"/>
                <a:ext cx="4320" cy="107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4357440" y="6230880"/>
                <a:ext cx="4320" cy="2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563800" y="2997360"/>
                <a:ext cx="25200" cy="187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3" y="0"/>
                    </a:moveTo>
                    <a:lnTo>
                      <a:pt x="8" y="3"/>
                    </a:lnTo>
                    <a:lnTo>
                      <a:pt x="3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419440" y="3062160"/>
                <a:ext cx="20160" cy="208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5"/>
                    </a:moveTo>
                    <a:lnTo>
                      <a:pt x="3" y="6"/>
                    </a:lnTo>
                    <a:lnTo>
                      <a:pt x="0" y="1"/>
                    </a:lnTo>
                    <a:lnTo>
                      <a:pt x="3" y="0"/>
                    </a:lnTo>
                    <a:lnTo>
                      <a:pt x="6" y="5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419440" y="2925720"/>
                <a:ext cx="20160" cy="205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1"/>
                    </a:moveTo>
                    <a:lnTo>
                      <a:pt x="3" y="0"/>
                    </a:lnTo>
                    <a:lnTo>
                      <a:pt x="0" y="5"/>
                    </a:lnTo>
                    <a:lnTo>
                      <a:pt x="3" y="6"/>
                    </a:lnTo>
                    <a:lnTo>
                      <a:pt x="6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4490640" y="2311560"/>
                <a:ext cx="6120" cy="4104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0" y="0"/>
                    </a:moveTo>
                    <a:lnTo>
                      <a:pt x="1" y="0"/>
                    </a:lnTo>
                    <a:lnTo>
                      <a:pt x="1" y="12"/>
                    </a:lnTo>
                    <a:lnTo>
                      <a:pt x="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4860720" y="2311560"/>
                <a:ext cx="6120" cy="41040"/>
              </a:xfrm>
              <a:custGeom>
                <a:avLst/>
                <a:gdLst/>
                <a:ahLst/>
                <a:rect l="l" t="t" r="r" b="b"/>
                <a:pathLst>
                  <a:path w="2" h="12">
                    <a:moveTo>
                      <a:pt x="1" y="0"/>
                    </a:moveTo>
                    <a:lnTo>
                      <a:pt x="2" y="0"/>
                    </a:lnTo>
                    <a:lnTo>
                      <a:pt x="0" y="12"/>
                    </a:lnTo>
                    <a:lnTo>
                      <a:pt x="1" y="1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4924080" y="2411280"/>
                <a:ext cx="41040" cy="792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0"/>
                    </a:moveTo>
                    <a:lnTo>
                      <a:pt x="12" y="1"/>
                    </a:lnTo>
                    <a:lnTo>
                      <a:pt x="0" y="1"/>
                    </a:lnTo>
                    <a:lnTo>
                      <a:pt x="0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924080" y="5802480"/>
                <a:ext cx="41040" cy="6120"/>
              </a:xfrm>
              <a:custGeom>
                <a:avLst/>
                <a:gdLst/>
                <a:ahLst/>
                <a:rect l="l" t="t" r="r" b="b"/>
                <a:pathLst>
                  <a:path w="12" h="2">
                    <a:moveTo>
                      <a:pt x="12" y="1"/>
                    </a:moveTo>
                    <a:lnTo>
                      <a:pt x="12" y="2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2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4857480" y="5867280"/>
                <a:ext cx="9360" cy="4140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3" y="12"/>
                    </a:moveTo>
                    <a:lnTo>
                      <a:pt x="2" y="12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3" y="1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485960" y="58672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3" h="12">
                    <a:moveTo>
                      <a:pt x="2" y="12"/>
                    </a:moveTo>
                    <a:lnTo>
                      <a:pt x="0" y="12"/>
                    </a:lnTo>
                    <a:lnTo>
                      <a:pt x="3" y="1"/>
                    </a:lnTo>
                    <a:lnTo>
                      <a:pt x="2" y="0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90920" y="5802480"/>
                <a:ext cx="40680" cy="792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3"/>
                    </a:moveTo>
                    <a:lnTo>
                      <a:pt x="0" y="1"/>
                    </a:lnTo>
                    <a:lnTo>
                      <a:pt x="12" y="1"/>
                    </a:lnTo>
                    <a:lnTo>
                      <a:pt x="11" y="0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90920" y="2411280"/>
                <a:ext cx="40680" cy="11160"/>
              </a:xfrm>
              <a:custGeom>
                <a:avLst/>
                <a:gdLst/>
                <a:ahLst/>
                <a:rect l="l" t="t" r="r" b="b"/>
                <a:pathLst>
                  <a:path w="12" h="3">
                    <a:moveTo>
                      <a:pt x="0" y="1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2" y="1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443800" y="1878120"/>
                <a:ext cx="28080" cy="270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443800" y="6637320"/>
                <a:ext cx="28080" cy="284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4"/>
                    </a:moveTo>
                    <a:lnTo>
                      <a:pt x="8" y="8"/>
                    </a:lnTo>
                    <a:lnTo>
                      <a:pt x="4" y="8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8" y="4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2474640" y="6637320"/>
                <a:ext cx="31320" cy="284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4" y="8"/>
                    </a:moveTo>
                    <a:lnTo>
                      <a:pt x="0" y="8"/>
                    </a:lnTo>
                    <a:lnTo>
                      <a:pt x="0" y="4"/>
                    </a:lnTo>
                    <a:lnTo>
                      <a:pt x="9" y="4"/>
                    </a:lnTo>
                    <a:lnTo>
                      <a:pt x="4" y="0"/>
                    </a:lnTo>
                    <a:lnTo>
                      <a:pt x="4" y="8"/>
                    </a:ln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2501640" y="2100240"/>
                <a:ext cx="31320" cy="270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4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8"/>
                    </a:lnTo>
                    <a:lnTo>
                      <a:pt x="9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3" name=""/>
              <p:cNvGrpSpPr/>
              <p:nvPr/>
            </p:nvGrpSpPr>
            <p:grpSpPr>
              <a:xfrm>
                <a:off x="2590560" y="1905120"/>
                <a:ext cx="1065960" cy="380880"/>
                <a:chOff x="2590560" y="1905120"/>
                <a:chExt cx="1065960" cy="380880"/>
              </a:xfrm>
            </p:grpSpPr>
            <p:sp>
              <p:nvSpPr>
                <p:cNvPr id="1504" name=""/>
                <p:cNvSpPr/>
                <p:nvPr/>
              </p:nvSpPr>
              <p:spPr>
                <a:xfrm>
                  <a:off x="2590560" y="1905120"/>
                  <a:ext cx="837720" cy="3808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2666520" y="1905120"/>
                  <a:ext cx="99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Inici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6" name=""/>
              <p:cNvGrpSpPr/>
              <p:nvPr/>
            </p:nvGrpSpPr>
            <p:grpSpPr>
              <a:xfrm>
                <a:off x="3733560" y="1905120"/>
                <a:ext cx="1371240" cy="380880"/>
                <a:chOff x="3733560" y="1905120"/>
                <a:chExt cx="1371240" cy="380880"/>
              </a:xfrm>
            </p:grpSpPr>
            <p:sp>
              <p:nvSpPr>
                <p:cNvPr id="1507" name=""/>
                <p:cNvSpPr/>
                <p:nvPr/>
              </p:nvSpPr>
              <p:spPr>
                <a:xfrm>
                  <a:off x="3733560" y="1905120"/>
                  <a:ext cx="1218960" cy="3808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8" name=""/>
                <p:cNvSpPr/>
                <p:nvPr/>
              </p:nvSpPr>
              <p:spPr>
                <a:xfrm>
                  <a:off x="3733560" y="1905120"/>
                  <a:ext cx="1371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Elaboració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9" name=""/>
              <p:cNvGrpSpPr/>
              <p:nvPr/>
            </p:nvGrpSpPr>
            <p:grpSpPr>
              <a:xfrm>
                <a:off x="5333760" y="1905120"/>
                <a:ext cx="1523520" cy="380880"/>
                <a:chOff x="5333760" y="1905120"/>
                <a:chExt cx="1523520" cy="380880"/>
              </a:xfrm>
            </p:grpSpPr>
            <p:sp>
              <p:nvSpPr>
                <p:cNvPr id="1510" name=""/>
                <p:cNvSpPr/>
                <p:nvPr/>
              </p:nvSpPr>
              <p:spPr>
                <a:xfrm>
                  <a:off x="5333760" y="1905120"/>
                  <a:ext cx="1371240" cy="3808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5333760" y="1905120"/>
                  <a:ext cx="152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Construcció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2" name=""/>
              <p:cNvGrpSpPr/>
              <p:nvPr/>
            </p:nvGrpSpPr>
            <p:grpSpPr>
              <a:xfrm>
                <a:off x="7086240" y="1905120"/>
                <a:ext cx="1523880" cy="380880"/>
                <a:chOff x="7086240" y="1905120"/>
                <a:chExt cx="1523880" cy="380880"/>
              </a:xfrm>
            </p:grpSpPr>
            <p:sp>
              <p:nvSpPr>
                <p:cNvPr id="1513" name=""/>
                <p:cNvSpPr/>
                <p:nvPr/>
              </p:nvSpPr>
              <p:spPr>
                <a:xfrm>
                  <a:off x="7086240" y="1905120"/>
                  <a:ext cx="1218960" cy="3808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4" name=""/>
                <p:cNvSpPr/>
                <p:nvPr/>
              </p:nvSpPr>
              <p:spPr>
                <a:xfrm>
                  <a:off x="7086240" y="1905120"/>
                  <a:ext cx="15238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ransició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15" name=""/>
              <p:cNvSpPr/>
              <p:nvPr/>
            </p:nvSpPr>
            <p:spPr>
              <a:xfrm>
                <a:off x="2057400" y="617220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Iteraciones: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133360" y="1828800"/>
                <a:ext cx="6324120" cy="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133360" y="6629400"/>
                <a:ext cx="6324120" cy="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2133360" y="1828800"/>
                <a:ext cx="0" cy="480060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8457840" y="1828800"/>
                <a:ext cx="0" cy="4800600"/>
              </a:xfrm>
              <a:prstGeom prst="line">
                <a:avLst/>
              </a:prstGeom>
              <a:ln w="57240">
                <a:solidFill>
                  <a:srgbClr val="b2b2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0" name=""/>
            <p:cNvSpPr/>
            <p:nvPr/>
          </p:nvSpPr>
          <p:spPr>
            <a:xfrm flipH="1">
              <a:off x="3200040" y="1523880"/>
              <a:ext cx="167652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>
              <a:off x="4495320" y="1523880"/>
              <a:ext cx="38124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876920" y="1523880"/>
              <a:ext cx="106668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4876920" y="1523880"/>
              <a:ext cx="2895480" cy="38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838080" y="2057400"/>
              <a:ext cx="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8F5-A3F8-4F09-857F-2E6B7961E1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 CV del proceso unificad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6" name=""/>
          <p:cNvSpPr/>
          <p:nvPr/>
        </p:nvSpPr>
        <p:spPr>
          <a:xfrm>
            <a:off x="8153280" y="4340160"/>
            <a:ext cx="838440" cy="841320"/>
          </a:xfrm>
          <a:prstGeom prst="cube">
            <a:avLst>
              <a:gd name="adj" fmla="val 25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371600" y="4952880"/>
            <a:ext cx="228600" cy="228600"/>
          </a:xfrm>
          <a:prstGeom prst="cube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04920" y="4543560"/>
            <a:ext cx="976320" cy="866520"/>
          </a:xfrm>
          <a:prstGeom prst="rightArrow">
            <a:avLst>
              <a:gd name="adj1" fmla="val 50000"/>
              <a:gd name="adj2" fmla="val 281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teración #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90560" y="4572000"/>
            <a:ext cx="976320" cy="866880"/>
          </a:xfrm>
          <a:prstGeom prst="rightArrow">
            <a:avLst>
              <a:gd name="adj1" fmla="val 50000"/>
              <a:gd name="adj2" fmla="val 2815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teración #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2743200" y="4419720"/>
            <a:ext cx="457200" cy="76176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3367080" y="4543560"/>
            <a:ext cx="976320" cy="866520"/>
          </a:xfrm>
          <a:prstGeom prst="rightArrow">
            <a:avLst>
              <a:gd name="adj1" fmla="val 50000"/>
              <a:gd name="adj2" fmla="val 28168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lab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teración #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4277880" y="487692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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4952880" y="4543560"/>
            <a:ext cx="1067040" cy="866520"/>
          </a:xfrm>
          <a:prstGeom prst="rightArrow">
            <a:avLst>
              <a:gd name="adj1" fmla="val 50000"/>
              <a:gd name="adj2" fmla="val 3078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nstr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teración #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6934320" y="4572000"/>
            <a:ext cx="1066680" cy="866880"/>
          </a:xfrm>
          <a:prstGeom prst="rightArrow">
            <a:avLst>
              <a:gd name="adj1" fmla="val 50000"/>
              <a:gd name="adj2" fmla="val 307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ran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teración #n-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6095880" y="4419720"/>
            <a:ext cx="685800" cy="761760"/>
          </a:xfrm>
          <a:prstGeom prst="cube">
            <a:avLst>
              <a:gd name="adj" fmla="val 25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Prd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Narrow"/>
              </a:rPr>
              <a:t>fn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 rot="5400000">
            <a:off x="1295280" y="4341960"/>
            <a:ext cx="228600" cy="2362320"/>
          </a:xfrm>
          <a:custGeom>
            <a:avLst/>
            <a:gdLst>
              <a:gd name="textAreaLeft" fmla="*/ 0 w 228600"/>
              <a:gd name="textAreaRight" fmla="*/ 82440 w 228600"/>
              <a:gd name="textAreaTop" fmla="*/ 61560 h 2362320"/>
              <a:gd name="textAreaBottom" fmla="*/ 230076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rot="16200000">
            <a:off x="3695760" y="4838760"/>
            <a:ext cx="380880" cy="1371600"/>
          </a:xfrm>
          <a:custGeom>
            <a:avLst/>
            <a:gdLst>
              <a:gd name="textAreaLeft" fmla="*/ 243360 w 380880"/>
              <a:gd name="textAreaRight" fmla="*/ 381240 w 3808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62"/>
                </a:lnTo>
                <a:cubicBezTo>
                  <a:pt x="10800" y="9862"/>
                  <a:pt x="5400" y="10762"/>
                  <a:pt x="0" y="10762"/>
                </a:cubicBezTo>
                <a:cubicBezTo>
                  <a:pt x="5400" y="10762"/>
                  <a:pt x="10800" y="11662"/>
                  <a:pt x="10800" y="125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1150920" y="57150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Inici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430800" y="5715000"/>
            <a:ext cx="94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Elabo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 rot="16200000">
            <a:off x="5219640" y="491436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62"/>
                </a:lnTo>
                <a:cubicBezTo>
                  <a:pt x="10800" y="9862"/>
                  <a:pt x="5400" y="10762"/>
                  <a:pt x="0" y="10762"/>
                </a:cubicBezTo>
                <a:cubicBezTo>
                  <a:pt x="5400" y="10762"/>
                  <a:pt x="10800" y="11662"/>
                  <a:pt x="10800" y="125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802400" y="571500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Constr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011720" y="5715000"/>
            <a:ext cx="8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Narrow"/>
              </a:rPr>
              <a:t>Trans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rot="16200000">
            <a:off x="7200720" y="4914360"/>
            <a:ext cx="228600" cy="12189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8960"/>
              <a:gd name="textAreaBottom" fmla="*/ 1187280 h 1218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62"/>
                </a:lnTo>
                <a:cubicBezTo>
                  <a:pt x="10800" y="9862"/>
                  <a:pt x="5400" y="10762"/>
                  <a:pt x="0" y="10762"/>
                </a:cubicBezTo>
                <a:cubicBezTo>
                  <a:pt x="5400" y="10762"/>
                  <a:pt x="10800" y="11662"/>
                  <a:pt x="10800" y="125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657600" y="2438280"/>
            <a:ext cx="1905120" cy="314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864" y="8100"/>
                </a:moveTo>
                <a:lnTo>
                  <a:pt x="-27810" y="8100"/>
                </a:lnTo>
                <a:lnTo>
                  <a:pt x="-27810" y="126900"/>
                </a:lnTo>
                <a:lnTo>
                  <a:pt x="-24894" y="160200"/>
                </a:lnTo>
              </a:path>
              <a:path w="21600" h="21600">
                <a:moveTo>
                  <a:pt x="-864" y="0"/>
                </a:moveTo>
                <a:lnTo>
                  <a:pt x="-864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246480" y="2133720"/>
            <a:ext cx="3155400" cy="94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Versiones del produ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N CONSTR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6" name=""/>
          <p:cNvCxnSpPr>
            <a:stCxn id="1545" idx="2"/>
            <a:endCxn id="1530" idx="0"/>
          </p:cNvCxnSpPr>
          <p:nvPr/>
        </p:nvCxnSpPr>
        <p:spPr>
          <a:xfrm rot="5400000">
            <a:off x="3313080" y="2908800"/>
            <a:ext cx="1226520" cy="1796040"/>
          </a:xfrm>
          <a:prstGeom prst="bentConnector3">
            <a:avLst>
              <a:gd name="adj1" fmla="val 48443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47" name=""/>
          <p:cNvCxnSpPr>
            <a:stCxn id="1545" idx="3"/>
            <a:endCxn id="1535" idx="0"/>
          </p:cNvCxnSpPr>
          <p:nvPr/>
        </p:nvCxnSpPr>
        <p:spPr>
          <a:xfrm>
            <a:off x="6482880" y="2644920"/>
            <a:ext cx="41760" cy="17755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8" name=""/>
          <p:cNvSpPr/>
          <p:nvPr/>
        </p:nvSpPr>
        <p:spPr>
          <a:xfrm>
            <a:off x="1168200" y="6093000"/>
            <a:ext cx="668052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UEVA VERSIÓN DEL PRODUCTO (en este C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V="1">
            <a:off x="7956720" y="5300280"/>
            <a:ext cx="360360" cy="86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881-D43B-46C9-BB8D-546E3CF468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 producto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del proceso unificado)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64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 ES SÓLO CÓDIGO EJECUTABL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ON LOS MODELOS O REPRESENTACIÓN DEL SOFTWAR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DEBE AJUSTARSE A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ODAS LAS PERSONAS IMPLICADA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3B79-9B53-4D3F-9883-888EF2BE880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ses dentro del CV del proceso unificad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ASE: PARTE DE UN CV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ADA FASE TERMINA EN UN HIT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HAY ARTEFACTOS DISPONIBLES (SEGÚN LO PLANIFICADO)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LOS RESULTADOS EN LOS HITOS PERMITEN GESTIONAR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F0C-F828-4557-9351-5E6DFD843E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"/>
          <p:cNvSpPr/>
          <p:nvPr/>
        </p:nvSpPr>
        <p:spPr>
          <a:xfrm>
            <a:off x="228600" y="2286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ses dentro del CV del proceso unific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0" y="1700280"/>
            <a:ext cx="9144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ICIACIÓN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SCRIBIR PRODUCTO FINAL / ANÁLISIS D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DENTIFICAR RIESGOS MÁS IMPORTA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TABLECER PLANIFICACIÓN INICIAL D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IR SI SE CONTINÚ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LABORACIÓN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3880" indent="-2397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TABLECER PLAN Y ARQUITECTURA ES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STRUCCIÓN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ESARROLLAR 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NSICIÓN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PROPORCIONAR SISTEMA A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3D0-5FD1-4536-BF59-85325ADC33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eracio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ADA FASE SE DIVIDE EN ITERACIONE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CADA ITERACIÓN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557280" indent="-21420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MINIPROYECTO (EN CASCADA) QUE EJECUTA FLUJOS DE TRABAJ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557280" indent="-21420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PRODUCE UN INCREMENTO EN PRODUCT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857160" indent="-17136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AL Y COMO ESTABA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257040" indent="-257040"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SE REDUCE EL RIESG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557280" indent="-21420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SE PUEDE PERDER SÓLO LO REALIZADO EN ESA ITERACIÓ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E842-4D9C-4847-B673-9838E34177D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eracio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559" name=""/>
          <p:cNvGrpSpPr/>
          <p:nvPr/>
        </p:nvGrpSpPr>
        <p:grpSpPr>
          <a:xfrm>
            <a:off x="-360" y="1981080"/>
            <a:ext cx="8992080" cy="3429000"/>
            <a:chOff x="-360" y="1981080"/>
            <a:chExt cx="8992080" cy="3429000"/>
          </a:xfrm>
        </p:grpSpPr>
        <p:sp>
          <p:nvSpPr>
            <p:cNvPr id="1560" name=""/>
            <p:cNvSpPr/>
            <p:nvPr/>
          </p:nvSpPr>
          <p:spPr>
            <a:xfrm>
              <a:off x="3276720" y="198108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276720" y="2742840"/>
              <a:ext cx="175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5029200" y="19810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>
              <a:off x="5028840" y="236196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276720" y="198108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3276360" y="236196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3581640" y="220968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TERACIÓN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28600" y="47995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QUISI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1828800" y="4799520"/>
              <a:ext cx="16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NÁLISI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3429000" y="479952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ISEÑ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800600" y="4799520"/>
              <a:ext cx="251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IMPLE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467840" y="4799520"/>
              <a:ext cx="15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UEB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152640" y="3503880"/>
              <a:ext cx="2743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LANIFICACIÓN DE LA ITE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3" name=""/>
            <p:cNvGrpSpPr/>
            <p:nvPr/>
          </p:nvGrpSpPr>
          <p:grpSpPr>
            <a:xfrm>
              <a:off x="0" y="3504960"/>
              <a:ext cx="304560" cy="762120"/>
              <a:chOff x="0" y="3504960"/>
              <a:chExt cx="304560" cy="762120"/>
            </a:xfrm>
          </p:grpSpPr>
          <p:sp>
            <p:nvSpPr>
              <p:cNvPr id="1574" name=""/>
              <p:cNvSpPr/>
              <p:nvPr/>
            </p:nvSpPr>
            <p:spPr>
              <a:xfrm>
                <a:off x="0" y="3504960"/>
                <a:ext cx="3045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 flipH="1">
                <a:off x="0" y="3885840"/>
                <a:ext cx="3045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6" name=""/>
            <p:cNvGrpSpPr/>
            <p:nvPr/>
          </p:nvGrpSpPr>
          <p:grpSpPr>
            <a:xfrm>
              <a:off x="2819520" y="3504960"/>
              <a:ext cx="304560" cy="762120"/>
              <a:chOff x="2819520" y="3504960"/>
              <a:chExt cx="304560" cy="762120"/>
            </a:xfrm>
          </p:grpSpPr>
          <p:sp>
            <p:nvSpPr>
              <p:cNvPr id="1577" name=""/>
              <p:cNvSpPr/>
              <p:nvPr/>
            </p:nvSpPr>
            <p:spPr>
              <a:xfrm>
                <a:off x="2819520" y="3504960"/>
                <a:ext cx="3045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 flipH="1">
                <a:off x="2819520" y="3885840"/>
                <a:ext cx="3045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9" name=""/>
            <p:cNvSpPr/>
            <p:nvPr/>
          </p:nvSpPr>
          <p:spPr>
            <a:xfrm>
              <a:off x="0" y="350496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0" y="4267080"/>
              <a:ext cx="281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019920" y="3503880"/>
              <a:ext cx="27432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VALUACIÓN DE LA ITER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2" name=""/>
            <p:cNvGrpSpPr/>
            <p:nvPr/>
          </p:nvGrpSpPr>
          <p:grpSpPr>
            <a:xfrm>
              <a:off x="5791320" y="3428640"/>
              <a:ext cx="304560" cy="762120"/>
              <a:chOff x="5791320" y="3428640"/>
              <a:chExt cx="304560" cy="762120"/>
            </a:xfrm>
          </p:grpSpPr>
          <p:sp>
            <p:nvSpPr>
              <p:cNvPr id="1583" name=""/>
              <p:cNvSpPr/>
              <p:nvPr/>
            </p:nvSpPr>
            <p:spPr>
              <a:xfrm>
                <a:off x="5791320" y="3428640"/>
                <a:ext cx="3045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 flipH="1">
                <a:off x="5791320" y="3809520"/>
                <a:ext cx="3045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5" name=""/>
            <p:cNvGrpSpPr/>
            <p:nvPr/>
          </p:nvGrpSpPr>
          <p:grpSpPr>
            <a:xfrm>
              <a:off x="8534520" y="3428640"/>
              <a:ext cx="304560" cy="762120"/>
              <a:chOff x="8534520" y="3428640"/>
              <a:chExt cx="304560" cy="762120"/>
            </a:xfrm>
          </p:grpSpPr>
          <p:sp>
            <p:nvSpPr>
              <p:cNvPr id="1586" name=""/>
              <p:cNvSpPr/>
              <p:nvPr/>
            </p:nvSpPr>
            <p:spPr>
              <a:xfrm>
                <a:off x="8534520" y="3428640"/>
                <a:ext cx="304560" cy="38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 flipH="1">
                <a:off x="8534520" y="3809520"/>
                <a:ext cx="3045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8" name=""/>
            <p:cNvSpPr/>
            <p:nvPr/>
          </p:nvSpPr>
          <p:spPr>
            <a:xfrm>
              <a:off x="5791320" y="342864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791320" y="4190760"/>
              <a:ext cx="274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0" y="464796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-360" y="502884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1600200" y="464796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>
              <a:off x="1599840" y="502884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752840" y="46479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>
              <a:off x="1752840" y="502884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048120" y="464796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>
              <a:off x="3047760" y="502884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0" y="464796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0" y="54100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752840" y="464796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1752840" y="5410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200400" y="464796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>
              <a:off x="3200040" y="502884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419720" y="464796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4419360" y="502884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200400" y="54100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200400" y="46479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572000" y="464796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4571640" y="502884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086600" y="464796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>
              <a:off x="7086240" y="502884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572000" y="464796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572000" y="541008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239240" y="4647960"/>
              <a:ext cx="30456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>
              <a:off x="7239240" y="5028840"/>
              <a:ext cx="3045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686800" y="464796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>
              <a:off x="8686440" y="5028840"/>
              <a:ext cx="3049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239240" y="464796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239240" y="541008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2666880" y="2742840"/>
              <a:ext cx="1143000" cy="685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>
              <a:off x="1371600" y="4114440"/>
              <a:ext cx="2362320" cy="533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>
              <a:off x="3733560" y="2742840"/>
              <a:ext cx="152280" cy="13716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>
              <a:off x="2285640" y="4190760"/>
              <a:ext cx="1676520" cy="457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>
              <a:off x="3962160" y="2742840"/>
              <a:ext cx="152280" cy="144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>
              <a:off x="4114800" y="2742840"/>
              <a:ext cx="152640" cy="1905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4419720" y="2742840"/>
              <a:ext cx="838080" cy="1905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4876920" y="2819160"/>
              <a:ext cx="2438280" cy="60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 flipV="1">
              <a:off x="5333760" y="4190760"/>
              <a:ext cx="2438280" cy="4572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648320" y="2742840"/>
              <a:ext cx="762120" cy="1447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0" name=""/>
          <p:cNvSpPr/>
          <p:nvPr/>
        </p:nvSpPr>
        <p:spPr>
          <a:xfrm>
            <a:off x="686880" y="6252120"/>
            <a:ext cx="7730640" cy="398880"/>
          </a:xfrm>
          <a:prstGeom prst="rect">
            <a:avLst/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IDADES DE LOS FLUJOS DE TRABAJO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 rot="16200000">
            <a:off x="4267080" y="2209320"/>
            <a:ext cx="304920" cy="7620120"/>
          </a:xfrm>
          <a:custGeom>
            <a:avLst/>
            <a:gdLst>
              <a:gd name="textAreaLeft" fmla="*/ 194760 w 304920"/>
              <a:gd name="textAreaRight" fmla="*/ 305280 w 304920"/>
              <a:gd name="textAreaTop" fmla="*/ 198720 h 7620120"/>
              <a:gd name="textAreaBottom" fmla="*/ 7421400 h 762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562720" y="1294200"/>
            <a:ext cx="3352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o se puede ver, el Proceso Unificado de Desarrollo incluye actividades correspondientes a un Proceso de Gestión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C1F1-9189-48A1-BB2E-89782B748F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 proceso unificado de desarrollo de softwa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"/>
          <p:cNvSpPr/>
          <p:nvPr/>
        </p:nvSpPr>
        <p:spPr>
          <a:xfrm>
            <a:off x="7591320" y="5141880"/>
            <a:ext cx="7920" cy="10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591320" y="5361120"/>
            <a:ext cx="7920" cy="1076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91320" y="5580000"/>
            <a:ext cx="7920" cy="1080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591320" y="5799240"/>
            <a:ext cx="7920" cy="1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91320" y="6018120"/>
            <a:ext cx="792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00680" y="2481120"/>
            <a:ext cx="37800" cy="97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755640" y="3429000"/>
            <a:ext cx="8076960" cy="3432240"/>
            <a:chOff x="755640" y="3429000"/>
            <a:chExt cx="8076960" cy="3432240"/>
          </a:xfrm>
        </p:grpSpPr>
        <p:grpSp>
          <p:nvGrpSpPr>
            <p:cNvPr id="58" name=""/>
            <p:cNvGrpSpPr/>
            <p:nvPr/>
          </p:nvGrpSpPr>
          <p:grpSpPr>
            <a:xfrm>
              <a:off x="755640" y="4572000"/>
              <a:ext cx="2133360" cy="841320"/>
              <a:chOff x="755640" y="4572000"/>
              <a:chExt cx="2133360" cy="841320"/>
            </a:xfrm>
          </p:grpSpPr>
          <p:sp>
            <p:nvSpPr>
              <p:cNvPr id="59" name=""/>
              <p:cNvSpPr/>
              <p:nvPr/>
            </p:nvSpPr>
            <p:spPr>
              <a:xfrm>
                <a:off x="755640" y="4572000"/>
                <a:ext cx="2133360" cy="838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984240" y="4587840"/>
                <a:ext cx="16761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ICLO DE VID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3346560" y="3429000"/>
              <a:ext cx="2285640" cy="715320"/>
              <a:chOff x="3346560" y="3429000"/>
              <a:chExt cx="2285640" cy="715320"/>
            </a:xfrm>
          </p:grpSpPr>
          <p:sp>
            <p:nvSpPr>
              <p:cNvPr id="62" name=""/>
              <p:cNvSpPr/>
              <p:nvPr/>
            </p:nvSpPr>
            <p:spPr>
              <a:xfrm>
                <a:off x="3346560" y="3429000"/>
                <a:ext cx="2285640" cy="6854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591360" y="3440520"/>
                <a:ext cx="17960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PARTE DINÁMIC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" name=""/>
            <p:cNvGrpSpPr/>
            <p:nvPr/>
          </p:nvGrpSpPr>
          <p:grpSpPr>
            <a:xfrm>
              <a:off x="6470640" y="4724640"/>
              <a:ext cx="2361960" cy="605880"/>
              <a:chOff x="6470640" y="4724640"/>
              <a:chExt cx="2361960" cy="605880"/>
            </a:xfrm>
          </p:grpSpPr>
          <p:sp>
            <p:nvSpPr>
              <p:cNvPr id="65" name=""/>
              <p:cNvSpPr/>
              <p:nvPr/>
            </p:nvSpPr>
            <p:spPr>
              <a:xfrm>
                <a:off x="6470640" y="4724640"/>
                <a:ext cx="2361960" cy="605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706800" y="4824720"/>
                <a:ext cx="18565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INTERFAZ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3270240" y="6019920"/>
              <a:ext cx="2437920" cy="841320"/>
              <a:chOff x="3270240" y="6019920"/>
              <a:chExt cx="2437920" cy="841320"/>
            </a:xfrm>
          </p:grpSpPr>
          <p:sp>
            <p:nvSpPr>
              <p:cNvPr id="68" name=""/>
              <p:cNvSpPr/>
              <p:nvPr/>
            </p:nvSpPr>
            <p:spPr>
              <a:xfrm>
                <a:off x="3270240" y="6019920"/>
                <a:ext cx="2437920" cy="838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531240" y="6035760"/>
                <a:ext cx="1915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ARTE ESTÁTIC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489560" y="4114800"/>
              <a:ext cx="0" cy="3812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889360" y="5029200"/>
              <a:ext cx="6094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4489560" y="5639040"/>
              <a:ext cx="0" cy="3808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6240" y="5029200"/>
              <a:ext cx="838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75160" y="4570920"/>
              <a:ext cx="19047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ebe ofrecer un marco de trabajo genér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476360" y="1268280"/>
            <a:ext cx="6553080" cy="1955160"/>
            <a:chOff x="1476360" y="1268280"/>
            <a:chExt cx="6553080" cy="1955160"/>
          </a:xfrm>
        </p:grpSpPr>
        <p:sp>
          <p:nvSpPr>
            <p:cNvPr id="76" name=""/>
            <p:cNvSpPr/>
            <p:nvPr/>
          </p:nvSpPr>
          <p:spPr>
            <a:xfrm>
              <a:off x="1546200" y="1300680"/>
              <a:ext cx="62046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s un proceso ORIENTADO A OBJE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l proceso es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Guiado por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asos de uso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entrado en l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rquitec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n un ciclo de vida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terativo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ncremen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76360" y="1268280"/>
              <a:ext cx="6553080" cy="192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CB2A-15C4-4007-85EE-D35F5F75CB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ujos de trabaj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395280" y="1528560"/>
            <a:ext cx="8353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APTURA DE REQUISITOS: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IDENTIFICAR REQUISITOS DEL SISTEMA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ONSTRUIR UN MODELO DEL MISMO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DELO DE CASOS DE USO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ODELO DEL DOMINIO (o NEGOCIO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ANÁLISIS:</a:t>
            </a: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ESPECIFICAR REQUISITO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CONSTRUIR MODELO DEL ANÁLISIS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0F6-E1EB-40D2-94FC-9305BE2BAEF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"/>
          <p:cNvSpPr/>
          <p:nvPr/>
        </p:nvSpPr>
        <p:spPr>
          <a:xfrm>
            <a:off x="250920" y="-243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ujos de trabaj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0" y="765000"/>
            <a:ext cx="9468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EÑO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NCONTRAR LA FORMA DEL SISTEMA (SOLU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STRUIR MODELO DEL DIS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MPLEMENTACIÓN: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DIFICAR EL DISEÑO (SOLU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STRUIR MODELO DE IMPL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PRUEBAS: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VERIFICAR LA IMPLE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STRUIR MODELO DE PRUE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D634-F0A3-46B9-AD8E-D74C800B0F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ses: Iniciación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stablecer la planificación del proyecto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¿Qué va a hacer el sistema para cada uno de sus usuarios principales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n MCU simplificado con los CU más crític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¿Cómo sería la arquitectura para un sistema como ese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orrador con los subsistemas principale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¿Cuál es el plan y cuánto va a costar desarrollar el producto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dentificar los riesgos principales y priorizarlos, planificar elaboración y presupuesto aproximad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9" name=""/>
          <p:cNvSpPr/>
          <p:nvPr/>
        </p:nvSpPr>
        <p:spPr>
          <a:xfrm>
            <a:off x="0" y="0"/>
            <a:ext cx="3097080" cy="703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ANEX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A4A0-3B0F-4A65-B3B5-3910D741807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ses: Elaboración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Establecer un plan para el proyecto y una arquitectura correct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pecificar en detalle los CU + crític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iseñar la arquitectur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diante vistas de todos los modelos del SI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23976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sta arquitectónica de MCU, M. Análisis, M. Diseño, M. Implementación (con los componentes que demuestran que la arquitectura es ejecutable) y M. Distribución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Al final de esta fase se debe poder planificar las actividades y estimar los recursos para poder completar el proyecto. ¿Son los CU, arquitectura y planes lo suficientemente estables y los riesgos bajo control suficiente para firmar un contrato para terminar el trabajo de desarrollo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2" name=""/>
          <p:cNvSpPr/>
          <p:nvPr/>
        </p:nvSpPr>
        <p:spPr>
          <a:xfrm>
            <a:off x="0" y="0"/>
            <a:ext cx="3097080" cy="703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ANEX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FC4-9289-4CB4-BCFA-413F952C377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ses: Construcción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Desarrollar el sistema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-360" y="184464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 construye el producto. En esta fas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 arquitectura se completa para construir un sistema bien cimentad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 visión evoluciona hasta convertirse en un producto preparado para los usuari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s donde se gastan la mayoría de los recurso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La arquitectura del sistema es estable. Sin embargo, se pueden realizar cambios mínimos a la misma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¿El producto se ajusta suficientemente a las necesidades de los usuarios de algunos usuarios como para enviarselo ya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5" name=""/>
          <p:cNvSpPr/>
          <p:nvPr/>
        </p:nvSpPr>
        <p:spPr>
          <a:xfrm>
            <a:off x="0" y="0"/>
            <a:ext cx="3097080" cy="703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ANEX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FF1-C3F1-41D6-9E57-5739F47490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ses: Transición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Proporcionar el sistema a los usuarios finale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l producto se encuentra en fase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beta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 grupo reducido de usuarios experimentados prueba el producto e informa de los defectos y deficiencias y sugieren mejoras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s desarrolladores corrigen las deficiencias e incorporan algunas de las mejoras propuestas en una versión para un grupo de usuarios mayor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n esta fase se encuentran actividades como la venta, formación de los usuarios, ofrecimiento de ayuda en línea y corrección de defectos descubiertos tras la implantación. Los defectos: (1) los que justifican la aparición de una nueva versión del sistema, (2) los que se pueden dejar para la siguiente versión que se cree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8" name=""/>
          <p:cNvSpPr/>
          <p:nvPr/>
        </p:nvSpPr>
        <p:spPr>
          <a:xfrm>
            <a:off x="0" y="0"/>
            <a:ext cx="3097080" cy="703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Arial Narrow"/>
              </a:rPr>
              <a:t>ANEX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ABCB-78D2-473D-A1BF-C2944D301D7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 proceso unificado de desarrollo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920" y="1268280"/>
            <a:ext cx="8839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El Proceso Unificado de Desarrollo usa UM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017960" y="5083200"/>
            <a:ext cx="512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UNIFICADO DE DESARROLLO DE 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829080" y="2707200"/>
            <a:ext cx="6703560" cy="2134440"/>
            <a:chOff x="829080" y="2707200"/>
            <a:chExt cx="6703560" cy="2134440"/>
          </a:xfrm>
        </p:grpSpPr>
        <p:sp>
          <p:nvSpPr>
            <p:cNvPr id="82" name=""/>
            <p:cNvSpPr/>
            <p:nvPr/>
          </p:nvSpPr>
          <p:spPr>
            <a:xfrm>
              <a:off x="829080" y="2707200"/>
              <a:ext cx="85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027320" y="3317760"/>
              <a:ext cx="1390680" cy="58572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62480" y="3813120"/>
              <a:ext cx="26053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Herramient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397480" y="3813120"/>
              <a:ext cx="154296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Proces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6560" y="2746440"/>
              <a:ext cx="1745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Not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60440" y="2708280"/>
              <a:ext cx="6172200" cy="21333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817640" y="2936880"/>
              <a:ext cx="19810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1741320" y="4384080"/>
              <a:ext cx="990720" cy="2286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6008040" y="4308480"/>
              <a:ext cx="228600" cy="457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330120" y="4859280"/>
            <a:ext cx="3178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IONAL R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 PARADIG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EC3-5689-4A06-A70E-615F107F08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. Guiado por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 Black"/>
              </a:rPr>
              <a:t>casos de us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Los sistemas se crean para dar servicio a los 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usuarios.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Qué REQUISITOS se necesitan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lvl="1" marL="713160" indent="-274320">
              <a:spcBef>
                <a:spcPts val="9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Un CASO de USO es una pieza d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FUNCIONALIDAD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de un sistema que le proporciona a algú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USUARIO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 un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RESULTADO o VALOR</a:t>
            </a:r>
            <a:r>
              <a:rPr b="0" lang="en-US" sz="36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1E1B-AD3E-4349-ABE5-DB2B572E658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sos de us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odos juntos constituyen el </a:t>
            </a: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modelo de casos de uso (MCU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FUNCIONALIDAD COMPLETA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PARA TODOS LOS USUARIOS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E2E-9A13-449E-92B0-AAAD5D122C5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68360" y="189000"/>
          <a:ext cx="1073160" cy="217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89000"/>
                    <a:ext cx="107316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65200" y="3687840"/>
          <a:ext cx="77472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5200" y="3687840"/>
                    <a:ext cx="77472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7149960" y="4160880"/>
          <a:ext cx="1598760" cy="18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49960" y="4160880"/>
                    <a:ext cx="1598760" cy="18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7149960" y="851040"/>
          <a:ext cx="1522440" cy="1796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49960" y="851040"/>
                    <a:ext cx="1522440" cy="179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308320" y="755640"/>
            <a:ext cx="1452600" cy="662040"/>
          </a:xfrm>
          <a:custGeom>
            <a:avLst/>
            <a:gdLst/>
            <a:ahLst/>
            <a:rect l="l" t="t" r="r" b="b"/>
            <a:pathLst>
              <a:path w="613" h="306">
                <a:moveTo>
                  <a:pt x="0" y="152"/>
                </a:moveTo>
                <a:lnTo>
                  <a:pt x="2" y="136"/>
                </a:lnTo>
                <a:lnTo>
                  <a:pt x="7" y="120"/>
                </a:lnTo>
                <a:lnTo>
                  <a:pt x="16" y="104"/>
                </a:lnTo>
                <a:lnTo>
                  <a:pt x="28" y="88"/>
                </a:lnTo>
                <a:lnTo>
                  <a:pt x="44" y="74"/>
                </a:lnTo>
                <a:lnTo>
                  <a:pt x="62" y="60"/>
                </a:lnTo>
                <a:lnTo>
                  <a:pt x="83" y="48"/>
                </a:lnTo>
                <a:lnTo>
                  <a:pt x="107" y="36"/>
                </a:lnTo>
                <a:lnTo>
                  <a:pt x="134" y="26"/>
                </a:lnTo>
                <a:lnTo>
                  <a:pt x="163" y="17"/>
                </a:lnTo>
                <a:lnTo>
                  <a:pt x="193" y="10"/>
                </a:lnTo>
                <a:lnTo>
                  <a:pt x="225" y="5"/>
                </a:lnTo>
                <a:lnTo>
                  <a:pt x="256" y="1"/>
                </a:lnTo>
                <a:lnTo>
                  <a:pt x="290" y="0"/>
                </a:lnTo>
                <a:lnTo>
                  <a:pt x="323" y="0"/>
                </a:lnTo>
                <a:lnTo>
                  <a:pt x="356" y="1"/>
                </a:lnTo>
                <a:lnTo>
                  <a:pt x="388" y="5"/>
                </a:lnTo>
                <a:lnTo>
                  <a:pt x="420" y="10"/>
                </a:lnTo>
                <a:lnTo>
                  <a:pt x="450" y="17"/>
                </a:lnTo>
                <a:lnTo>
                  <a:pt x="478" y="26"/>
                </a:lnTo>
                <a:lnTo>
                  <a:pt x="505" y="36"/>
                </a:lnTo>
                <a:lnTo>
                  <a:pt x="529" y="48"/>
                </a:lnTo>
                <a:lnTo>
                  <a:pt x="550" y="60"/>
                </a:lnTo>
                <a:lnTo>
                  <a:pt x="569" y="74"/>
                </a:lnTo>
                <a:lnTo>
                  <a:pt x="585" y="88"/>
                </a:lnTo>
                <a:lnTo>
                  <a:pt x="597" y="104"/>
                </a:lnTo>
                <a:lnTo>
                  <a:pt x="606" y="120"/>
                </a:lnTo>
                <a:lnTo>
                  <a:pt x="611" y="136"/>
                </a:lnTo>
                <a:lnTo>
                  <a:pt x="613" y="152"/>
                </a:lnTo>
                <a:lnTo>
                  <a:pt x="611" y="170"/>
                </a:lnTo>
                <a:lnTo>
                  <a:pt x="606" y="186"/>
                </a:lnTo>
                <a:lnTo>
                  <a:pt x="597" y="202"/>
                </a:lnTo>
                <a:lnTo>
                  <a:pt x="585" y="217"/>
                </a:lnTo>
                <a:lnTo>
                  <a:pt x="569" y="232"/>
                </a:lnTo>
                <a:lnTo>
                  <a:pt x="550" y="246"/>
                </a:lnTo>
                <a:lnTo>
                  <a:pt x="529" y="258"/>
                </a:lnTo>
                <a:lnTo>
                  <a:pt x="505" y="270"/>
                </a:lnTo>
                <a:lnTo>
                  <a:pt x="478" y="280"/>
                </a:lnTo>
                <a:lnTo>
                  <a:pt x="450" y="288"/>
                </a:lnTo>
                <a:lnTo>
                  <a:pt x="420" y="296"/>
                </a:lnTo>
                <a:lnTo>
                  <a:pt x="388" y="301"/>
                </a:lnTo>
                <a:lnTo>
                  <a:pt x="356" y="304"/>
                </a:lnTo>
                <a:lnTo>
                  <a:pt x="323" y="306"/>
                </a:lnTo>
                <a:lnTo>
                  <a:pt x="290" y="306"/>
                </a:lnTo>
                <a:lnTo>
                  <a:pt x="256" y="304"/>
                </a:lnTo>
                <a:lnTo>
                  <a:pt x="225" y="301"/>
                </a:lnTo>
                <a:lnTo>
                  <a:pt x="193" y="296"/>
                </a:lnTo>
                <a:lnTo>
                  <a:pt x="163" y="288"/>
                </a:lnTo>
                <a:lnTo>
                  <a:pt x="134" y="280"/>
                </a:lnTo>
                <a:lnTo>
                  <a:pt x="107" y="270"/>
                </a:lnTo>
                <a:lnTo>
                  <a:pt x="83" y="258"/>
                </a:lnTo>
                <a:lnTo>
                  <a:pt x="62" y="246"/>
                </a:lnTo>
                <a:lnTo>
                  <a:pt x="44" y="232"/>
                </a:lnTo>
                <a:lnTo>
                  <a:pt x="28" y="217"/>
                </a:lnTo>
                <a:lnTo>
                  <a:pt x="16" y="202"/>
                </a:lnTo>
                <a:lnTo>
                  <a:pt x="7" y="186"/>
                </a:lnTo>
                <a:lnTo>
                  <a:pt x="2" y="170"/>
                </a:lnTo>
                <a:lnTo>
                  <a:pt x="0" y="152"/>
                </a:lnTo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40000" y="981000"/>
            <a:ext cx="1452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tar Catá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729320" y="3971880"/>
            <a:ext cx="2226600" cy="661680"/>
            <a:chOff x="4729320" y="3971880"/>
            <a:chExt cx="2226600" cy="661680"/>
          </a:xfrm>
        </p:grpSpPr>
        <p:sp>
          <p:nvSpPr>
            <p:cNvPr id="107" name=""/>
            <p:cNvSpPr/>
            <p:nvPr/>
          </p:nvSpPr>
          <p:spPr>
            <a:xfrm>
              <a:off x="4729320" y="3971880"/>
              <a:ext cx="2226600" cy="661680"/>
            </a:xfrm>
            <a:custGeom>
              <a:avLst/>
              <a:gdLst/>
              <a:ahLst/>
              <a:rect l="l" t="t" r="r" b="b"/>
              <a:pathLst>
                <a:path w="482" h="242">
                  <a:moveTo>
                    <a:pt x="0" y="120"/>
                  </a:moveTo>
                  <a:lnTo>
                    <a:pt x="2" y="106"/>
                  </a:lnTo>
                  <a:lnTo>
                    <a:pt x="8" y="91"/>
                  </a:lnTo>
                  <a:lnTo>
                    <a:pt x="17" y="76"/>
                  </a:lnTo>
                  <a:lnTo>
                    <a:pt x="30" y="63"/>
                  </a:lnTo>
                  <a:lnTo>
                    <a:pt x="46" y="49"/>
                  </a:lnTo>
                  <a:lnTo>
                    <a:pt x="65" y="38"/>
                  </a:lnTo>
                  <a:lnTo>
                    <a:pt x="87" y="27"/>
                  </a:lnTo>
                  <a:lnTo>
                    <a:pt x="112" y="18"/>
                  </a:lnTo>
                  <a:lnTo>
                    <a:pt x="138" y="12"/>
                  </a:lnTo>
                  <a:lnTo>
                    <a:pt x="167" y="6"/>
                  </a:lnTo>
                  <a:lnTo>
                    <a:pt x="196" y="2"/>
                  </a:lnTo>
                  <a:lnTo>
                    <a:pt x="226" y="0"/>
                  </a:lnTo>
                  <a:lnTo>
                    <a:pt x="256" y="0"/>
                  </a:lnTo>
                  <a:lnTo>
                    <a:pt x="286" y="2"/>
                  </a:lnTo>
                  <a:lnTo>
                    <a:pt x="316" y="6"/>
                  </a:lnTo>
                  <a:lnTo>
                    <a:pt x="344" y="12"/>
                  </a:lnTo>
                  <a:lnTo>
                    <a:pt x="371" y="18"/>
                  </a:lnTo>
                  <a:lnTo>
                    <a:pt x="395" y="27"/>
                  </a:lnTo>
                  <a:lnTo>
                    <a:pt x="417" y="38"/>
                  </a:lnTo>
                  <a:lnTo>
                    <a:pt x="436" y="49"/>
                  </a:lnTo>
                  <a:lnTo>
                    <a:pt x="452" y="63"/>
                  </a:lnTo>
                  <a:lnTo>
                    <a:pt x="466" y="76"/>
                  </a:lnTo>
                  <a:lnTo>
                    <a:pt x="475" y="91"/>
                  </a:lnTo>
                  <a:lnTo>
                    <a:pt x="480" y="106"/>
                  </a:lnTo>
                  <a:lnTo>
                    <a:pt x="482" y="120"/>
                  </a:lnTo>
                  <a:lnTo>
                    <a:pt x="480" y="136"/>
                  </a:lnTo>
                  <a:lnTo>
                    <a:pt x="475" y="150"/>
                  </a:lnTo>
                  <a:lnTo>
                    <a:pt x="466" y="165"/>
                  </a:lnTo>
                  <a:lnTo>
                    <a:pt x="452" y="179"/>
                  </a:lnTo>
                  <a:lnTo>
                    <a:pt x="436" y="192"/>
                  </a:lnTo>
                  <a:lnTo>
                    <a:pt x="417" y="203"/>
                  </a:lnTo>
                  <a:lnTo>
                    <a:pt x="395" y="214"/>
                  </a:lnTo>
                  <a:lnTo>
                    <a:pt x="371" y="222"/>
                  </a:lnTo>
                  <a:lnTo>
                    <a:pt x="344" y="230"/>
                  </a:lnTo>
                  <a:lnTo>
                    <a:pt x="316" y="236"/>
                  </a:lnTo>
                  <a:lnTo>
                    <a:pt x="286" y="240"/>
                  </a:lnTo>
                  <a:lnTo>
                    <a:pt x="256" y="242"/>
                  </a:lnTo>
                  <a:lnTo>
                    <a:pt x="226" y="242"/>
                  </a:lnTo>
                  <a:lnTo>
                    <a:pt x="196" y="240"/>
                  </a:lnTo>
                  <a:lnTo>
                    <a:pt x="167" y="236"/>
                  </a:lnTo>
                  <a:lnTo>
                    <a:pt x="138" y="230"/>
                  </a:lnTo>
                  <a:lnTo>
                    <a:pt x="112" y="222"/>
                  </a:lnTo>
                  <a:lnTo>
                    <a:pt x="87" y="214"/>
                  </a:lnTo>
                  <a:lnTo>
                    <a:pt x="65" y="203"/>
                  </a:lnTo>
                  <a:lnTo>
                    <a:pt x="46" y="192"/>
                  </a:lnTo>
                  <a:lnTo>
                    <a:pt x="30" y="179"/>
                  </a:lnTo>
                  <a:lnTo>
                    <a:pt x="17" y="165"/>
                  </a:lnTo>
                  <a:lnTo>
                    <a:pt x="8" y="150"/>
                  </a:lnTo>
                  <a:lnTo>
                    <a:pt x="2" y="136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211360" y="4066560"/>
              <a:ext cx="1137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mar Présta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vi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4923000" y="5105520"/>
            <a:ext cx="1742400" cy="756720"/>
            <a:chOff x="4923000" y="5105520"/>
            <a:chExt cx="1742400" cy="756720"/>
          </a:xfrm>
        </p:grpSpPr>
        <p:sp>
          <p:nvSpPr>
            <p:cNvPr id="110" name=""/>
            <p:cNvSpPr/>
            <p:nvPr/>
          </p:nvSpPr>
          <p:spPr>
            <a:xfrm>
              <a:off x="4923000" y="5105520"/>
              <a:ext cx="1742400" cy="756720"/>
            </a:xfrm>
            <a:custGeom>
              <a:avLst/>
              <a:gdLst/>
              <a:ahLst/>
              <a:rect l="l" t="t" r="r" b="b"/>
              <a:pathLst>
                <a:path w="547" h="274">
                  <a:moveTo>
                    <a:pt x="0" y="138"/>
                  </a:moveTo>
                  <a:lnTo>
                    <a:pt x="2" y="121"/>
                  </a:lnTo>
                  <a:lnTo>
                    <a:pt x="7" y="106"/>
                  </a:lnTo>
                  <a:lnTo>
                    <a:pt x="16" y="91"/>
                  </a:lnTo>
                  <a:lnTo>
                    <a:pt x="29" y="76"/>
                  </a:lnTo>
                  <a:lnTo>
                    <a:pt x="45" y="62"/>
                  </a:lnTo>
                  <a:lnTo>
                    <a:pt x="64" y="49"/>
                  </a:lnTo>
                  <a:lnTo>
                    <a:pt x="85" y="38"/>
                  </a:lnTo>
                  <a:lnTo>
                    <a:pt x="110" y="27"/>
                  </a:lnTo>
                  <a:lnTo>
                    <a:pt x="137" y="18"/>
                  </a:lnTo>
                  <a:lnTo>
                    <a:pt x="165" y="12"/>
                  </a:lnTo>
                  <a:lnTo>
                    <a:pt x="195" y="6"/>
                  </a:lnTo>
                  <a:lnTo>
                    <a:pt x="226" y="2"/>
                  </a:lnTo>
                  <a:lnTo>
                    <a:pt x="258" y="0"/>
                  </a:lnTo>
                  <a:lnTo>
                    <a:pt x="290" y="0"/>
                  </a:lnTo>
                  <a:lnTo>
                    <a:pt x="322" y="2"/>
                  </a:lnTo>
                  <a:lnTo>
                    <a:pt x="352" y="6"/>
                  </a:lnTo>
                  <a:lnTo>
                    <a:pt x="382" y="12"/>
                  </a:lnTo>
                  <a:lnTo>
                    <a:pt x="411" y="18"/>
                  </a:lnTo>
                  <a:lnTo>
                    <a:pt x="437" y="27"/>
                  </a:lnTo>
                  <a:lnTo>
                    <a:pt x="462" y="38"/>
                  </a:lnTo>
                  <a:lnTo>
                    <a:pt x="484" y="49"/>
                  </a:lnTo>
                  <a:lnTo>
                    <a:pt x="502" y="62"/>
                  </a:lnTo>
                  <a:lnTo>
                    <a:pt x="518" y="76"/>
                  </a:lnTo>
                  <a:lnTo>
                    <a:pt x="531" y="91"/>
                  </a:lnTo>
                  <a:lnTo>
                    <a:pt x="541" y="106"/>
                  </a:lnTo>
                  <a:lnTo>
                    <a:pt x="545" y="121"/>
                  </a:lnTo>
                  <a:lnTo>
                    <a:pt x="547" y="138"/>
                  </a:lnTo>
                  <a:lnTo>
                    <a:pt x="545" y="153"/>
                  </a:lnTo>
                  <a:lnTo>
                    <a:pt x="541" y="169"/>
                  </a:lnTo>
                  <a:lnTo>
                    <a:pt x="531" y="184"/>
                  </a:lnTo>
                  <a:lnTo>
                    <a:pt x="518" y="199"/>
                  </a:lnTo>
                  <a:lnTo>
                    <a:pt x="502" y="213"/>
                  </a:lnTo>
                  <a:lnTo>
                    <a:pt x="484" y="225"/>
                  </a:lnTo>
                  <a:lnTo>
                    <a:pt x="462" y="237"/>
                  </a:lnTo>
                  <a:lnTo>
                    <a:pt x="437" y="247"/>
                  </a:lnTo>
                  <a:lnTo>
                    <a:pt x="411" y="256"/>
                  </a:lnTo>
                  <a:lnTo>
                    <a:pt x="382" y="263"/>
                  </a:lnTo>
                  <a:lnTo>
                    <a:pt x="352" y="269"/>
                  </a:lnTo>
                  <a:lnTo>
                    <a:pt x="322" y="272"/>
                  </a:lnTo>
                  <a:lnTo>
                    <a:pt x="290" y="274"/>
                  </a:lnTo>
                  <a:lnTo>
                    <a:pt x="258" y="274"/>
                  </a:lnTo>
                  <a:lnTo>
                    <a:pt x="226" y="272"/>
                  </a:lnTo>
                  <a:lnTo>
                    <a:pt x="195" y="269"/>
                  </a:lnTo>
                  <a:lnTo>
                    <a:pt x="165" y="263"/>
                  </a:lnTo>
                  <a:lnTo>
                    <a:pt x="137" y="256"/>
                  </a:lnTo>
                  <a:lnTo>
                    <a:pt x="110" y="247"/>
                  </a:lnTo>
                  <a:lnTo>
                    <a:pt x="85" y="237"/>
                  </a:lnTo>
                  <a:lnTo>
                    <a:pt x="64" y="225"/>
                  </a:lnTo>
                  <a:lnTo>
                    <a:pt x="45" y="213"/>
                  </a:lnTo>
                  <a:lnTo>
                    <a:pt x="29" y="199"/>
                  </a:lnTo>
                  <a:lnTo>
                    <a:pt x="16" y="184"/>
                  </a:lnTo>
                  <a:lnTo>
                    <a:pt x="7" y="169"/>
                  </a:lnTo>
                  <a:lnTo>
                    <a:pt x="2" y="153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62680" y="5409000"/>
              <a:ext cx="115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volver Revis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2211480" y="3121200"/>
            <a:ext cx="1936440" cy="867960"/>
            <a:chOff x="2211480" y="3121200"/>
            <a:chExt cx="1936440" cy="867960"/>
          </a:xfrm>
        </p:grpSpPr>
        <p:sp>
          <p:nvSpPr>
            <p:cNvPr id="113" name=""/>
            <p:cNvSpPr/>
            <p:nvPr/>
          </p:nvSpPr>
          <p:spPr>
            <a:xfrm>
              <a:off x="2211480" y="3121200"/>
              <a:ext cx="1763280" cy="867960"/>
            </a:xfrm>
            <a:custGeom>
              <a:avLst/>
              <a:gdLst/>
              <a:ahLst/>
              <a:rect l="l" t="t" r="r" b="b"/>
              <a:pathLst>
                <a:path w="545" h="272">
                  <a:moveTo>
                    <a:pt x="0" y="136"/>
                  </a:moveTo>
                  <a:lnTo>
                    <a:pt x="2" y="120"/>
                  </a:lnTo>
                  <a:lnTo>
                    <a:pt x="7" y="105"/>
                  </a:lnTo>
                  <a:lnTo>
                    <a:pt x="17" y="89"/>
                  </a:lnTo>
                  <a:lnTo>
                    <a:pt x="29" y="75"/>
                  </a:lnTo>
                  <a:lnTo>
                    <a:pt x="45" y="61"/>
                  </a:lnTo>
                  <a:lnTo>
                    <a:pt x="64" y="48"/>
                  </a:lnTo>
                  <a:lnTo>
                    <a:pt x="85" y="37"/>
                  </a:lnTo>
                  <a:lnTo>
                    <a:pt x="110" y="26"/>
                  </a:lnTo>
                  <a:lnTo>
                    <a:pt x="136" y="17"/>
                  </a:lnTo>
                  <a:lnTo>
                    <a:pt x="165" y="11"/>
                  </a:lnTo>
                  <a:lnTo>
                    <a:pt x="195" y="5"/>
                  </a:lnTo>
                  <a:lnTo>
                    <a:pt x="225" y="2"/>
                  </a:lnTo>
                  <a:lnTo>
                    <a:pt x="257" y="0"/>
                  </a:lnTo>
                  <a:lnTo>
                    <a:pt x="289" y="0"/>
                  </a:lnTo>
                  <a:lnTo>
                    <a:pt x="320" y="2"/>
                  </a:lnTo>
                  <a:lnTo>
                    <a:pt x="350" y="5"/>
                  </a:lnTo>
                  <a:lnTo>
                    <a:pt x="380" y="11"/>
                  </a:lnTo>
                  <a:lnTo>
                    <a:pt x="409" y="17"/>
                  </a:lnTo>
                  <a:lnTo>
                    <a:pt x="436" y="26"/>
                  </a:lnTo>
                  <a:lnTo>
                    <a:pt x="460" y="37"/>
                  </a:lnTo>
                  <a:lnTo>
                    <a:pt x="481" y="48"/>
                  </a:lnTo>
                  <a:lnTo>
                    <a:pt x="500" y="61"/>
                  </a:lnTo>
                  <a:lnTo>
                    <a:pt x="517" y="75"/>
                  </a:lnTo>
                  <a:lnTo>
                    <a:pt x="529" y="89"/>
                  </a:lnTo>
                  <a:lnTo>
                    <a:pt x="538" y="105"/>
                  </a:lnTo>
                  <a:lnTo>
                    <a:pt x="543" y="120"/>
                  </a:lnTo>
                  <a:lnTo>
                    <a:pt x="545" y="136"/>
                  </a:lnTo>
                  <a:lnTo>
                    <a:pt x="543" y="152"/>
                  </a:lnTo>
                  <a:lnTo>
                    <a:pt x="538" y="167"/>
                  </a:lnTo>
                  <a:lnTo>
                    <a:pt x="529" y="183"/>
                  </a:lnTo>
                  <a:lnTo>
                    <a:pt x="517" y="197"/>
                  </a:lnTo>
                  <a:lnTo>
                    <a:pt x="500" y="211"/>
                  </a:lnTo>
                  <a:lnTo>
                    <a:pt x="481" y="223"/>
                  </a:lnTo>
                  <a:lnTo>
                    <a:pt x="460" y="235"/>
                  </a:lnTo>
                  <a:lnTo>
                    <a:pt x="436" y="245"/>
                  </a:lnTo>
                  <a:lnTo>
                    <a:pt x="409" y="254"/>
                  </a:lnTo>
                  <a:lnTo>
                    <a:pt x="380" y="261"/>
                  </a:lnTo>
                  <a:lnTo>
                    <a:pt x="350" y="266"/>
                  </a:lnTo>
                  <a:lnTo>
                    <a:pt x="320" y="270"/>
                  </a:lnTo>
                  <a:lnTo>
                    <a:pt x="289" y="272"/>
                  </a:lnTo>
                  <a:lnTo>
                    <a:pt x="257" y="272"/>
                  </a:lnTo>
                  <a:lnTo>
                    <a:pt x="225" y="270"/>
                  </a:lnTo>
                  <a:lnTo>
                    <a:pt x="195" y="266"/>
                  </a:lnTo>
                  <a:lnTo>
                    <a:pt x="165" y="261"/>
                  </a:lnTo>
                  <a:lnTo>
                    <a:pt x="136" y="254"/>
                  </a:lnTo>
                  <a:lnTo>
                    <a:pt x="110" y="245"/>
                  </a:lnTo>
                  <a:lnTo>
                    <a:pt x="85" y="235"/>
                  </a:lnTo>
                  <a:lnTo>
                    <a:pt x="64" y="223"/>
                  </a:lnTo>
                  <a:lnTo>
                    <a:pt x="45" y="211"/>
                  </a:lnTo>
                  <a:lnTo>
                    <a:pt x="29" y="197"/>
                  </a:lnTo>
                  <a:lnTo>
                    <a:pt x="17" y="183"/>
                  </a:lnTo>
                  <a:lnTo>
                    <a:pt x="7" y="167"/>
                  </a:lnTo>
                  <a:lnTo>
                    <a:pt x="2" y="152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307960" y="3309840"/>
              <a:ext cx="18399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mar Préstamo Copia Lib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2405160" y="1890720"/>
            <a:ext cx="1460160" cy="663120"/>
            <a:chOff x="2405160" y="1890720"/>
            <a:chExt cx="1460160" cy="663120"/>
          </a:xfrm>
        </p:grpSpPr>
        <p:sp>
          <p:nvSpPr>
            <p:cNvPr id="116" name=""/>
            <p:cNvSpPr/>
            <p:nvPr/>
          </p:nvSpPr>
          <p:spPr>
            <a:xfrm>
              <a:off x="2405160" y="1890720"/>
              <a:ext cx="1460160" cy="663120"/>
            </a:xfrm>
            <a:custGeom>
              <a:avLst/>
              <a:gdLst/>
              <a:ahLst/>
              <a:rect l="l" t="t" r="r" b="b"/>
              <a:pathLst>
                <a:path w="484" h="241">
                  <a:moveTo>
                    <a:pt x="0" y="120"/>
                  </a:moveTo>
                  <a:lnTo>
                    <a:pt x="2" y="105"/>
                  </a:lnTo>
                  <a:lnTo>
                    <a:pt x="8" y="90"/>
                  </a:lnTo>
                  <a:lnTo>
                    <a:pt x="17" y="76"/>
                  </a:lnTo>
                  <a:lnTo>
                    <a:pt x="30" y="62"/>
                  </a:lnTo>
                  <a:lnTo>
                    <a:pt x="47" y="49"/>
                  </a:lnTo>
                  <a:lnTo>
                    <a:pt x="66" y="37"/>
                  </a:lnTo>
                  <a:lnTo>
                    <a:pt x="88" y="26"/>
                  </a:lnTo>
                  <a:lnTo>
                    <a:pt x="113" y="18"/>
                  </a:lnTo>
                  <a:lnTo>
                    <a:pt x="139" y="11"/>
                  </a:lnTo>
                  <a:lnTo>
                    <a:pt x="168" y="5"/>
                  </a:lnTo>
                  <a:lnTo>
                    <a:pt x="196" y="1"/>
                  </a:lnTo>
                  <a:lnTo>
                    <a:pt x="227" y="0"/>
                  </a:lnTo>
                  <a:lnTo>
                    <a:pt x="257" y="0"/>
                  </a:lnTo>
                  <a:lnTo>
                    <a:pt x="288" y="1"/>
                  </a:lnTo>
                  <a:lnTo>
                    <a:pt x="317" y="5"/>
                  </a:lnTo>
                  <a:lnTo>
                    <a:pt x="345" y="11"/>
                  </a:lnTo>
                  <a:lnTo>
                    <a:pt x="371" y="18"/>
                  </a:lnTo>
                  <a:lnTo>
                    <a:pt x="396" y="26"/>
                  </a:lnTo>
                  <a:lnTo>
                    <a:pt x="418" y="37"/>
                  </a:lnTo>
                  <a:lnTo>
                    <a:pt x="438" y="49"/>
                  </a:lnTo>
                  <a:lnTo>
                    <a:pt x="454" y="62"/>
                  </a:lnTo>
                  <a:lnTo>
                    <a:pt x="466" y="76"/>
                  </a:lnTo>
                  <a:lnTo>
                    <a:pt x="476" y="90"/>
                  </a:lnTo>
                  <a:lnTo>
                    <a:pt x="482" y="105"/>
                  </a:lnTo>
                  <a:lnTo>
                    <a:pt x="484" y="120"/>
                  </a:lnTo>
                  <a:lnTo>
                    <a:pt x="482" y="135"/>
                  </a:lnTo>
                  <a:lnTo>
                    <a:pt x="476" y="151"/>
                  </a:lnTo>
                  <a:lnTo>
                    <a:pt x="466" y="165"/>
                  </a:lnTo>
                  <a:lnTo>
                    <a:pt x="454" y="178"/>
                  </a:lnTo>
                  <a:lnTo>
                    <a:pt x="438" y="191"/>
                  </a:lnTo>
                  <a:lnTo>
                    <a:pt x="418" y="203"/>
                  </a:lnTo>
                  <a:lnTo>
                    <a:pt x="396" y="213"/>
                  </a:lnTo>
                  <a:lnTo>
                    <a:pt x="371" y="223"/>
                  </a:lnTo>
                  <a:lnTo>
                    <a:pt x="345" y="229"/>
                  </a:lnTo>
                  <a:lnTo>
                    <a:pt x="317" y="235"/>
                  </a:lnTo>
                  <a:lnTo>
                    <a:pt x="288" y="239"/>
                  </a:lnTo>
                  <a:lnTo>
                    <a:pt x="257" y="241"/>
                  </a:lnTo>
                  <a:lnTo>
                    <a:pt x="227" y="241"/>
                  </a:lnTo>
                  <a:lnTo>
                    <a:pt x="196" y="239"/>
                  </a:lnTo>
                  <a:lnTo>
                    <a:pt x="168" y="235"/>
                  </a:lnTo>
                  <a:lnTo>
                    <a:pt x="139" y="229"/>
                  </a:lnTo>
                  <a:lnTo>
                    <a:pt x="113" y="223"/>
                  </a:lnTo>
                  <a:lnTo>
                    <a:pt x="88" y="213"/>
                  </a:lnTo>
                  <a:lnTo>
                    <a:pt x="66" y="203"/>
                  </a:lnTo>
                  <a:lnTo>
                    <a:pt x="47" y="191"/>
                  </a:lnTo>
                  <a:lnTo>
                    <a:pt x="30" y="178"/>
                  </a:lnTo>
                  <a:lnTo>
                    <a:pt x="17" y="165"/>
                  </a:lnTo>
                  <a:lnTo>
                    <a:pt x="8" y="151"/>
                  </a:lnTo>
                  <a:lnTo>
                    <a:pt x="2" y="135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98400" y="2079360"/>
              <a:ext cx="1001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rvar Lib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114640" y="4444920"/>
            <a:ext cx="2033280" cy="755280"/>
            <a:chOff x="2114640" y="4444920"/>
            <a:chExt cx="2033280" cy="755280"/>
          </a:xfrm>
        </p:grpSpPr>
        <p:sp>
          <p:nvSpPr>
            <p:cNvPr id="119" name=""/>
            <p:cNvSpPr/>
            <p:nvPr/>
          </p:nvSpPr>
          <p:spPr>
            <a:xfrm>
              <a:off x="2114640" y="4444920"/>
              <a:ext cx="2033280" cy="755280"/>
            </a:xfrm>
            <a:custGeom>
              <a:avLst/>
              <a:gdLst/>
              <a:ahLst/>
              <a:rect l="l" t="t" r="r" b="b"/>
              <a:pathLst>
                <a:path w="615" h="308">
                  <a:moveTo>
                    <a:pt x="0" y="154"/>
                  </a:moveTo>
                  <a:lnTo>
                    <a:pt x="2" y="137"/>
                  </a:lnTo>
                  <a:lnTo>
                    <a:pt x="8" y="121"/>
                  </a:lnTo>
                  <a:lnTo>
                    <a:pt x="16" y="105"/>
                  </a:lnTo>
                  <a:lnTo>
                    <a:pt x="29" y="89"/>
                  </a:lnTo>
                  <a:lnTo>
                    <a:pt x="44" y="75"/>
                  </a:lnTo>
                  <a:lnTo>
                    <a:pt x="64" y="60"/>
                  </a:lnTo>
                  <a:lnTo>
                    <a:pt x="85" y="48"/>
                  </a:lnTo>
                  <a:lnTo>
                    <a:pt x="109" y="36"/>
                  </a:lnTo>
                  <a:lnTo>
                    <a:pt x="136" y="27"/>
                  </a:lnTo>
                  <a:lnTo>
                    <a:pt x="163" y="18"/>
                  </a:lnTo>
                  <a:lnTo>
                    <a:pt x="194" y="11"/>
                  </a:lnTo>
                  <a:lnTo>
                    <a:pt x="226" y="6"/>
                  </a:lnTo>
                  <a:lnTo>
                    <a:pt x="258" y="2"/>
                  </a:lnTo>
                  <a:lnTo>
                    <a:pt x="291" y="0"/>
                  </a:lnTo>
                  <a:lnTo>
                    <a:pt x="324" y="0"/>
                  </a:lnTo>
                  <a:lnTo>
                    <a:pt x="357" y="2"/>
                  </a:lnTo>
                  <a:lnTo>
                    <a:pt x="390" y="6"/>
                  </a:lnTo>
                  <a:lnTo>
                    <a:pt x="421" y="11"/>
                  </a:lnTo>
                  <a:lnTo>
                    <a:pt x="452" y="18"/>
                  </a:lnTo>
                  <a:lnTo>
                    <a:pt x="480" y="27"/>
                  </a:lnTo>
                  <a:lnTo>
                    <a:pt x="506" y="36"/>
                  </a:lnTo>
                  <a:lnTo>
                    <a:pt x="530" y="48"/>
                  </a:lnTo>
                  <a:lnTo>
                    <a:pt x="552" y="60"/>
                  </a:lnTo>
                  <a:lnTo>
                    <a:pt x="571" y="75"/>
                  </a:lnTo>
                  <a:lnTo>
                    <a:pt x="586" y="89"/>
                  </a:lnTo>
                  <a:lnTo>
                    <a:pt x="599" y="105"/>
                  </a:lnTo>
                  <a:lnTo>
                    <a:pt x="607" y="121"/>
                  </a:lnTo>
                  <a:lnTo>
                    <a:pt x="613" y="137"/>
                  </a:lnTo>
                  <a:lnTo>
                    <a:pt x="615" y="154"/>
                  </a:lnTo>
                  <a:lnTo>
                    <a:pt x="613" y="170"/>
                  </a:lnTo>
                  <a:lnTo>
                    <a:pt x="607" y="186"/>
                  </a:lnTo>
                  <a:lnTo>
                    <a:pt x="599" y="203"/>
                  </a:lnTo>
                  <a:lnTo>
                    <a:pt x="586" y="218"/>
                  </a:lnTo>
                  <a:lnTo>
                    <a:pt x="571" y="233"/>
                  </a:lnTo>
                  <a:lnTo>
                    <a:pt x="552" y="247"/>
                  </a:lnTo>
                  <a:lnTo>
                    <a:pt x="530" y="260"/>
                  </a:lnTo>
                  <a:lnTo>
                    <a:pt x="506" y="271"/>
                  </a:lnTo>
                  <a:lnTo>
                    <a:pt x="480" y="281"/>
                  </a:lnTo>
                  <a:lnTo>
                    <a:pt x="452" y="289"/>
                  </a:lnTo>
                  <a:lnTo>
                    <a:pt x="421" y="297"/>
                  </a:lnTo>
                  <a:lnTo>
                    <a:pt x="390" y="302"/>
                  </a:lnTo>
                  <a:lnTo>
                    <a:pt x="357" y="306"/>
                  </a:lnTo>
                  <a:lnTo>
                    <a:pt x="324" y="308"/>
                  </a:lnTo>
                  <a:lnTo>
                    <a:pt x="291" y="308"/>
                  </a:lnTo>
                  <a:lnTo>
                    <a:pt x="258" y="306"/>
                  </a:lnTo>
                  <a:lnTo>
                    <a:pt x="226" y="302"/>
                  </a:lnTo>
                  <a:lnTo>
                    <a:pt x="194" y="297"/>
                  </a:lnTo>
                  <a:lnTo>
                    <a:pt x="163" y="289"/>
                  </a:lnTo>
                  <a:lnTo>
                    <a:pt x="136" y="281"/>
                  </a:lnTo>
                  <a:lnTo>
                    <a:pt x="109" y="271"/>
                  </a:lnTo>
                  <a:lnTo>
                    <a:pt x="85" y="260"/>
                  </a:lnTo>
                  <a:lnTo>
                    <a:pt x="64" y="247"/>
                  </a:lnTo>
                  <a:lnTo>
                    <a:pt x="44" y="233"/>
                  </a:lnTo>
                  <a:lnTo>
                    <a:pt x="29" y="218"/>
                  </a:lnTo>
                  <a:lnTo>
                    <a:pt x="16" y="203"/>
                  </a:lnTo>
                  <a:lnTo>
                    <a:pt x="8" y="186"/>
                  </a:lnTo>
                  <a:lnTo>
                    <a:pt x="2" y="170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83480" y="4712040"/>
              <a:ext cx="1309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nder Présta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211480" y="5673600"/>
            <a:ext cx="2130120" cy="661680"/>
            <a:chOff x="2211480" y="5673600"/>
            <a:chExt cx="2130120" cy="661680"/>
          </a:xfrm>
        </p:grpSpPr>
        <p:sp>
          <p:nvSpPr>
            <p:cNvPr id="122" name=""/>
            <p:cNvSpPr/>
            <p:nvPr/>
          </p:nvSpPr>
          <p:spPr>
            <a:xfrm>
              <a:off x="2211480" y="5673600"/>
              <a:ext cx="2130120" cy="661680"/>
            </a:xfrm>
            <a:custGeom>
              <a:avLst/>
              <a:gdLst/>
              <a:ahLst/>
              <a:rect l="l" t="t" r="r" b="b"/>
              <a:pathLst>
                <a:path w="501" h="251">
                  <a:moveTo>
                    <a:pt x="0" y="125"/>
                  </a:moveTo>
                  <a:lnTo>
                    <a:pt x="2" y="111"/>
                  </a:lnTo>
                  <a:lnTo>
                    <a:pt x="7" y="95"/>
                  </a:lnTo>
                  <a:lnTo>
                    <a:pt x="16" y="81"/>
                  </a:lnTo>
                  <a:lnTo>
                    <a:pt x="28" y="68"/>
                  </a:lnTo>
                  <a:lnTo>
                    <a:pt x="44" y="54"/>
                  </a:lnTo>
                  <a:lnTo>
                    <a:pt x="63" y="43"/>
                  </a:lnTo>
                  <a:lnTo>
                    <a:pt x="84" y="32"/>
                  </a:lnTo>
                  <a:lnTo>
                    <a:pt x="108" y="22"/>
                  </a:lnTo>
                  <a:lnTo>
                    <a:pt x="134" y="15"/>
                  </a:lnTo>
                  <a:lnTo>
                    <a:pt x="161" y="9"/>
                  </a:lnTo>
                  <a:lnTo>
                    <a:pt x="191" y="4"/>
                  </a:lnTo>
                  <a:lnTo>
                    <a:pt x="220" y="1"/>
                  </a:lnTo>
                  <a:lnTo>
                    <a:pt x="250" y="0"/>
                  </a:lnTo>
                  <a:lnTo>
                    <a:pt x="280" y="1"/>
                  </a:lnTo>
                  <a:lnTo>
                    <a:pt x="310" y="4"/>
                  </a:lnTo>
                  <a:lnTo>
                    <a:pt x="339" y="9"/>
                  </a:lnTo>
                  <a:lnTo>
                    <a:pt x="367" y="15"/>
                  </a:lnTo>
                  <a:lnTo>
                    <a:pt x="393" y="22"/>
                  </a:lnTo>
                  <a:lnTo>
                    <a:pt x="417" y="32"/>
                  </a:lnTo>
                  <a:lnTo>
                    <a:pt x="438" y="43"/>
                  </a:lnTo>
                  <a:lnTo>
                    <a:pt x="456" y="54"/>
                  </a:lnTo>
                  <a:lnTo>
                    <a:pt x="472" y="68"/>
                  </a:lnTo>
                  <a:lnTo>
                    <a:pt x="485" y="81"/>
                  </a:lnTo>
                  <a:lnTo>
                    <a:pt x="493" y="95"/>
                  </a:lnTo>
                  <a:lnTo>
                    <a:pt x="499" y="111"/>
                  </a:lnTo>
                  <a:lnTo>
                    <a:pt x="501" y="125"/>
                  </a:lnTo>
                  <a:lnTo>
                    <a:pt x="499" y="141"/>
                  </a:lnTo>
                  <a:lnTo>
                    <a:pt x="493" y="156"/>
                  </a:lnTo>
                  <a:lnTo>
                    <a:pt x="485" y="170"/>
                  </a:lnTo>
                  <a:lnTo>
                    <a:pt x="472" y="184"/>
                  </a:lnTo>
                  <a:lnTo>
                    <a:pt x="456" y="196"/>
                  </a:lnTo>
                  <a:lnTo>
                    <a:pt x="438" y="209"/>
                  </a:lnTo>
                  <a:lnTo>
                    <a:pt x="417" y="220"/>
                  </a:lnTo>
                  <a:lnTo>
                    <a:pt x="393" y="229"/>
                  </a:lnTo>
                  <a:lnTo>
                    <a:pt x="367" y="237"/>
                  </a:lnTo>
                  <a:lnTo>
                    <a:pt x="339" y="243"/>
                  </a:lnTo>
                  <a:lnTo>
                    <a:pt x="310" y="247"/>
                  </a:lnTo>
                  <a:lnTo>
                    <a:pt x="280" y="250"/>
                  </a:lnTo>
                  <a:lnTo>
                    <a:pt x="250" y="251"/>
                  </a:lnTo>
                  <a:lnTo>
                    <a:pt x="220" y="250"/>
                  </a:lnTo>
                  <a:lnTo>
                    <a:pt x="191" y="247"/>
                  </a:lnTo>
                  <a:lnTo>
                    <a:pt x="161" y="243"/>
                  </a:lnTo>
                  <a:lnTo>
                    <a:pt x="134" y="237"/>
                  </a:lnTo>
                  <a:lnTo>
                    <a:pt x="108" y="229"/>
                  </a:lnTo>
                  <a:lnTo>
                    <a:pt x="84" y="220"/>
                  </a:lnTo>
                  <a:lnTo>
                    <a:pt x="63" y="209"/>
                  </a:lnTo>
                  <a:lnTo>
                    <a:pt x="44" y="196"/>
                  </a:lnTo>
                  <a:lnTo>
                    <a:pt x="28" y="184"/>
                  </a:lnTo>
                  <a:lnTo>
                    <a:pt x="16" y="170"/>
                  </a:lnTo>
                  <a:lnTo>
                    <a:pt x="7" y="156"/>
                  </a:lnTo>
                  <a:lnTo>
                    <a:pt x="2" y="141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399400" y="5862600"/>
              <a:ext cx="142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volver Copia Libr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632480" y="1324080"/>
            <a:ext cx="2226600" cy="755280"/>
            <a:chOff x="4632480" y="1324080"/>
            <a:chExt cx="2226600" cy="755280"/>
          </a:xfrm>
        </p:grpSpPr>
        <p:sp>
          <p:nvSpPr>
            <p:cNvPr id="125" name=""/>
            <p:cNvSpPr/>
            <p:nvPr/>
          </p:nvSpPr>
          <p:spPr>
            <a:xfrm>
              <a:off x="4632480" y="1324080"/>
              <a:ext cx="2226600" cy="755280"/>
            </a:xfrm>
            <a:custGeom>
              <a:avLst/>
              <a:gdLst/>
              <a:ahLst/>
              <a:rect l="l" t="t" r="r" b="b"/>
              <a:pathLst>
                <a:path w="737" h="353">
                  <a:moveTo>
                    <a:pt x="0" y="177"/>
                  </a:moveTo>
                  <a:lnTo>
                    <a:pt x="2" y="157"/>
                  </a:lnTo>
                  <a:lnTo>
                    <a:pt x="9" y="137"/>
                  </a:lnTo>
                  <a:lnTo>
                    <a:pt x="20" y="119"/>
                  </a:lnTo>
                  <a:lnTo>
                    <a:pt x="36" y="100"/>
                  </a:lnTo>
                  <a:lnTo>
                    <a:pt x="57" y="83"/>
                  </a:lnTo>
                  <a:lnTo>
                    <a:pt x="79" y="67"/>
                  </a:lnTo>
                  <a:lnTo>
                    <a:pt x="107" y="52"/>
                  </a:lnTo>
                  <a:lnTo>
                    <a:pt x="139" y="39"/>
                  </a:lnTo>
                  <a:lnTo>
                    <a:pt x="172" y="28"/>
                  </a:lnTo>
                  <a:lnTo>
                    <a:pt x="209" y="19"/>
                  </a:lnTo>
                  <a:lnTo>
                    <a:pt x="246" y="10"/>
                  </a:lnTo>
                  <a:lnTo>
                    <a:pt x="286" y="5"/>
                  </a:lnTo>
                  <a:lnTo>
                    <a:pt x="327" y="1"/>
                  </a:lnTo>
                  <a:lnTo>
                    <a:pt x="368" y="0"/>
                  </a:lnTo>
                  <a:lnTo>
                    <a:pt x="409" y="1"/>
                  </a:lnTo>
                  <a:lnTo>
                    <a:pt x="450" y="5"/>
                  </a:lnTo>
                  <a:lnTo>
                    <a:pt x="490" y="10"/>
                  </a:lnTo>
                  <a:lnTo>
                    <a:pt x="528" y="19"/>
                  </a:lnTo>
                  <a:lnTo>
                    <a:pt x="564" y="28"/>
                  </a:lnTo>
                  <a:lnTo>
                    <a:pt x="598" y="39"/>
                  </a:lnTo>
                  <a:lnTo>
                    <a:pt x="629" y="52"/>
                  </a:lnTo>
                  <a:lnTo>
                    <a:pt x="657" y="67"/>
                  </a:lnTo>
                  <a:lnTo>
                    <a:pt x="680" y="83"/>
                  </a:lnTo>
                  <a:lnTo>
                    <a:pt x="700" y="100"/>
                  </a:lnTo>
                  <a:lnTo>
                    <a:pt x="716" y="119"/>
                  </a:lnTo>
                  <a:lnTo>
                    <a:pt x="727" y="137"/>
                  </a:lnTo>
                  <a:lnTo>
                    <a:pt x="734" y="157"/>
                  </a:lnTo>
                  <a:lnTo>
                    <a:pt x="737" y="177"/>
                  </a:lnTo>
                  <a:lnTo>
                    <a:pt x="734" y="196"/>
                  </a:lnTo>
                  <a:lnTo>
                    <a:pt x="727" y="216"/>
                  </a:lnTo>
                  <a:lnTo>
                    <a:pt x="716" y="234"/>
                  </a:lnTo>
                  <a:lnTo>
                    <a:pt x="700" y="253"/>
                  </a:lnTo>
                  <a:lnTo>
                    <a:pt x="680" y="270"/>
                  </a:lnTo>
                  <a:lnTo>
                    <a:pt x="657" y="286"/>
                  </a:lnTo>
                  <a:lnTo>
                    <a:pt x="629" y="301"/>
                  </a:lnTo>
                  <a:lnTo>
                    <a:pt x="598" y="314"/>
                  </a:lnTo>
                  <a:lnTo>
                    <a:pt x="564" y="326"/>
                  </a:lnTo>
                  <a:lnTo>
                    <a:pt x="528" y="335"/>
                  </a:lnTo>
                  <a:lnTo>
                    <a:pt x="490" y="343"/>
                  </a:lnTo>
                  <a:lnTo>
                    <a:pt x="450" y="349"/>
                  </a:lnTo>
                  <a:lnTo>
                    <a:pt x="409" y="352"/>
                  </a:lnTo>
                  <a:lnTo>
                    <a:pt x="368" y="353"/>
                  </a:lnTo>
                  <a:lnTo>
                    <a:pt x="327" y="352"/>
                  </a:lnTo>
                  <a:lnTo>
                    <a:pt x="286" y="349"/>
                  </a:lnTo>
                  <a:lnTo>
                    <a:pt x="246" y="343"/>
                  </a:lnTo>
                  <a:lnTo>
                    <a:pt x="209" y="335"/>
                  </a:lnTo>
                  <a:lnTo>
                    <a:pt x="172" y="326"/>
                  </a:lnTo>
                  <a:lnTo>
                    <a:pt x="139" y="314"/>
                  </a:lnTo>
                  <a:lnTo>
                    <a:pt x="107" y="301"/>
                  </a:lnTo>
                  <a:lnTo>
                    <a:pt x="79" y="286"/>
                  </a:lnTo>
                  <a:lnTo>
                    <a:pt x="57" y="270"/>
                  </a:lnTo>
                  <a:lnTo>
                    <a:pt x="36" y="253"/>
                  </a:lnTo>
                  <a:lnTo>
                    <a:pt x="20" y="234"/>
                  </a:lnTo>
                  <a:lnTo>
                    <a:pt x="9" y="216"/>
                  </a:lnTo>
                  <a:lnTo>
                    <a:pt x="2" y="196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ff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745160" y="1613520"/>
              <a:ext cx="211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tualizar Catá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339920" y="1135080"/>
            <a:ext cx="871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339920" y="2268000"/>
            <a:ext cx="1065240" cy="236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339920" y="3687840"/>
            <a:ext cx="871560" cy="9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339920" y="4633920"/>
            <a:ext cx="77472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9920" y="4633920"/>
            <a:ext cx="968400" cy="1228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6859080" y="170172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6955920" y="4349520"/>
            <a:ext cx="677880" cy="37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665760" y="4727520"/>
            <a:ext cx="968400" cy="66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4120" y="284040"/>
            <a:ext cx="5229000" cy="624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3566880" y="1323720"/>
            <a:ext cx="1065240" cy="3776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67240" y="1228680"/>
            <a:ext cx="16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&lt;includes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86200" y="2552760"/>
            <a:ext cx="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792520" y="2552760"/>
            <a:ext cx="16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&lt;extends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14640" y="3687840"/>
            <a:ext cx="183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No dispon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83040" y="397188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92520" y="3971880"/>
            <a:ext cx="164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&lt;extends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11480" y="4916520"/>
            <a:ext cx="183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- No reserv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404640"/>
            <a:ext cx="223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 Narrow"/>
              </a:rPr>
              <a:t>EJEMPLO DE DIAGRAMA  DE CASOS DE U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F7F8-5EAF-419F-8D68-DB1C23A1FA0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arrollo guiado por casos de uso (CU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OS CASOS DE USO: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APTURAN REQUISITO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E ESPECIFICAN (ANALIZAN)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E DISEÑA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SE IMPLEMENTA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marL="291600" indent="-291600"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Y SE PRUEBA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2FB8-16F4-46E6-9232-E65991000F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2340000" y="1125000"/>
            <a:ext cx="4031640" cy="2376360"/>
            <a:chOff x="2340000" y="1125000"/>
            <a:chExt cx="4031640" cy="2376360"/>
          </a:xfrm>
        </p:grpSpPr>
        <p:grpSp>
          <p:nvGrpSpPr>
            <p:cNvPr id="148" name=""/>
            <p:cNvGrpSpPr/>
            <p:nvPr/>
          </p:nvGrpSpPr>
          <p:grpSpPr>
            <a:xfrm>
              <a:off x="2952000" y="2059200"/>
              <a:ext cx="504360" cy="389160"/>
              <a:chOff x="2952000" y="2059200"/>
              <a:chExt cx="504360" cy="389160"/>
            </a:xfrm>
          </p:grpSpPr>
          <p:sp>
            <p:nvSpPr>
              <p:cNvPr id="149" name=""/>
              <p:cNvSpPr/>
              <p:nvPr/>
            </p:nvSpPr>
            <p:spPr>
              <a:xfrm>
                <a:off x="3096000" y="2059200"/>
                <a:ext cx="360360" cy="389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2952000" y="2253960"/>
                <a:ext cx="14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>
                <a:off x="2952000" y="2175840"/>
                <a:ext cx="0" cy="15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320000" y="1280160"/>
              <a:ext cx="358200" cy="468000"/>
              <a:chOff x="4320000" y="1280160"/>
              <a:chExt cx="358200" cy="468000"/>
            </a:xfrm>
          </p:grpSpPr>
          <p:sp>
            <p:nvSpPr>
              <p:cNvPr id="153" name=""/>
              <p:cNvSpPr/>
              <p:nvPr/>
            </p:nvSpPr>
            <p:spPr>
              <a:xfrm>
                <a:off x="4320000" y="1357920"/>
                <a:ext cx="358200" cy="390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4463280" y="1280160"/>
                <a:ext cx="10728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463280" y="1357920"/>
                <a:ext cx="143280" cy="15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5652000" y="1243440"/>
              <a:ext cx="397080" cy="389880"/>
              <a:chOff x="5652000" y="1243440"/>
              <a:chExt cx="397080" cy="389880"/>
            </a:xfrm>
          </p:grpSpPr>
          <p:sp>
            <p:nvSpPr>
              <p:cNvPr id="157" name=""/>
              <p:cNvSpPr/>
              <p:nvPr/>
            </p:nvSpPr>
            <p:spPr>
              <a:xfrm>
                <a:off x="5652000" y="1243440"/>
                <a:ext cx="361080" cy="389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652000" y="1633320"/>
                <a:ext cx="39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2482920" y="2217240"/>
              <a:ext cx="3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5687640" y="1982880"/>
              <a:ext cx="397080" cy="389160"/>
              <a:chOff x="5687640" y="1982880"/>
              <a:chExt cx="397080" cy="389160"/>
            </a:xfrm>
          </p:grpSpPr>
          <p:sp>
            <p:nvSpPr>
              <p:cNvPr id="161" name=""/>
              <p:cNvSpPr/>
              <p:nvPr/>
            </p:nvSpPr>
            <p:spPr>
              <a:xfrm>
                <a:off x="5687640" y="1982880"/>
                <a:ext cx="361080" cy="389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687640" y="2372040"/>
                <a:ext cx="39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5867280" y="1669320"/>
              <a:ext cx="0" cy="27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456720" y="1593360"/>
              <a:ext cx="862920" cy="62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678200" y="1474560"/>
              <a:ext cx="97344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456720" y="1668960"/>
              <a:ext cx="230256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421080" y="2366280"/>
              <a:ext cx="218124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456720" y="2137680"/>
              <a:ext cx="2230560" cy="1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24000" y="3111480"/>
              <a:ext cx="397080" cy="389880"/>
              <a:chOff x="5724000" y="3111480"/>
              <a:chExt cx="397080" cy="389880"/>
            </a:xfrm>
          </p:grpSpPr>
          <p:sp>
            <p:nvSpPr>
              <p:cNvPr id="170" name=""/>
              <p:cNvSpPr/>
              <p:nvPr/>
            </p:nvSpPr>
            <p:spPr>
              <a:xfrm>
                <a:off x="5724000" y="3111480"/>
                <a:ext cx="361080" cy="389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24000" y="3501360"/>
                <a:ext cx="39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5867280" y="241164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389320" y="1970280"/>
              <a:ext cx="102240" cy="11124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0" y="16"/>
                  </a:moveTo>
                  <a:lnTo>
                    <a:pt x="1" y="12"/>
                  </a:lnTo>
                  <a:lnTo>
                    <a:pt x="3" y="8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1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7" y="16"/>
                  </a:lnTo>
                  <a:lnTo>
                    <a:pt x="36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2"/>
                  </a:lnTo>
                  <a:lnTo>
                    <a:pt x="21" y="34"/>
                  </a:lnTo>
                  <a:lnTo>
                    <a:pt x="16" y="34"/>
                  </a:lnTo>
                  <a:lnTo>
                    <a:pt x="11" y="32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340000" y="2137680"/>
              <a:ext cx="201240" cy="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41880" y="2362320"/>
              <a:ext cx="99360" cy="224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40000" y="2081880"/>
              <a:ext cx="101880" cy="505080"/>
            </a:xfrm>
            <a:custGeom>
              <a:avLst/>
              <a:gdLst/>
              <a:ahLst/>
              <a:rect l="l" t="t" r="r" b="b"/>
              <a:pathLst>
                <a:path w="37" h="153">
                  <a:moveTo>
                    <a:pt x="37" y="0"/>
                  </a:moveTo>
                  <a:lnTo>
                    <a:pt x="37" y="85"/>
                  </a:lnTo>
                  <a:lnTo>
                    <a:pt x="0" y="153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89320" y="1970280"/>
              <a:ext cx="102240" cy="11124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0" y="16"/>
                  </a:moveTo>
                  <a:lnTo>
                    <a:pt x="1" y="12"/>
                  </a:lnTo>
                  <a:lnTo>
                    <a:pt x="3" y="8"/>
                  </a:lnTo>
                  <a:lnTo>
                    <a:pt x="7" y="4"/>
                  </a:lnTo>
                  <a:lnTo>
                    <a:pt x="11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1"/>
                  </a:lnTo>
                  <a:lnTo>
                    <a:pt x="31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7" y="16"/>
                  </a:lnTo>
                  <a:lnTo>
                    <a:pt x="36" y="21"/>
                  </a:lnTo>
                  <a:lnTo>
                    <a:pt x="34" y="26"/>
                  </a:lnTo>
                  <a:lnTo>
                    <a:pt x="31" y="29"/>
                  </a:lnTo>
                  <a:lnTo>
                    <a:pt x="26" y="32"/>
                  </a:lnTo>
                  <a:lnTo>
                    <a:pt x="21" y="34"/>
                  </a:lnTo>
                  <a:lnTo>
                    <a:pt x="16" y="34"/>
                  </a:lnTo>
                  <a:lnTo>
                    <a:pt x="11" y="32"/>
                  </a:lnTo>
                  <a:lnTo>
                    <a:pt x="7" y="29"/>
                  </a:lnTo>
                  <a:lnTo>
                    <a:pt x="3" y="26"/>
                  </a:lnTo>
                  <a:lnTo>
                    <a:pt x="1" y="21"/>
                  </a:lnTo>
                  <a:lnTo>
                    <a:pt x="0" y="1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4896720" y="2917080"/>
              <a:ext cx="393840" cy="389160"/>
              <a:chOff x="4896720" y="2917080"/>
              <a:chExt cx="393840" cy="389160"/>
            </a:xfrm>
          </p:grpSpPr>
          <p:sp>
            <p:nvSpPr>
              <p:cNvPr id="179" name=""/>
              <p:cNvSpPr/>
              <p:nvPr/>
            </p:nvSpPr>
            <p:spPr>
              <a:xfrm>
                <a:off x="4896720" y="2917080"/>
                <a:ext cx="357840" cy="389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896720" y="3306240"/>
                <a:ext cx="393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5974920" y="2411640"/>
              <a:ext cx="0" cy="65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5254920" y="2877480"/>
              <a:ext cx="719640" cy="1548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421080" y="2411640"/>
              <a:ext cx="1475280" cy="62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049080" y="1554120"/>
              <a:ext cx="322560" cy="54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6084360" y="2098080"/>
              <a:ext cx="286920" cy="11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456720" y="1125000"/>
              <a:ext cx="179280" cy="10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636360" y="1125360"/>
              <a:ext cx="2051280" cy="19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250920" y="0"/>
            <a:ext cx="3529080" cy="1598760"/>
            <a:chOff x="250920" y="0"/>
            <a:chExt cx="3529080" cy="1598760"/>
          </a:xfrm>
        </p:grpSpPr>
        <p:graphicFrame>
          <p:nvGraphicFramePr>
            <p:cNvPr id="189" name=""/>
            <p:cNvGraphicFramePr/>
            <p:nvPr/>
          </p:nvGraphicFramePr>
          <p:xfrm>
            <a:off x="250920" y="0"/>
            <a:ext cx="887400" cy="1598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0920" y="0"/>
                      <a:ext cx="887400" cy="1598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1773360" y="416160"/>
              <a:ext cx="1719360" cy="487440"/>
            </a:xfrm>
            <a:custGeom>
              <a:avLst/>
              <a:gdLst/>
              <a:ahLst/>
              <a:rect l="l" t="t" r="r" b="b"/>
              <a:pathLst>
                <a:path w="613" h="306">
                  <a:moveTo>
                    <a:pt x="0" y="152"/>
                  </a:moveTo>
                  <a:lnTo>
                    <a:pt x="2" y="136"/>
                  </a:lnTo>
                  <a:lnTo>
                    <a:pt x="7" y="120"/>
                  </a:lnTo>
                  <a:lnTo>
                    <a:pt x="16" y="104"/>
                  </a:lnTo>
                  <a:lnTo>
                    <a:pt x="28" y="88"/>
                  </a:lnTo>
                  <a:lnTo>
                    <a:pt x="44" y="74"/>
                  </a:lnTo>
                  <a:lnTo>
                    <a:pt x="62" y="60"/>
                  </a:lnTo>
                  <a:lnTo>
                    <a:pt x="83" y="48"/>
                  </a:lnTo>
                  <a:lnTo>
                    <a:pt x="107" y="36"/>
                  </a:lnTo>
                  <a:lnTo>
                    <a:pt x="134" y="26"/>
                  </a:lnTo>
                  <a:lnTo>
                    <a:pt x="163" y="17"/>
                  </a:lnTo>
                  <a:lnTo>
                    <a:pt x="193" y="10"/>
                  </a:lnTo>
                  <a:lnTo>
                    <a:pt x="225" y="5"/>
                  </a:lnTo>
                  <a:lnTo>
                    <a:pt x="256" y="1"/>
                  </a:lnTo>
                  <a:lnTo>
                    <a:pt x="290" y="0"/>
                  </a:lnTo>
                  <a:lnTo>
                    <a:pt x="323" y="0"/>
                  </a:lnTo>
                  <a:lnTo>
                    <a:pt x="356" y="1"/>
                  </a:lnTo>
                  <a:lnTo>
                    <a:pt x="388" y="5"/>
                  </a:lnTo>
                  <a:lnTo>
                    <a:pt x="420" y="10"/>
                  </a:lnTo>
                  <a:lnTo>
                    <a:pt x="450" y="17"/>
                  </a:lnTo>
                  <a:lnTo>
                    <a:pt x="478" y="26"/>
                  </a:lnTo>
                  <a:lnTo>
                    <a:pt x="505" y="36"/>
                  </a:lnTo>
                  <a:lnTo>
                    <a:pt x="529" y="48"/>
                  </a:lnTo>
                  <a:lnTo>
                    <a:pt x="550" y="60"/>
                  </a:lnTo>
                  <a:lnTo>
                    <a:pt x="569" y="74"/>
                  </a:lnTo>
                  <a:lnTo>
                    <a:pt x="585" y="88"/>
                  </a:lnTo>
                  <a:lnTo>
                    <a:pt x="597" y="104"/>
                  </a:lnTo>
                  <a:lnTo>
                    <a:pt x="606" y="120"/>
                  </a:lnTo>
                  <a:lnTo>
                    <a:pt x="611" y="136"/>
                  </a:lnTo>
                  <a:lnTo>
                    <a:pt x="613" y="152"/>
                  </a:lnTo>
                  <a:lnTo>
                    <a:pt x="611" y="170"/>
                  </a:lnTo>
                  <a:lnTo>
                    <a:pt x="606" y="186"/>
                  </a:lnTo>
                  <a:lnTo>
                    <a:pt x="597" y="202"/>
                  </a:lnTo>
                  <a:lnTo>
                    <a:pt x="585" y="217"/>
                  </a:lnTo>
                  <a:lnTo>
                    <a:pt x="569" y="232"/>
                  </a:lnTo>
                  <a:lnTo>
                    <a:pt x="550" y="246"/>
                  </a:lnTo>
                  <a:lnTo>
                    <a:pt x="529" y="258"/>
                  </a:lnTo>
                  <a:lnTo>
                    <a:pt x="505" y="270"/>
                  </a:lnTo>
                  <a:lnTo>
                    <a:pt x="478" y="280"/>
                  </a:lnTo>
                  <a:lnTo>
                    <a:pt x="450" y="288"/>
                  </a:lnTo>
                  <a:lnTo>
                    <a:pt x="420" y="296"/>
                  </a:lnTo>
                  <a:lnTo>
                    <a:pt x="388" y="301"/>
                  </a:lnTo>
                  <a:lnTo>
                    <a:pt x="356" y="304"/>
                  </a:lnTo>
                  <a:lnTo>
                    <a:pt x="323" y="306"/>
                  </a:lnTo>
                  <a:lnTo>
                    <a:pt x="290" y="306"/>
                  </a:lnTo>
                  <a:lnTo>
                    <a:pt x="256" y="304"/>
                  </a:lnTo>
                  <a:lnTo>
                    <a:pt x="225" y="301"/>
                  </a:lnTo>
                  <a:lnTo>
                    <a:pt x="193" y="296"/>
                  </a:lnTo>
                  <a:lnTo>
                    <a:pt x="163" y="288"/>
                  </a:lnTo>
                  <a:lnTo>
                    <a:pt x="134" y="280"/>
                  </a:lnTo>
                  <a:lnTo>
                    <a:pt x="107" y="270"/>
                  </a:lnTo>
                  <a:lnTo>
                    <a:pt x="83" y="258"/>
                  </a:lnTo>
                  <a:lnTo>
                    <a:pt x="62" y="246"/>
                  </a:lnTo>
                  <a:lnTo>
                    <a:pt x="44" y="232"/>
                  </a:lnTo>
                  <a:lnTo>
                    <a:pt x="28" y="217"/>
                  </a:lnTo>
                  <a:lnTo>
                    <a:pt x="16" y="202"/>
                  </a:lnTo>
                  <a:lnTo>
                    <a:pt x="7" y="186"/>
                  </a:lnTo>
                  <a:lnTo>
                    <a:pt x="2" y="170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98920" y="582840"/>
              <a:ext cx="1981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mar Présta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71640" y="69552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1835280" y="1197000"/>
            <a:ext cx="1512720" cy="287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51280" y="3068640"/>
            <a:ext cx="647640" cy="79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276720" y="3860640"/>
            <a:ext cx="4565160" cy="2054160"/>
            <a:chOff x="3276720" y="3860640"/>
            <a:chExt cx="4565160" cy="2054160"/>
          </a:xfrm>
        </p:grpSpPr>
        <p:sp>
          <p:nvSpPr>
            <p:cNvPr id="197" name=""/>
            <p:cNvSpPr/>
            <p:nvPr/>
          </p:nvSpPr>
          <p:spPr>
            <a:xfrm>
              <a:off x="6384960" y="3860640"/>
              <a:ext cx="68544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8640" y="3936960"/>
              <a:ext cx="68544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427200" y="586728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3427200" y="578952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3427200" y="570816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427200" y="563076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427200" y="555300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3427200" y="5471640"/>
              <a:ext cx="1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3427200" y="539424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3427200" y="531648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27200" y="523656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427200" y="515772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427200" y="507996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427200" y="500004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427200" y="492120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427200" y="484344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427200" y="476352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3427200" y="4684320"/>
              <a:ext cx="1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3427200" y="4606200"/>
              <a:ext cx="144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3427200" y="4528440"/>
              <a:ext cx="144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3427200" y="444924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98880" y="3997080"/>
              <a:ext cx="68544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46560" y="4197240"/>
              <a:ext cx="190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44040" y="4093920"/>
              <a:ext cx="250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IU-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341600" y="586728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341600" y="578952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4341600" y="570816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4341600" y="563076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341600" y="555300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4341600" y="5471640"/>
              <a:ext cx="1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341600" y="539424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341600" y="531648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4341600" y="523656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4341600" y="515772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4341600" y="507996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341600" y="500004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341600" y="492120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341600" y="484344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341600" y="476352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341600" y="4684320"/>
              <a:ext cx="1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341600" y="4606200"/>
              <a:ext cx="144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341600" y="4528440"/>
              <a:ext cx="144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341600" y="444924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4341600" y="4369680"/>
              <a:ext cx="144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4341600" y="4314240"/>
              <a:ext cx="1440" cy="2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46720" y="3997080"/>
              <a:ext cx="68364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22680" y="4197240"/>
              <a:ext cx="529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30600" y="4093920"/>
              <a:ext cx="590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: GestorLib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5689440" y="586728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5689440" y="578952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5689440" y="570816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689440" y="563076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5689440" y="555300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5689440" y="5471640"/>
              <a:ext cx="1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5689440" y="539424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5689440" y="531648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5689440" y="523656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5689440" y="515772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5689440" y="507996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5689440" y="500004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5689440" y="492120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5689440" y="484344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689440" y="476352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689440" y="4684320"/>
              <a:ext cx="1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689440" y="4606200"/>
              <a:ext cx="144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5689440" y="4528440"/>
              <a:ext cx="144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689440" y="444924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5689440" y="4369680"/>
              <a:ext cx="144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689440" y="4314240"/>
              <a:ext cx="1440" cy="2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261120" y="3992400"/>
              <a:ext cx="68544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92960" y="4192560"/>
              <a:ext cx="223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92960" y="4090680"/>
              <a:ext cx="284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: Lib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6603840" y="586728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6603840" y="578952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603840" y="570816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6603840" y="563076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6603840" y="555300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6603840" y="5471640"/>
              <a:ext cx="1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603840" y="539424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6603840" y="531648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6603840" y="523656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6603840" y="515772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6603840" y="507996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6603840" y="500004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6603840" y="4921200"/>
              <a:ext cx="1440" cy="48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6603840" y="4843440"/>
              <a:ext cx="144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6603840" y="4764960"/>
              <a:ext cx="144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603840" y="4684320"/>
              <a:ext cx="144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603840" y="4606200"/>
              <a:ext cx="144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6603840" y="4528440"/>
              <a:ext cx="144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6603840" y="4449240"/>
              <a:ext cx="144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6603840" y="4369680"/>
              <a:ext cx="144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6603840" y="4309920"/>
              <a:ext cx="1440" cy="30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57880" y="3997080"/>
              <a:ext cx="684000" cy="3175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21600" y="4197240"/>
              <a:ext cx="55656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60120" y="4093920"/>
              <a:ext cx="56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elLibro:Lib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7500960" y="5867280"/>
              <a:ext cx="1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V="1">
              <a:off x="7500960" y="5789520"/>
              <a:ext cx="1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7500960" y="5708160"/>
              <a:ext cx="108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7500960" y="5630760"/>
              <a:ext cx="1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7500960" y="5553000"/>
              <a:ext cx="1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7500960" y="5471640"/>
              <a:ext cx="108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500960" y="5394240"/>
              <a:ext cx="1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500960" y="5316480"/>
              <a:ext cx="1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7500960" y="5236560"/>
              <a:ext cx="108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7500960" y="5157720"/>
              <a:ext cx="1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7500960" y="5079960"/>
              <a:ext cx="1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7500960" y="5000040"/>
              <a:ext cx="108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7500960" y="4921200"/>
              <a:ext cx="1080" cy="48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7500960" y="4843440"/>
              <a:ext cx="1080" cy="475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7500960" y="4764960"/>
              <a:ext cx="108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7500960" y="4684320"/>
              <a:ext cx="1080" cy="507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7500960" y="4606200"/>
              <a:ext cx="108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7500960" y="4528440"/>
              <a:ext cx="108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500960" y="4449240"/>
              <a:ext cx="1080" cy="493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500960" y="4369680"/>
              <a:ext cx="1080" cy="47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7500960" y="4314240"/>
              <a:ext cx="1080" cy="25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427200" y="4541760"/>
              <a:ext cx="8283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55920" y="4541760"/>
              <a:ext cx="8532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284720" y="4500360"/>
              <a:ext cx="56520" cy="84240"/>
            </a:xfrm>
            <a:custGeom>
              <a:avLst/>
              <a:gdLst/>
              <a:ahLst/>
              <a:rect l="l" t="t" r="r" b="b"/>
              <a:pathLst>
                <a:path w="34" h="51">
                  <a:moveTo>
                    <a:pt x="0" y="0"/>
                  </a:moveTo>
                  <a:lnTo>
                    <a:pt x="34" y="25"/>
                  </a:lnTo>
                  <a:lnTo>
                    <a:pt x="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19280" y="4381200"/>
              <a:ext cx="1861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1: Introducir Signatura y NumeroDeSoc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27200" y="4768560"/>
              <a:ext cx="8283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55920" y="4768560"/>
              <a:ext cx="8532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84720" y="4725720"/>
              <a:ext cx="56520" cy="85680"/>
            </a:xfrm>
            <a:custGeom>
              <a:avLst/>
              <a:gdLst/>
              <a:ahLst/>
              <a:rect l="l" t="t" r="r" b="b"/>
              <a:pathLst>
                <a:path w="34" h="51">
                  <a:moveTo>
                    <a:pt x="0" y="0"/>
                  </a:moveTo>
                  <a:lnTo>
                    <a:pt x="34" y="25"/>
                  </a:lnTo>
                  <a:lnTo>
                    <a:pt x="0" y="51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597120" y="4622760"/>
              <a:ext cx="46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: Acept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341600" y="4995720"/>
              <a:ext cx="1245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640480" y="4966920"/>
              <a:ext cx="48600" cy="5724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29" y="17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29" y="17"/>
                  </a:lnTo>
                  <a:close/>
                  <a:moveTo>
                    <a:pt x="0" y="34"/>
                  </a:moveTo>
                  <a:lnTo>
                    <a:pt x="29" y="17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40480" y="4966920"/>
              <a:ext cx="48600" cy="57240"/>
            </a:xfrm>
            <a:custGeom>
              <a:avLst/>
              <a:gdLst/>
              <a:ahLst/>
              <a:rect l="l" t="t" r="r" b="b"/>
              <a:pathLst>
                <a:path w="29" h="34">
                  <a:moveTo>
                    <a:pt x="29" y="17"/>
                  </a:moveTo>
                  <a:lnTo>
                    <a:pt x="0" y="34"/>
                  </a:lnTo>
                  <a:lnTo>
                    <a:pt x="0" y="0"/>
                  </a:lnTo>
                  <a:lnTo>
                    <a:pt x="29" y="1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V="1">
              <a:off x="5640480" y="4995360"/>
              <a:ext cx="48600" cy="28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562360" y="4995720"/>
              <a:ext cx="777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254120" y="4851360"/>
              <a:ext cx="1692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3: obtenerLibro(signaturaLibro:String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5689440" y="5221080"/>
              <a:ext cx="8139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53080" y="5190840"/>
              <a:ext cx="50400" cy="5724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17"/>
                  </a:moveTo>
                  <a:lnTo>
                    <a:pt x="1" y="34"/>
                  </a:lnTo>
                  <a:lnTo>
                    <a:pt x="0" y="0"/>
                  </a:lnTo>
                  <a:lnTo>
                    <a:pt x="30" y="17"/>
                  </a:lnTo>
                  <a:close/>
                  <a:moveTo>
                    <a:pt x="1" y="34"/>
                  </a:moveTo>
                  <a:lnTo>
                    <a:pt x="30" y="17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3080" y="5190840"/>
              <a:ext cx="50400" cy="5724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30" y="17"/>
                  </a:moveTo>
                  <a:lnTo>
                    <a:pt x="1" y="34"/>
                  </a:lnTo>
                  <a:lnTo>
                    <a:pt x="0" y="0"/>
                  </a:lnTo>
                  <a:lnTo>
                    <a:pt x="30" y="17"/>
                  </a:lnTo>
                </a:path>
              </a:pathLst>
            </a:custGeom>
            <a:noFill/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556320" y="5219280"/>
              <a:ext cx="47160" cy="28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6475320" y="5221080"/>
              <a:ext cx="806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76200" y="5079960"/>
              <a:ext cx="759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4: getSignatura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384960" y="4444920"/>
              <a:ext cx="1120320" cy="585720"/>
            </a:xfrm>
            <a:custGeom>
              <a:avLst/>
              <a:gdLst/>
              <a:ahLst/>
              <a:rect l="l" t="t" r="r" b="b"/>
              <a:pathLst>
                <a:path w="671" h="352">
                  <a:moveTo>
                    <a:pt x="671" y="82"/>
                  </a:moveTo>
                  <a:lnTo>
                    <a:pt x="602" y="0"/>
                  </a:lnTo>
                  <a:lnTo>
                    <a:pt x="602" y="82"/>
                  </a:lnTo>
                  <a:lnTo>
                    <a:pt x="671" y="82"/>
                  </a:lnTo>
                  <a:close/>
                  <a:moveTo>
                    <a:pt x="0" y="352"/>
                  </a:moveTo>
                  <a:lnTo>
                    <a:pt x="671" y="352"/>
                  </a:lnTo>
                  <a:lnTo>
                    <a:pt x="671" y="82"/>
                  </a:lnTo>
                  <a:lnTo>
                    <a:pt x="602" y="82"/>
                  </a:lnTo>
                  <a:lnTo>
                    <a:pt x="602" y="0"/>
                  </a:lnTo>
                  <a:lnTo>
                    <a:pt x="0" y="0"/>
                  </a:lnTo>
                  <a:lnTo>
                    <a:pt x="0" y="352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485760" y="4493880"/>
              <a:ext cx="1023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e repite hasta que 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84400" y="4614840"/>
              <a:ext cx="816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ncuentre un lib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535080" y="4736880"/>
              <a:ext cx="919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n la signatura qu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549840" y="4857480"/>
              <a:ext cx="887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stamos buscand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427640" y="5451120"/>
              <a:ext cx="4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06840" y="5451120"/>
              <a:ext cx="47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4600" y="5451120"/>
              <a:ext cx="48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65600" y="5451120"/>
              <a:ext cx="47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743360" y="5451120"/>
              <a:ext cx="48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22920" y="5451120"/>
              <a:ext cx="47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902120" y="5451120"/>
              <a:ext cx="48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81680" y="5451120"/>
              <a:ext cx="47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59440" y="5451120"/>
              <a:ext cx="47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38640" y="5451120"/>
              <a:ext cx="48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18200" y="5451120"/>
              <a:ext cx="47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295960" y="5451120"/>
              <a:ext cx="4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376960" y="5451120"/>
              <a:ext cx="47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54720" y="5451120"/>
              <a:ext cx="4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533920" y="5451120"/>
              <a:ext cx="471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613480" y="5451120"/>
              <a:ext cx="48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4341600" y="5451120"/>
              <a:ext cx="856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341600" y="5406840"/>
              <a:ext cx="55440" cy="85680"/>
            </a:xfrm>
            <a:custGeom>
              <a:avLst/>
              <a:gdLst/>
              <a:ahLst/>
              <a:rect l="l" t="t" r="r" b="b"/>
              <a:pathLst>
                <a:path w="34" h="51">
                  <a:moveTo>
                    <a:pt x="34" y="51"/>
                  </a:moveTo>
                  <a:lnTo>
                    <a:pt x="0" y="26"/>
                  </a:lnTo>
                  <a:lnTo>
                    <a:pt x="34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16440" y="5308560"/>
              <a:ext cx="305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elLibr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41600" y="5676840"/>
              <a:ext cx="318600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75120" y="5537160"/>
              <a:ext cx="640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5: getCopias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003720" y="5765760"/>
              <a:ext cx="930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6: isCopiaPrestada(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3276720" y="3860640"/>
              <a:ext cx="399600" cy="414360"/>
              <a:chOff x="3276720" y="3860640"/>
              <a:chExt cx="399600" cy="41436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3674880" y="4252680"/>
                <a:ext cx="1440" cy="22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3674880" y="4227120"/>
                <a:ext cx="1440" cy="11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50160" y="3860640"/>
                <a:ext cx="145440" cy="6552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0" y="43"/>
                    </a:moveTo>
                    <a:lnTo>
                      <a:pt x="2" y="30"/>
                    </a:lnTo>
                    <a:lnTo>
                      <a:pt x="6" y="19"/>
                    </a:lnTo>
                    <a:lnTo>
                      <a:pt x="15" y="10"/>
                    </a:lnTo>
                    <a:lnTo>
                      <a:pt x="26" y="3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1" y="10"/>
                    </a:lnTo>
                    <a:lnTo>
                      <a:pt x="79" y="19"/>
                    </a:lnTo>
                    <a:lnTo>
                      <a:pt x="85" y="30"/>
                    </a:lnTo>
                    <a:lnTo>
                      <a:pt x="87" y="43"/>
                    </a:lnTo>
                    <a:lnTo>
                      <a:pt x="85" y="54"/>
                    </a:lnTo>
                    <a:lnTo>
                      <a:pt x="79" y="66"/>
                    </a:lnTo>
                    <a:lnTo>
                      <a:pt x="71" y="75"/>
                    </a:lnTo>
                    <a:lnTo>
                      <a:pt x="61" y="82"/>
                    </a:lnTo>
                    <a:lnTo>
                      <a:pt x="49" y="85"/>
                    </a:lnTo>
                    <a:lnTo>
                      <a:pt x="37" y="85"/>
                    </a:lnTo>
                    <a:lnTo>
                      <a:pt x="26" y="82"/>
                    </a:lnTo>
                    <a:lnTo>
                      <a:pt x="15" y="75"/>
                    </a:lnTo>
                    <a:lnTo>
                      <a:pt x="6" y="66"/>
                    </a:lnTo>
                    <a:lnTo>
                      <a:pt x="2" y="54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276720" y="3960000"/>
                <a:ext cx="28908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422160" y="4093560"/>
                <a:ext cx="143640" cy="133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276720" y="3926160"/>
                <a:ext cx="145440" cy="300960"/>
              </a:xfrm>
              <a:custGeom>
                <a:avLst/>
                <a:gdLst/>
                <a:ahLst/>
                <a:rect l="l" t="t" r="r" b="b"/>
                <a:pathLst>
                  <a:path w="87" h="390">
                    <a:moveTo>
                      <a:pt x="87" y="0"/>
                    </a:moveTo>
                    <a:lnTo>
                      <a:pt x="87" y="217"/>
                    </a:lnTo>
                    <a:lnTo>
                      <a:pt x="0" y="39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3350160" y="3860640"/>
                <a:ext cx="145440" cy="65520"/>
              </a:xfrm>
              <a:custGeom>
                <a:avLst/>
                <a:gdLst/>
                <a:ahLst/>
                <a:rect l="l" t="t" r="r" b="b"/>
                <a:pathLst>
                  <a:path w="87" h="85">
                    <a:moveTo>
                      <a:pt x="0" y="43"/>
                    </a:moveTo>
                    <a:lnTo>
                      <a:pt x="2" y="30"/>
                    </a:lnTo>
                    <a:lnTo>
                      <a:pt x="6" y="19"/>
                    </a:lnTo>
                    <a:lnTo>
                      <a:pt x="15" y="10"/>
                    </a:lnTo>
                    <a:lnTo>
                      <a:pt x="26" y="3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1" y="3"/>
                    </a:lnTo>
                    <a:lnTo>
                      <a:pt x="71" y="10"/>
                    </a:lnTo>
                    <a:lnTo>
                      <a:pt x="79" y="19"/>
                    </a:lnTo>
                    <a:lnTo>
                      <a:pt x="85" y="30"/>
                    </a:lnTo>
                    <a:lnTo>
                      <a:pt x="87" y="43"/>
                    </a:lnTo>
                    <a:lnTo>
                      <a:pt x="85" y="54"/>
                    </a:lnTo>
                    <a:lnTo>
                      <a:pt x="79" y="66"/>
                    </a:lnTo>
                    <a:lnTo>
                      <a:pt x="71" y="75"/>
                    </a:lnTo>
                    <a:lnTo>
                      <a:pt x="61" y="82"/>
                    </a:lnTo>
                    <a:lnTo>
                      <a:pt x="49" y="85"/>
                    </a:lnTo>
                    <a:lnTo>
                      <a:pt x="37" y="85"/>
                    </a:lnTo>
                    <a:lnTo>
                      <a:pt x="26" y="82"/>
                    </a:lnTo>
                    <a:lnTo>
                      <a:pt x="15" y="75"/>
                    </a:lnTo>
                    <a:lnTo>
                      <a:pt x="6" y="66"/>
                    </a:lnTo>
                    <a:lnTo>
                      <a:pt x="2" y="54"/>
                    </a:lnTo>
                    <a:lnTo>
                      <a:pt x="0" y="4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"/>
          <p:cNvSpPr/>
          <p:nvPr/>
        </p:nvSpPr>
        <p:spPr>
          <a:xfrm>
            <a:off x="684360" y="4724280"/>
            <a:ext cx="23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3.- DISEÑO  DEL CASO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979640" y="6004080"/>
            <a:ext cx="5761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4.-  IMPLEMENTACIÓN  DEL CASO DE U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5.- PRUEBA DEL CASO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88000" y="1916280"/>
            <a:ext cx="23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2.- ANÁLISIS  DEL CASO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924360" y="404640"/>
            <a:ext cx="23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1.- CASO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588000" y="333360"/>
            <a:ext cx="2376720" cy="70380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Desarrollo guiado por CASOS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5BF7-E773-4BA0-A4CD-FADAEC94750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. Centrado en la arquitectur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920" y="177336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La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Narrow"/>
              </a:rPr>
              <a:t>arquitectura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de un sistema software es un extracto de los modelos del sistema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Narrow"/>
              </a:rPr>
              <a:t>Extracto: VISTA DE CADA MODEL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Nos da una idea sobre qué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Narrow"/>
              </a:rPr>
              <a:t>forma 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tiene el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 Narrow"/>
              </a:rPr>
              <a:t>sistema</a:t>
            </a: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 completo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3C4-C15C-46A5-AC7D-DB4D800EAF9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2T16:48:02Z</dcterms:created>
  <dc:creator>MCO</dc:creator>
  <dc:description/>
  <dc:language>en-US</dc:language>
  <cp:lastModifiedBy>MCO</cp:lastModifiedBy>
  <cp:lastPrinted>1999-09-29T08:06:17Z</cp:lastPrinted>
  <dcterms:modified xsi:type="dcterms:W3CDTF">2008-11-13T16:18:23Z</dcterms:modified>
  <cp:revision>28</cp:revision>
  <dc:subject/>
  <dc:title>El proceso unificado de desarrollo de software</dc:title>
</cp:coreProperties>
</file>