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6.wmf" ContentType="image/x-wmf"/>
  <Override PartName="/ppt/media/image12.wmf" ContentType="image/x-wmf"/>
  <Override PartName="/ppt/media/image7.wmf" ContentType="image/x-wmf"/>
  <Override PartName="/ppt/media/image4.gif" ContentType="image/gif"/>
  <Override PartName="/ppt/media/image15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907588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309-6D81-4C05-B295-B69A4AF9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A8E-C182-45BC-B1B7-2B415209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49C-7202-4682-B841-A6666732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07D-5E08-44AC-B61A-8C05AA40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B71-51BD-4316-A6BE-BFBF8F1B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591-DBBC-4A3F-B260-52C3858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508-40C3-4299-B55E-DDD8A413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479-49E0-4FFC-8D50-BC66E6D0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0080" y="42048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99E-CC7F-4825-938F-1C291687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60A-4B3F-490F-A1CD-1CA6E791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ED2-D1ED-4794-A276-EDADB5A8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12A-AC29-46E4-9252-E0DC3ECD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3F04-25AC-4025-8185-1F6D9C3C0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3880" y="1246320"/>
            <a:ext cx="84200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9.wmf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1200" y="2847960"/>
            <a:ext cx="8623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El Lenguaje Unificado de Modelado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UML 2.0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441520" y="825480"/>
            <a:ext cx="462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Análisis y Diseño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3840" y="269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 del Softwar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714320"/>
            <a:ext cx="842004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modelado es el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nálisi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aplicaciones software antes de escribir el cód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rean un conjunto de modelos (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lanos de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”) que permiten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pecific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aspectos del sistema como los requisitos, la estructura y el compor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model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yudan a razon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bre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vorecen la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n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ocument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n una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eneración automática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CA8-1249-45C4-89E5-56C244180E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172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tilidad del 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1046160" y="4249800"/>
            <a:ext cx="7153200" cy="1844640"/>
          </a:xfrm>
          <a:prstGeom prst="rect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9440" y="4546440"/>
            <a:ext cx="66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modelado es la parte esencial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todas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dades que conducen a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software de cali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0320" y="1938240"/>
            <a:ext cx="7140600" cy="1987560"/>
          </a:xfrm>
          <a:prstGeom prst="rect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59920" y="2092320"/>
            <a:ext cx="678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empresa software con éxito es aqu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duce de manera consistente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 c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que satisface las necesidad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usuari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0C3-6366-4D70-98B7-53482E986C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47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¿Construimos software de calidad?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0840" y="158400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trasos en los pl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yectos cance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ápido deterioro del sistema insta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 de defectos o fa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Requisitos mal comprend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ambios frecuentes en el dominio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enos programadores se cansan y dejan el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¿Modelado es la solu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ADD-9138-4C58-8C31-9A25BE22C1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8960" y="0"/>
            <a:ext cx="8929800" cy="6353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63600" y="735120"/>
            <a:ext cx="181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Mode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Estructu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735-9801-4AB4-BAEE-85D9DF1A41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42160" y="5548320"/>
            <a:ext cx="2608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Modelo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Comport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538200" y="208080"/>
            <a:ext cx="9723600" cy="575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C6E-395C-4702-BDFE-E86B0402C4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0840" y="331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tilidad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l 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89000" y="1420920"/>
            <a:ext cx="7311600" cy="3225600"/>
            <a:chOff x="1089000" y="1420920"/>
            <a:chExt cx="7311600" cy="322560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089000" y="1820880"/>
              <a:ext cx="142200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109680" y="1420920"/>
              <a:ext cx="5290920" cy="1798560"/>
            </a:xfrm>
            <a:prstGeom prst="cloudCallout">
              <a:avLst>
                <a:gd name="adj1" fmla="val -65893"/>
                <a:gd name="adj2" fmla="val 4458"/>
              </a:avLst>
            </a:pr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86960" y="1962000"/>
              <a:ext cx="453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¿Por qué no escribo códig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directament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468680" y="378000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ía lo ideal pero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4560" y="44751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... necesitamos escribir model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17200" y="521028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nque la mayoría de desarrolla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vía no practican el mode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09D-1071-4881-8BB5-E17F84C1D6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23640" y="3430440"/>
            <a:ext cx="84200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obtienen beneficios con el model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7120" y="4156200"/>
            <a:ext cx="63612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coste en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forma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50960" y="4915080"/>
            <a:ext cx="75693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Una mejora de la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productivid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Una mejora de la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calid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softw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0560" y="162000"/>
            <a:ext cx="7943760" cy="3297240"/>
            <a:chOff x="520560" y="162000"/>
            <a:chExt cx="7943760" cy="329724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20560" y="633240"/>
              <a:ext cx="1280880" cy="28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342160" y="162000"/>
              <a:ext cx="6122160" cy="1974600"/>
            </a:xfrm>
            <a:prstGeom prst="cloudCallout">
              <a:avLst>
                <a:gd name="adj1" fmla="val -61995"/>
                <a:gd name="adj2" fmla="val -402"/>
              </a:avLst>
            </a:pr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¿Por qué la mayoría de empresas no practican el modelado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04E-B044-47CA-9A98-B336E6860F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2347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tilidad del 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06320" y="1593360"/>
            <a:ext cx="82504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y estructuras que no son visibles en lo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yuda a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razon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obre el cómo se i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facilita la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comun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tre el equipo al existir un lenguaje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ispone de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document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que trasciende a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Generación de códig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a partir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 surgido un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nuevo paradigma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software a partir de modelos (p.e. MDA,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 Driven Architectu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 O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30F-F88C-4BA8-8347-391104A42D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7080" y="2091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tilidad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l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81944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mode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visualiza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cómo es o queremos que sea 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specifica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la estructura y comportamiento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uían la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onstr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ocumenta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las dec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8A3-07B1-47F0-A47D-6A4FB063FF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Modelos en otras área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1880" y="1523880"/>
            <a:ext cx="1765440" cy="4408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27200" y="1741320"/>
            <a:ext cx="6801120" cy="40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A75-C0D2-41B5-975E-436E60356D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nte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0760" y="1568520"/>
            <a:ext cx="84200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al modelado d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sentación de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sos de U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asos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aqu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CF4-A799-4F8E-939E-1DC7D3BC54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¿Qué es un modelo?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3040" y="2074680"/>
            <a:ext cx="86580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Un modelo es una simplificación de la re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Un modelo es resultado de un proceso de abstracción y ayuda a comprender y razonar sobre una re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85D-1031-4B9B-B082-0D1441A3AA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¿Qué es un modelo software?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2597040"/>
            <a:ext cx="8672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Un modelo es una descripción de un aspecto del sistema, expresada en un lenguaje bien definid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B3C-34BE-49F1-80B0-758024AAB2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Un modelo software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4280" y="1849320"/>
            <a:ext cx="8740800" cy="36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F00-FDD0-4369-9A14-DA8CD18B47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7080" y="382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os en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7840" y="1636200"/>
            <a:ext cx="842004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ructu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Inte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flujos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s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Despli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0960" y="1549440"/>
            <a:ext cx="3387600" cy="1346040"/>
          </a:xfrm>
          <a:prstGeom prst="wedgeEllipseCallout">
            <a:avLst>
              <a:gd name="adj1" fmla="val -67666"/>
              <a:gd name="adj2" fmla="val 22171"/>
            </a:avLst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Diagramas no son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AF8-5162-4214-B8D1-ED66653C64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5680" y="294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Tipos de mode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503360"/>
            <a:ext cx="826272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En qué 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tapa del proces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sa? ¿Análisis o Diseñ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uál es su 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grado de detall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 ¿Abstracto o detall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Qué sistema describ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 ¿Modelo de negocio o modelo softw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Qué aspecto describ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 ¿Estructural o de comportamien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Es 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pecífico o independiente de la platafo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 qué plataforma va dirigid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B, JDBC, .NET, CORB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759-50E4-4373-9D30-E6A07826EB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7080" y="2091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ropiedades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l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1520" y="1652760"/>
            <a:ext cx="824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lección de los modelos tiene una profunda influencia sobre cómo se acomete el problema y se moldea la 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 modelo debe estar ligado a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único modelo no es suficiente. Cualquier sistema trivial se aborda mejor a través de un pequeño conjunto de modelos casi independ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FDA-9D37-446B-BAD8-558C71FFD1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nte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0760" y="1568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al modelado d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Presentación de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sos de U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asos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aqu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52960" y="2195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510-7DEE-47E1-A6BC-F29649D8AF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1854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ML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y el modelad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1640" y="4052880"/>
            <a:ext cx="803916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UML es una nota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no es un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n definido muchos procesos para U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a ideado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U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el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proceso unifica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zable para sistemas que no sea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50840" y="1555920"/>
            <a:ext cx="7499520" cy="19890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19120" y="1711440"/>
            <a:ext cx="71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L es un lenguaje para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visualiz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especific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construi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document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os artefactos (modelos) de un sistema que involucra una gran cantidad de software, desde una perspectiva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orientada a objet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81A-C898-4334-A018-19A54893BB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172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arco Conceptual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6440" y="1630440"/>
            <a:ext cx="8543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Bloques básicos de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ructurales, Comportamiento, Agrupación, Ano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Reglas para combinar blo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ecen qué es un 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modelo bien for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Mecanismos com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ciones, Extensibilidad, Dicotomía clase-instancia, Dicotomía interfaz-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A53-D5B2-4F07-B1D2-B008C9E484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2347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structural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520" y="1582200"/>
            <a:ext cx="894708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par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státic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 mod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82640" y="2306520"/>
            <a:ext cx="1266840" cy="2805480"/>
            <a:chOff x="782640" y="2306520"/>
            <a:chExt cx="1266840" cy="2805480"/>
          </a:xfrm>
        </p:grpSpPr>
        <p:sp>
          <p:nvSpPr>
            <p:cNvPr id="121" name=""/>
            <p:cNvSpPr/>
            <p:nvPr/>
          </p:nvSpPr>
          <p:spPr>
            <a:xfrm>
              <a:off x="782640" y="2306520"/>
              <a:ext cx="1009800" cy="182556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64800" y="237168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ta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2640" y="2590560"/>
              <a:ext cx="1009800" cy="1541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640" y="3109680"/>
              <a:ext cx="1009800" cy="10224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838080" y="263016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38080" y="263016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838080" y="263016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063080" y="2630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orige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838080" y="2836800"/>
              <a:ext cx="22392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838080" y="2836800"/>
              <a:ext cx="22392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838080" y="2836800"/>
              <a:ext cx="2239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063440" y="283680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838080" y="325116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8"/>
            <a:stretch/>
          </p:blipFill>
          <p:spPr>
            <a:xfrm>
              <a:off x="838080" y="325116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9"/>
            <a:stretch/>
          </p:blipFill>
          <p:spPr>
            <a:xfrm>
              <a:off x="838080" y="325116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63440" y="325116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brir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0"/>
            <a:stretch/>
          </p:blipFill>
          <p:spPr>
            <a:xfrm>
              <a:off x="838080" y="345888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1"/>
            <a:stretch/>
          </p:blipFill>
          <p:spPr>
            <a:xfrm>
              <a:off x="838080" y="345888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2"/>
            <a:stretch/>
          </p:blipFill>
          <p:spPr>
            <a:xfrm>
              <a:off x="838080" y="3458880"/>
              <a:ext cx="22392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064160" y="345888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errar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3"/>
            <a:stretch/>
          </p:blipFill>
          <p:spPr>
            <a:xfrm>
              <a:off x="838080" y="366552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4"/>
            <a:stretch/>
          </p:blipFill>
          <p:spPr>
            <a:xfrm>
              <a:off x="838080" y="366552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5"/>
            <a:stretch/>
          </p:blipFill>
          <p:spPr>
            <a:xfrm>
              <a:off x="838080" y="3665520"/>
              <a:ext cx="22392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063800" y="366552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over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6"/>
            <a:stretch/>
          </p:blipFill>
          <p:spPr>
            <a:xfrm>
              <a:off x="838080" y="3860640"/>
              <a:ext cx="223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7"/>
            <a:stretch/>
          </p:blipFill>
          <p:spPr>
            <a:xfrm>
              <a:off x="838080" y="3860640"/>
              <a:ext cx="223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8"/>
            <a:stretch/>
          </p:blipFill>
          <p:spPr>
            <a:xfrm>
              <a:off x="838080" y="3860640"/>
              <a:ext cx="2239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063800" y="386064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ibujar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8680" y="47131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cl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0"/>
            </p:cNvCxnSpPr>
            <p:nvPr/>
          </p:nvCxnSpPr>
          <p:spPr>
            <a:xfrm flipV="1" rot="16200000">
              <a:off x="1220760" y="4294080"/>
              <a:ext cx="491400" cy="346680"/>
            </a:xfrm>
            <a:prstGeom prst="curvedConnector5">
              <a:avLst>
                <a:gd name="adj1" fmla="val 49780"/>
                <a:gd name="adj2" fmla="val 50000"/>
                <a:gd name="adj3" fmla="val 49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2889360" y="2341440"/>
            <a:ext cx="2916000" cy="1497240"/>
            <a:chOff x="2889360" y="2341440"/>
            <a:chExt cx="2916000" cy="1497240"/>
          </a:xfrm>
        </p:grpSpPr>
        <p:sp>
          <p:nvSpPr>
            <p:cNvPr id="152" name=""/>
            <p:cNvSpPr/>
            <p:nvPr/>
          </p:nvSpPr>
          <p:spPr>
            <a:xfrm>
              <a:off x="2889360" y="2341440"/>
              <a:ext cx="1285920" cy="7808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760" y="26190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Avis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89360" y="2844720"/>
              <a:ext cx="1285920" cy="2775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89360" y="2923920"/>
              <a:ext cx="1285920" cy="198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61440" y="240660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&lt;&lt;Interface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840" y="2347560"/>
              <a:ext cx="298440" cy="2476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9240" y="270504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Avis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8400" y="3439800"/>
              <a:ext cx="135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9" idx="0"/>
            </p:cNvCxnSpPr>
            <p:nvPr/>
          </p:nvCxnSpPr>
          <p:spPr>
            <a:xfrm flipV="1" rot="16200000">
              <a:off x="4129560" y="2860560"/>
              <a:ext cx="695520" cy="462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9" idx="0"/>
            </p:cNvCxnSpPr>
            <p:nvPr/>
          </p:nvCxnSpPr>
          <p:spPr>
            <a:xfrm flipH="1" flipV="1" rot="5400000">
              <a:off x="4485960" y="3033000"/>
              <a:ext cx="629280" cy="185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2" name=""/>
          <p:cNvGrpSpPr/>
          <p:nvPr/>
        </p:nvGrpSpPr>
        <p:grpSpPr>
          <a:xfrm>
            <a:off x="2533680" y="4794120"/>
            <a:ext cx="5800320" cy="835560"/>
            <a:chOff x="2533680" y="4794120"/>
            <a:chExt cx="5800320" cy="835560"/>
          </a:xfrm>
        </p:grpSpPr>
        <p:sp>
          <p:nvSpPr>
            <p:cNvPr id="163" name=""/>
            <p:cNvSpPr/>
            <p:nvPr/>
          </p:nvSpPr>
          <p:spPr>
            <a:xfrm>
              <a:off x="2533680" y="4794120"/>
              <a:ext cx="2968560" cy="54792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ValidarTransac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90240" y="5230800"/>
              <a:ext cx="164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caso de u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/>
            <p:nvPr/>
          </p:nvCxnSpPr>
          <p:spPr>
            <a:xfrm flipH="1" flipV="1">
              <a:off x="5505120" y="5262120"/>
              <a:ext cx="115272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6364080" y="2308320"/>
            <a:ext cx="2530440" cy="1739880"/>
            <a:chOff x="6364080" y="2308320"/>
            <a:chExt cx="2530440" cy="1739880"/>
          </a:xfrm>
        </p:grpSpPr>
        <p:sp>
          <p:nvSpPr>
            <p:cNvPr id="167" name=""/>
            <p:cNvSpPr/>
            <p:nvPr/>
          </p:nvSpPr>
          <p:spPr>
            <a:xfrm>
              <a:off x="6508080" y="3202200"/>
              <a:ext cx="2386440" cy="8460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13560" y="3340080"/>
              <a:ext cx="200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Times New Roman"/>
                </a:rPr>
                <a:t>Gestión Pedid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64080" y="230832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colabo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9" idx="2"/>
            </p:cNvCxnSpPr>
            <p:nvPr/>
          </p:nvCxnSpPr>
          <p:spPr>
            <a:xfrm flipH="1" rot="16200000">
              <a:off x="7333920" y="2720520"/>
              <a:ext cx="429480" cy="397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A7D-2AE6-4E04-B9C6-51BDE8E071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2376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Bibliografía  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4520" y="1531440"/>
            <a:ext cx="842004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. Booch, J. Rumbaugh, I. Jacobson,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El lenguaje unificado de modelado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2ª Edición, Addison-Wesley, 20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. Larman,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UML y Patrones: Una introducción al análisis y diseño orientado a objetos y al proceso unificado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rentice-Hall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ttp://www.uml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DDF-7E7C-448A-924A-50842AD99D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0080" y="2026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structural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872440" y="19270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lase a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1"/>
          </p:cNvCxnSpPr>
          <p:nvPr/>
        </p:nvCxnSpPr>
        <p:spPr>
          <a:xfrm flipV="1" rot="10800000">
            <a:off x="2304360" y="2125440"/>
            <a:ext cx="562680" cy="87840"/>
          </a:xfrm>
          <a:prstGeom prst="curvedConnector5">
            <a:avLst>
              <a:gd name="adj1" fmla="val 50000"/>
              <a:gd name="adj2" fmla="val 4979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6005880" y="347652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ompo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/>
          <p:nvPr/>
        </p:nvCxnSpPr>
        <p:spPr>
          <a:xfrm flipH="1" flipV="1" rot="5400000">
            <a:off x="6452280" y="2891160"/>
            <a:ext cx="554760" cy="518400"/>
          </a:xfrm>
          <a:prstGeom prst="curvedConnector5">
            <a:avLst>
              <a:gd name="adj1" fmla="val 49805"/>
              <a:gd name="adj2" fmla="val 49965"/>
              <a:gd name="adj3" fmla="val 498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29280" y="4430880"/>
            <a:ext cx="1247760" cy="927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90000" y="520236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n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 rot="10800000">
            <a:off x="6479280" y="5122080"/>
            <a:ext cx="635760" cy="294480"/>
          </a:xfrm>
          <a:prstGeom prst="curvedConnector5">
            <a:avLst>
              <a:gd name="adj1" fmla="val 49971"/>
              <a:gd name="adj2" fmla="val 49938"/>
              <a:gd name="adj3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9" name=""/>
          <p:cNvGrpSpPr/>
          <p:nvPr/>
        </p:nvGrpSpPr>
        <p:grpSpPr>
          <a:xfrm>
            <a:off x="5925960" y="1709640"/>
            <a:ext cx="2364120" cy="1020960"/>
            <a:chOff x="5925960" y="1709640"/>
            <a:chExt cx="2364120" cy="1020960"/>
          </a:xfrm>
        </p:grpSpPr>
        <p:grpSp>
          <p:nvGrpSpPr>
            <p:cNvPr id="180" name=""/>
            <p:cNvGrpSpPr/>
            <p:nvPr/>
          </p:nvGrpSpPr>
          <p:grpSpPr>
            <a:xfrm>
              <a:off x="7386480" y="1795320"/>
              <a:ext cx="673200" cy="320760"/>
              <a:chOff x="7386480" y="1795320"/>
              <a:chExt cx="673200" cy="320760"/>
            </a:xfrm>
          </p:grpSpPr>
          <p:sp>
            <p:nvSpPr>
              <p:cNvPr id="181" name=""/>
              <p:cNvSpPr/>
              <p:nvPr/>
            </p:nvSpPr>
            <p:spPr>
              <a:xfrm>
                <a:off x="7480440" y="1795320"/>
                <a:ext cx="579240" cy="3207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86480" y="1862280"/>
                <a:ext cx="189000" cy="61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86480" y="1989000"/>
                <a:ext cx="189000" cy="61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925960" y="1709640"/>
              <a:ext cx="2364120" cy="102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29360" y="2265480"/>
              <a:ext cx="15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FormularioPed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79480" y="3824280"/>
            <a:ext cx="192240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2960" y="424512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indow.d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2760" y="394812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&lt;artifact&g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9720" y="56275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artef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/>
          <p:nvPr/>
        </p:nvCxnSpPr>
        <p:spPr>
          <a:xfrm flipV="1" rot="16200000">
            <a:off x="1863000" y="5069160"/>
            <a:ext cx="567360" cy="362520"/>
          </a:xfrm>
          <a:prstGeom prst="curvedConnector5">
            <a:avLst>
              <a:gd name="adj1" fmla="val 49841"/>
              <a:gd name="adj2" fmla="val 50000"/>
              <a:gd name="adj3" fmla="val 498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"/>
          <p:cNvGrpSpPr/>
          <p:nvPr/>
        </p:nvGrpSpPr>
        <p:grpSpPr>
          <a:xfrm>
            <a:off x="841320" y="1801800"/>
            <a:ext cx="1390680" cy="1143000"/>
            <a:chOff x="841320" y="1801800"/>
            <a:chExt cx="1390680" cy="1143000"/>
          </a:xfrm>
        </p:grpSpPr>
        <p:sp>
          <p:nvSpPr>
            <p:cNvPr id="192" name=""/>
            <p:cNvSpPr/>
            <p:nvPr/>
          </p:nvSpPr>
          <p:spPr>
            <a:xfrm>
              <a:off x="841320" y="1801800"/>
              <a:ext cx="1390680" cy="112068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55800" y="1876320"/>
              <a:ext cx="1055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estor Even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895320" y="2392200"/>
              <a:ext cx="2048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895320" y="2392200"/>
              <a:ext cx="20484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895320" y="2392200"/>
              <a:ext cx="20484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096920" y="2392200"/>
              <a:ext cx="81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spender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895320" y="2625840"/>
              <a:ext cx="20484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895320" y="2625840"/>
              <a:ext cx="20484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7"/>
            <a:stretch/>
          </p:blipFill>
          <p:spPr>
            <a:xfrm>
              <a:off x="895320" y="2625840"/>
              <a:ext cx="20484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098000" y="262584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aciarCola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158560" y="1817640"/>
              <a:ext cx="3240" cy="11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09360" y="1827360"/>
              <a:ext cx="3240" cy="10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25560" y="2114640"/>
              <a:ext cx="12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23760" y="2243160"/>
              <a:ext cx="12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BF4-F989-491F-B349-EDF8703B1D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30080" y="1854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 Comportamient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773280" y="1633680"/>
            <a:ext cx="50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ar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námic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5720" y="2390760"/>
            <a:ext cx="795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junto de mensajes intercambiados entre un conju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objetos con un propósito part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4480" y="4548240"/>
            <a:ext cx="174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86880" y="417348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64360" y="3967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bu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B07-C778-4C23-A04B-3EE0819A91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93360" y="247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 de Comportamient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868320" y="1771560"/>
            <a:ext cx="86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Máquina de e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uencia de estados por los que pasa un objeto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vida en respuesta a ev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64600" y="3639960"/>
            <a:ext cx="13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11320" y="3633840"/>
            <a:ext cx="1832040" cy="71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7160" y="37926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4" idx="1"/>
          </p:cNvCxnSpPr>
          <p:nvPr/>
        </p:nvCxnSpPr>
        <p:spPr>
          <a:xfrm flipV="1" rot="10800000">
            <a:off x="4933080" y="3900240"/>
            <a:ext cx="731160" cy="181440"/>
          </a:xfrm>
          <a:prstGeom prst="curvedConnector5">
            <a:avLst>
              <a:gd name="adj1" fmla="val 50000"/>
              <a:gd name="adj2" fmla="val 499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3CA-8A0D-4D5A-B85B-7A152CCEB6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7120" y="220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 de Agrup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803160" y="1657440"/>
            <a:ext cx="76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artes 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organ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los modelos U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3168720"/>
            <a:ext cx="1955880" cy="801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6240" y="2882880"/>
            <a:ext cx="708120" cy="28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6240" y="2882880"/>
            <a:ext cx="708120" cy="285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57120" y="344808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del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33880" y="289404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</a:rPr>
              <a:t>paqu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/>
          <p:nvPr/>
        </p:nvCxnSpPr>
        <p:spPr>
          <a:xfrm flipV="1" rot="10800000">
            <a:off x="4199760" y="3176280"/>
            <a:ext cx="884880" cy="427680"/>
          </a:xfrm>
          <a:prstGeom prst="curvedConnector5">
            <a:avLst>
              <a:gd name="adj1" fmla="val 49898"/>
              <a:gd name="adj2" fmla="val 49957"/>
              <a:gd name="adj3" fmla="val 49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1640520" y="4446720"/>
            <a:ext cx="73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aquete incluye un conjunto de elementos de cualqu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turale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e una naturaleza concep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632-7B26-4D93-953A-6D22703818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7080" y="196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lementos de Anot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82280" y="166536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ar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xplicati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los modelos U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04800" y="33195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 flipV="1" rot="10800000">
            <a:off x="5039640" y="3574800"/>
            <a:ext cx="884880" cy="427680"/>
          </a:xfrm>
          <a:prstGeom prst="curvedConnector5">
            <a:avLst>
              <a:gd name="adj1" fmla="val 49898"/>
              <a:gd name="adj2" fmla="val 49957"/>
              <a:gd name="adj3" fmla="val 49898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484360" y="3330720"/>
            <a:ext cx="2394000" cy="104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1F1-35C3-4F55-A633-D2094FDB72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234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395360" y="2332080"/>
            <a:ext cx="2100240" cy="14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65800" y="19969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19440" y="3102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4680" y="3368520"/>
            <a:ext cx="20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1400" y="329400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tro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l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29200" y="29480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..1                  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96880" y="4548240"/>
            <a:ext cx="1895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2640" y="4392720"/>
            <a:ext cx="258480" cy="28548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0" y="0"/>
                </a:moveTo>
                <a:lnTo>
                  <a:pt x="0" y="180"/>
                </a:lnTo>
                <a:lnTo>
                  <a:pt x="150" y="105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05840" y="42894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Gener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6600" y="5533920"/>
            <a:ext cx="1896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03440" y="5378400"/>
            <a:ext cx="257400" cy="28584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0" y="0"/>
                </a:moveTo>
                <a:lnTo>
                  <a:pt x="0" y="180"/>
                </a:lnTo>
                <a:lnTo>
                  <a:pt x="150" y="105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28520" y="527544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296-A070-4479-AAE4-81678F4D01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4520" y="220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35160" y="1501920"/>
            <a:ext cx="682776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898-519B-4C68-A3B1-9F5054B844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54200" y="504720"/>
            <a:ext cx="665928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D39-4D6E-4691-B56A-B0E55FBE7E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80840" y="199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80840" y="1504440"/>
            <a:ext cx="84200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S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ff"/>
                </a:solidFill>
                <a:latin typeface="Arial"/>
              </a:rPr>
              <a:t>Comunic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stad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s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Estructura Compuest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Vista de interac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Paquet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Tiemp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UML 2.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73920" y="1366920"/>
            <a:ext cx="3686040" cy="1384200"/>
          </a:xfrm>
          <a:prstGeom prst="wedgeEllipseCallout">
            <a:avLst>
              <a:gd name="adj1" fmla="val -43324"/>
              <a:gd name="adj2" fmla="val 65365"/>
            </a:avLst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Diagramas no son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FBD-EC25-4E67-8969-9B16F37241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0840" y="199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43000" y="1306440"/>
            <a:ext cx="9410760" cy="500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3A6-0594-4C29-A0BC-10162E27E8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nte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568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ntroducción al modelado d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sentación de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sos de U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asos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aqu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78680" y="16444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B84-DAFD-4314-908F-B0249C8932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7880" y="290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os en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42680" y="1440000"/>
            <a:ext cx="8420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ructu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Interacción: Secuencia y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flujos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ctividade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.e.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Modelo del Negoc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de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ado de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s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s de Despli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7BE-61BB-4BA8-B76F-908FF477316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137000" y="111456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Modelo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00040" y="0"/>
            <a:ext cx="7858080" cy="6726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31160" y="3790800"/>
            <a:ext cx="2141280" cy="955800"/>
          </a:xfrm>
          <a:prstGeom prst="wedgeEllipseCallout">
            <a:avLst>
              <a:gd name="adj1" fmla="val -36657"/>
              <a:gd name="adj2" fmla="val -74087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 de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454-A0B5-4C98-978A-A82150D20B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76040" y="16344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Model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Casos de U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231840" y="1100160"/>
            <a:ext cx="9277560" cy="541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256360" y="4614840"/>
            <a:ext cx="2450880" cy="1085760"/>
          </a:xfrm>
          <a:prstGeom prst="wedgeEllipseCallout">
            <a:avLst>
              <a:gd name="adj1" fmla="val -38342"/>
              <a:gd name="adj2" fmla="val -78652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s de 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3D8-C84A-49BC-B5CE-48EA7A9E6B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6353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52280" y="882720"/>
            <a:ext cx="2332080" cy="1085760"/>
          </a:xfrm>
          <a:prstGeom prst="wedgeEllipseCallout">
            <a:avLst>
              <a:gd name="adj1" fmla="val 54629"/>
              <a:gd name="adj2" fmla="val 46930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 de cl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00880" y="895320"/>
            <a:ext cx="193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Estruc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246-82D7-47C0-BA2B-6E9CF644C1E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608920" y="5575320"/>
            <a:ext cx="2608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Modelo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Comport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-538200" y="208080"/>
            <a:ext cx="9723600" cy="57546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12000" y="463680"/>
            <a:ext cx="2435040" cy="1085760"/>
          </a:xfrm>
          <a:prstGeom prst="wedgeEllipseCallout">
            <a:avLst>
              <a:gd name="adj1" fmla="val -47782"/>
              <a:gd name="adj2" fmla="val 52194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 de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11D-41A6-4692-BDA3-51023044E0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08920" y="5575320"/>
            <a:ext cx="2608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Modelo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Comport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5920" y="666720"/>
            <a:ext cx="2506680" cy="1085760"/>
          </a:xfrm>
          <a:prstGeom prst="wedgeEllipseCallout">
            <a:avLst>
              <a:gd name="adj1" fmla="val 51837"/>
              <a:gd name="adj2" fmla="val 49416"/>
            </a:avLst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Diagrama de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50800" y="817560"/>
            <a:ext cx="8596440" cy="470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0CE-A690-4528-9185-EA13DB99FB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196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comune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280" y="1617480"/>
            <a:ext cx="842004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cotomía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lasificado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s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011320" y="3102120"/>
            <a:ext cx="1328400" cy="1629720"/>
            <a:chOff x="2011320" y="3102120"/>
            <a:chExt cx="1328400" cy="1629720"/>
          </a:xfrm>
        </p:grpSpPr>
        <p:sp>
          <p:nvSpPr>
            <p:cNvPr id="273" name=""/>
            <p:cNvSpPr/>
            <p:nvPr/>
          </p:nvSpPr>
          <p:spPr>
            <a:xfrm>
              <a:off x="2011320" y="3102120"/>
              <a:ext cx="1328400" cy="1629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36760" y="317376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11320" y="3477960"/>
              <a:ext cx="1328400" cy="12538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1320" y="4356000"/>
              <a:ext cx="1328400" cy="375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2080080" y="3531600"/>
              <a:ext cx="27684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2080080" y="3531600"/>
              <a:ext cx="27684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2080080" y="3531600"/>
              <a:ext cx="276840" cy="2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355120" y="353160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2080080" y="378252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5"/>
            <a:stretch/>
          </p:blipFill>
          <p:spPr>
            <a:xfrm>
              <a:off x="2080080" y="378252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>
              <a:off x="2080080" y="378252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54040" y="3782520"/>
              <a:ext cx="71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rec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7"/>
            <a:stretch/>
          </p:blipFill>
          <p:spPr>
            <a:xfrm>
              <a:off x="2080080" y="403380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8"/>
            <a:stretch/>
          </p:blipFill>
          <p:spPr>
            <a:xfrm>
              <a:off x="2080080" y="403380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9"/>
            <a:stretch/>
          </p:blipFill>
          <p:spPr>
            <a:xfrm>
              <a:off x="2080080" y="4033800"/>
              <a:ext cx="27684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354040" y="403380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76680" y="4035600"/>
            <a:ext cx="1322640" cy="825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21120" y="4165560"/>
            <a:ext cx="75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lena :</a:t>
            </a: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58480" y="444816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60840" y="5121360"/>
            <a:ext cx="1305000" cy="6602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61640" y="526572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21240" y="3016080"/>
            <a:ext cx="1355760" cy="6303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96360" y="32446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CE1-2405-47D3-8E1E-33606185E26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80840" y="209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comune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80840" y="1693800"/>
            <a:ext cx="84200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cotomí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terfaz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77080" y="3308400"/>
            <a:ext cx="175716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8000" y="3141720"/>
            <a:ext cx="306360" cy="2840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29600" y="349416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Ortograf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829040" y="3206880"/>
            <a:ext cx="1028520" cy="309600"/>
            <a:chOff x="4829040" y="3206880"/>
            <a:chExt cx="1028520" cy="309600"/>
          </a:xfrm>
        </p:grpSpPr>
        <p:sp>
          <p:nvSpPr>
            <p:cNvPr id="302" name=""/>
            <p:cNvSpPr/>
            <p:nvPr/>
          </p:nvSpPr>
          <p:spPr>
            <a:xfrm>
              <a:off x="4976640" y="3206880"/>
              <a:ext cx="880920" cy="309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29040" y="3270960"/>
              <a:ext cx="289080" cy="57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29040" y="3394080"/>
              <a:ext cx="289080" cy="57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216960" y="4062240"/>
            <a:ext cx="20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istenteOrto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82720" y="3087720"/>
            <a:ext cx="3278520" cy="150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99040" y="4363920"/>
            <a:ext cx="175752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91480" y="4221000"/>
            <a:ext cx="306360" cy="284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71800" y="4573440"/>
            <a:ext cx="113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3760" y="4227480"/>
            <a:ext cx="133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icc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31800" y="3822840"/>
            <a:ext cx="11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17440" y="3621240"/>
            <a:ext cx="449280" cy="450720"/>
            <a:chOff x="1117440" y="3621240"/>
            <a:chExt cx="449280" cy="450720"/>
          </a:xfrm>
        </p:grpSpPr>
        <p:sp>
          <p:nvSpPr>
            <p:cNvPr id="313" name=""/>
            <p:cNvSpPr/>
            <p:nvPr/>
          </p:nvSpPr>
          <p:spPr>
            <a:xfrm>
              <a:off x="1260360" y="3662280"/>
              <a:ext cx="306360" cy="2836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17440" y="3621240"/>
              <a:ext cx="29664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BA5-942E-4680-8B18-9C4523D31A5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80840" y="209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comunes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80840" y="1693800"/>
            <a:ext cx="84200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cotomí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o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800440" y="2612880"/>
            <a:ext cx="3871800" cy="1720800"/>
            <a:chOff x="2800440" y="2612880"/>
            <a:chExt cx="3871800" cy="1720800"/>
          </a:xfrm>
        </p:grpSpPr>
        <p:sp>
          <p:nvSpPr>
            <p:cNvPr id="318" name=""/>
            <p:cNvSpPr/>
            <p:nvPr/>
          </p:nvSpPr>
          <p:spPr>
            <a:xfrm>
              <a:off x="4141080" y="275724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00440" y="2612880"/>
              <a:ext cx="3871800" cy="172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813040" y="3121920"/>
              <a:ext cx="385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59160" y="3336840"/>
              <a:ext cx="2779920" cy="83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0080" y="3609720"/>
              <a:ext cx="163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liente: Pers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33240" y="4873680"/>
            <a:ext cx="855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tip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clara la clase de una entidad, por ejemplo un objet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ámetro, y el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ro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scribe el significado de la entidad en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ado contexto, tal como una clase, componente o colab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0D7-9461-4694-866F-036466D2399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7880" y="196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de extensibilidad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58720" y="1370160"/>
            <a:ext cx="844704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tereot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tienden el vocabulario de UML, permitiendo definir nuevos tipos de elementos y relaciones a partir de los existentes pero específicos de un problema o domi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son predefinidos en U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alores etique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tienden las propiedades de un estereotipo, permitiendo crear nueva información en la especificación del estereoti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tiqueta/val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{ etiqueta = “valor”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cifican condiciones que una configuración de tiempo de ejecución debe satisfacer para conformar con el mode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1200" y="18216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ahoma"/>
              </a:rPr>
              <a:t>El lenguaje unificado de modelado, UM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3360" y="1563480"/>
            <a:ext cx="831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mediados de los noventa existían muchos métodos de análisis y diseño O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ismos conceptos con distinta n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uch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fu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1994, Booch, Rumbaugh y Jacobson deciden unificar las notaciones de sus méto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ified 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M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deling 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 de estandarización promovido por el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3333cc"/>
                </a:solidFill>
                <a:latin typeface="Times New Roman"/>
              </a:rPr>
              <a:t>http://www.uml.or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35D-CE8D-41A5-BE8A-5AF2A16A95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7120" y="296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Ejemplos de estereotipos predefi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38400" y="3162240"/>
            <a:ext cx="2068200" cy="1573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1685880"/>
            <a:ext cx="2814480" cy="1039680"/>
          </a:xfrm>
          <a:prstGeom prst="wedgeEllipseCallout">
            <a:avLst>
              <a:gd name="adj1" fmla="val 18810"/>
              <a:gd name="adj2" fmla="val 90916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Clase estereotip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089000" y="5025960"/>
            <a:ext cx="2247840" cy="1538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000760" y="3179880"/>
            <a:ext cx="2006640" cy="1779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845320" y="5146560"/>
            <a:ext cx="371160" cy="354240"/>
          </a:xfrm>
          <a:prstGeom prst="ellipse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8560" y="5875200"/>
            <a:ext cx="1527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30600" y="1743120"/>
            <a:ext cx="2814840" cy="1039680"/>
          </a:xfrm>
          <a:prstGeom prst="wedgeEllipseCallout">
            <a:avLst>
              <a:gd name="adj1" fmla="val 18810"/>
              <a:gd name="adj2" fmla="val 90916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Clase estereotip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39080" y="55245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Com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A8F-223D-4970-AA3A-29F8B4C8390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4120" y="1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de extensibilidad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907920" y="2976480"/>
            <a:ext cx="1328760" cy="8193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75040" y="3379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58760" y="3065400"/>
            <a:ext cx="108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&lt;Exception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65560" y="2401920"/>
            <a:ext cx="2816280" cy="16160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41000" y="2406600"/>
            <a:ext cx="10065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&lt;authored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laEv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919240"/>
            <a:ext cx="2805120" cy="1086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3049560"/>
            <a:ext cx="2805120" cy="961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324240" y="3143160"/>
            <a:ext cx="196920" cy="216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324240" y="3143160"/>
            <a:ext cx="196920" cy="216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3324240" y="3143160"/>
            <a:ext cx="196920" cy="216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519000" y="314316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ñadi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324240" y="3390840"/>
            <a:ext cx="196920" cy="216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324240" y="3390840"/>
            <a:ext cx="196920" cy="216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3324240" y="3390840"/>
            <a:ext cx="196920" cy="216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519720" y="339084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t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3324240" y="3622680"/>
            <a:ext cx="196920" cy="233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3324240" y="3622680"/>
            <a:ext cx="196920" cy="233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3324240" y="3622680"/>
            <a:ext cx="196920" cy="233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520080" y="362268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aci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166840" y="3306600"/>
            <a:ext cx="1038240" cy="6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14720" y="3371760"/>
            <a:ext cx="169560" cy="77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214720" y="3262320"/>
            <a:ext cx="158760" cy="109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38880" y="4573440"/>
            <a:ext cx="106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den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54400" y="3306600"/>
            <a:ext cx="708120" cy="12319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4760" y="196524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estere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/>
          <p:nvPr/>
        </p:nvCxnSpPr>
        <p:spPr>
          <a:xfrm flipH="1" rot="16200000">
            <a:off x="743040" y="2228400"/>
            <a:ext cx="598680" cy="751680"/>
          </a:xfrm>
          <a:prstGeom prst="curvedConnector5">
            <a:avLst>
              <a:gd name="adj1" fmla="val 49879"/>
              <a:gd name="adj2" fmla="val 49976"/>
              <a:gd name="adj3" fmla="val 4987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4656960" y="169848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valor etique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3"/>
          </p:cNvCxnSpPr>
          <p:nvPr/>
        </p:nvCxnSpPr>
        <p:spPr>
          <a:xfrm>
            <a:off x="6945120" y="1897200"/>
            <a:ext cx="703800" cy="70848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1459800" y="5068800"/>
            <a:ext cx="15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3112560" y="4795200"/>
            <a:ext cx="1321200" cy="5007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66" name=""/>
          <p:cNvGrpSpPr/>
          <p:nvPr/>
        </p:nvGrpSpPr>
        <p:grpSpPr>
          <a:xfrm>
            <a:off x="6751800" y="2865600"/>
            <a:ext cx="1973160" cy="1071360"/>
            <a:chOff x="6751800" y="2865600"/>
            <a:chExt cx="1973160" cy="1071360"/>
          </a:xfrm>
        </p:grpSpPr>
        <p:sp>
          <p:nvSpPr>
            <p:cNvPr id="367" name=""/>
            <p:cNvSpPr/>
            <p:nvPr/>
          </p:nvSpPr>
          <p:spPr>
            <a:xfrm>
              <a:off x="6751800" y="2865600"/>
              <a:ext cx="1973160" cy="1071360"/>
            </a:xfrm>
            <a:custGeom>
              <a:avLst/>
              <a:gdLst/>
              <a:ahLst/>
              <a:rect l="l" t="t" r="r" b="b"/>
              <a:pathLst>
                <a:path w="837" h="354">
                  <a:moveTo>
                    <a:pt x="0" y="0"/>
                  </a:moveTo>
                  <a:lnTo>
                    <a:pt x="731" y="0"/>
                  </a:lnTo>
                  <a:lnTo>
                    <a:pt x="837" y="99"/>
                  </a:lnTo>
                  <a:lnTo>
                    <a:pt x="837" y="354"/>
                  </a:lnTo>
                  <a:lnTo>
                    <a:pt x="0" y="3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cap="sq"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51800" y="2865600"/>
              <a:ext cx="1962000" cy="1071360"/>
            </a:xfrm>
            <a:custGeom>
              <a:avLst/>
              <a:gdLst/>
              <a:ahLst/>
              <a:rect l="l" t="t" r="r" b="b"/>
              <a:pathLst>
                <a:path w="118" h="50">
                  <a:moveTo>
                    <a:pt x="0" y="0"/>
                  </a:moveTo>
                  <a:lnTo>
                    <a:pt x="103" y="0"/>
                  </a:lnTo>
                  <a:lnTo>
                    <a:pt x="118" y="14"/>
                  </a:lnTo>
                  <a:lnTo>
                    <a:pt x="118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24720" y="2865600"/>
              <a:ext cx="243000" cy="263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0" y="14"/>
                  </a:lnTo>
                  <a:lnTo>
                    <a:pt x="15" y="14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77160" y="3031920"/>
              <a:ext cx="1209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&lt;&lt;authored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rsion: 3.2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tor: jg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49800" y="3195720"/>
            <a:ext cx="695520" cy="810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9F7-77D4-4680-AC1A-1C0A8C2CED6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44120" y="1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ecanismos de extensibilidad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806480" y="1668600"/>
            <a:ext cx="4570560" cy="3443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867920" y="4843440"/>
            <a:ext cx="229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Self.esposa.sexo = mujer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lf.esposo.sexo = hombr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57520" y="261288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29160" y="2948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{xor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66680" y="307800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6AA-0154-4521-BF4B-2543AC04120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7880" y="20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¡Hola, Mundo!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468440" y="2013120"/>
            <a:ext cx="622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rt java.awt.Graphic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s  HolaMundo extends java.applet.App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blic void paint (Graphics g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.drawString (“¡Hola, Mundo!”,10,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79520" y="4127400"/>
            <a:ext cx="1474920" cy="12956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90120" y="4224240"/>
            <a:ext cx="97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HolaMun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79520" y="4591080"/>
            <a:ext cx="1474920" cy="831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9520" y="4746600"/>
            <a:ext cx="1474920" cy="676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340000" y="495936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340000" y="495936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2340000" y="4959360"/>
            <a:ext cx="24120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579760" y="4959360"/>
            <a:ext cx="54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aint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62720" y="4264200"/>
            <a:ext cx="1760400" cy="965160"/>
          </a:xfrm>
          <a:custGeom>
            <a:avLst/>
            <a:gdLst/>
            <a:ahLst/>
            <a:rect l="l" t="t" r="r" b="b"/>
            <a:pathLst>
              <a:path w="1016" h="398">
                <a:moveTo>
                  <a:pt x="0" y="0"/>
                </a:moveTo>
                <a:lnTo>
                  <a:pt x="894" y="0"/>
                </a:lnTo>
                <a:lnTo>
                  <a:pt x="1016" y="119"/>
                </a:lnTo>
                <a:lnTo>
                  <a:pt x="1016" y="398"/>
                </a:lnTo>
                <a:lnTo>
                  <a:pt x="0" y="398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62720" y="4264200"/>
            <a:ext cx="1760400" cy="965160"/>
          </a:xfrm>
          <a:custGeom>
            <a:avLst/>
            <a:gdLst/>
            <a:ahLst/>
            <a:rect l="l" t="t" r="r" b="b"/>
            <a:pathLst>
              <a:path w="117" h="50">
                <a:moveTo>
                  <a:pt x="0" y="0"/>
                </a:moveTo>
                <a:lnTo>
                  <a:pt x="103" y="0"/>
                </a:lnTo>
                <a:lnTo>
                  <a:pt x="117" y="15"/>
                </a:lnTo>
                <a:lnTo>
                  <a:pt x="117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12160" y="4264200"/>
            <a:ext cx="210960" cy="28728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0" y="15"/>
                </a:lnTo>
                <a:lnTo>
                  <a:pt x="14" y="15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19600" y="4321080"/>
            <a:ext cx="107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g.drawSt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17800" y="4649760"/>
            <a:ext cx="155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"Hola, Mundo”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768480" y="4765680"/>
            <a:ext cx="2678040" cy="144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5D2-D2FF-42F4-9105-76AE478B646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04520" y="269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 de Clas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619280" y="1803240"/>
            <a:ext cx="6080040" cy="40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550-2933-4A82-B963-F417641FD1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169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Explosión de métodos OO en los novent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8000" y="1514520"/>
            <a:ext cx="842004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Arial"/>
              </a:rPr>
              <a:t>OM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ad/Yourdo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Arial"/>
              </a:rPr>
              <a:t>Booch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hampea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Jacobso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rtin/Ode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hlaer-Mello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Ora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irfs-Brok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usio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talysi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¡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Y muchos má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4923000"/>
            <a:ext cx="2718000" cy="1139760"/>
          </a:xfrm>
          <a:prstGeom prst="wedgeEllipseCallout">
            <a:avLst>
              <a:gd name="adj1" fmla="val -59870"/>
              <a:gd name="adj2" fmla="val -57939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</a:rPr>
              <a:t>¡Guerra de métod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328-5D9F-4C09-8CB3-0B0947404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3080" y="264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volución</a:t>
            </a:r>
            <a:r>
              <a:rPr b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9720" y="1281240"/>
            <a:ext cx="81630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Grady Booch y Jim Rumbaugh comenzaron a unificar sus métodos (Octubre, 1994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Borrador de UML (versión 0.8)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(Octubre, 199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Ivar Jacobson se une al proyecto (Noviembre, 199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UML 0.9 y se crea un consorcio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(Junio, 1996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OMG lanza una petición para un lenguaje unificado (199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UML 1.0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es ofrecido al OMG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(Enero, 19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Se extiende el consorcio (Enero-Julio, 19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UML 1.1 es ofrecido al OMG (Julio, 19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OMG adopta </a:t>
            </a:r>
            <a:r>
              <a:rPr b="1" lang="es-ES" sz="2200" spc="-1" strike="noStrike">
                <a:solidFill>
                  <a:srgbClr val="3333cc"/>
                </a:solidFill>
                <a:latin typeface="Times New Roman"/>
              </a:rPr>
              <a:t>UML 1.1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3333cc"/>
                </a:solidFill>
                <a:latin typeface="Times New Roman"/>
              </a:rPr>
              <a:t>(Noviembre, 19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Se crea el UML RTF (199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UML 1.3  (Mayo 199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Times New Roman"/>
              </a:rPr>
              <a:t>UML 2.0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200" spc="-1" strike="noStrike">
                <a:solidFill>
                  <a:srgbClr val="3333cc"/>
                </a:solidFill>
                <a:latin typeface="Times New Roman"/>
              </a:rPr>
              <a:t>(principios de 20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433-87CB-4C13-98CC-1EBA3C055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8280" y="172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Ventajas de la unific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163188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unir los puntos fuertes de cada méto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ar nuevas mej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orcionar estabilidad a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yectos basados en un lenguaje mad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arición de potentes herrami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iminar confusión en los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5DE-C32C-4166-A6BF-EA1D044873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3080" y="252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Objetivos en el diseño de UM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9720" y="1480680"/>
            <a:ext cx="81378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Modelar sistem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desde los requisitos hasta los artefactos ejecutables desplegados en nodos, utilizando técnicas 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brir las cuestiones relacionadas con el tamaño propias de los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istemas comple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crític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utiliz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or las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person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y las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contrar equilibrio entre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expresividad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simplicidad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290-9C6E-48CE-9353-51FFF5619C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12:07:21Z</dcterms:created>
  <dc:creator>MCO</dc:creator>
  <dc:description/>
  <dc:language>en-US</dc:language>
  <cp:lastModifiedBy>MCO</cp:lastModifiedBy>
  <cp:lastPrinted>2001-02-12T13:12:26Z</cp:lastPrinted>
  <dcterms:modified xsi:type="dcterms:W3CDTF">2008-11-13T16:20:52Z</dcterms:modified>
  <cp:revision>191</cp:revision>
  <dc:subject/>
  <dc:title>El lenguaje unificado de desarrollo de software</dc:title>
</cp:coreProperties>
</file>