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BCF-501B-4B4B-882B-CB85E9BF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FCC-EF64-4393-9A65-74B8CD8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D18-2FA8-4D6C-9597-35CC366E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A04-D71B-45F0-9FAB-AB23C0F7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034-49FB-4CE0-A408-EB4459D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D89-E318-46FB-8DA3-BC823A1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EBD-637E-41E1-82F5-F26DA542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805-BA49-4D7C-9C5F-9016A5F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0080" y="42048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C96-DC47-4EDD-A05B-38F09C4D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C16-C00C-45BA-BBA5-2ABE2658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11D-C3AE-4C3F-9530-47E29DF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70D-102C-4108-98A6-7C97F9B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0080" y="420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40B9-9745-4013-9731-779FA5857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3880" y="1246320"/>
            <a:ext cx="8420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1200" y="2847960"/>
            <a:ext cx="8623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l Lenguaje Unificado de Modelad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UML 2.0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441520" y="825480"/>
            <a:ext cx="462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Análisis y Diseño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3840" y="194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scenarios y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6840" y="1649520"/>
            <a:ext cx="835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caso de uso describe un conjunto de  secuencias de interacciones entre actores y el sistem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scenarios)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lujo principal y flujos alternativos o excepcionales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escenario es una instancia de un cas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escenario es una historia particular de uso de un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s principales vs. Escenarios secund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0B6-F0F5-4DDB-8C16-4D111EA16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35120" y="1435320"/>
            <a:ext cx="7291080" cy="3840480"/>
            <a:chOff x="1635120" y="1435320"/>
            <a:chExt cx="7291080" cy="3840480"/>
          </a:xfrm>
        </p:grpSpPr>
        <p:sp>
          <p:nvSpPr>
            <p:cNvPr id="72" name=""/>
            <p:cNvSpPr/>
            <p:nvPr/>
          </p:nvSpPr>
          <p:spPr>
            <a:xfrm>
              <a:off x="1635120" y="1435320"/>
              <a:ext cx="1382400" cy="309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5800" y="146160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Emi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7400" y="1864440"/>
              <a:ext cx="45360" cy="3385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41080" y="1435320"/>
              <a:ext cx="1384920" cy="309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44920" y="146160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Centrali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13200" y="1864440"/>
              <a:ext cx="19800" cy="34113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43800" y="1435320"/>
              <a:ext cx="1382400" cy="309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59520" y="146160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Recep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33560" y="1864440"/>
              <a:ext cx="25560" cy="33998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27400" y="1981440"/>
              <a:ext cx="25059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60560" y="1981440"/>
              <a:ext cx="172800" cy="3276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4660560" y="1937880"/>
              <a:ext cx="172800" cy="4284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18480" y="17982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listo( 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41800" y="2324520"/>
              <a:ext cx="24919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1800" y="2324520"/>
              <a:ext cx="158760" cy="3276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341800" y="2283120"/>
              <a:ext cx="158760" cy="4104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07040" y="2133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27400" y="2659320"/>
              <a:ext cx="25059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660560" y="2659320"/>
              <a:ext cx="172800" cy="4140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660560" y="2625840"/>
              <a:ext cx="172800" cy="3276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31840" y="2474280"/>
              <a:ext cx="718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marcar_nume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341800" y="3053520"/>
              <a:ext cx="24919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1800" y="3053520"/>
              <a:ext cx="158760" cy="3276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341800" y="3011040"/>
              <a:ext cx="158760" cy="4248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05280" y="2860560"/>
              <a:ext cx="64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ono_sonan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3720" y="3178800"/>
              <a:ext cx="33858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060040" y="3178800"/>
              <a:ext cx="158760" cy="4140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8060040" y="3137760"/>
              <a:ext cx="158760" cy="4104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73040" y="2994120"/>
              <a:ext cx="73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imbre_sonan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847400" y="3565080"/>
              <a:ext cx="33714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47760" y="3565080"/>
              <a:ext cx="158760" cy="4104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847760" y="3522240"/>
              <a:ext cx="158760" cy="4248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7800" y="338004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elefono_cogi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341800" y="3731760"/>
              <a:ext cx="24919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1800" y="3731760"/>
              <a:ext cx="158760" cy="4248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341800" y="3698640"/>
              <a:ext cx="158760" cy="3312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78440" y="35485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ara_t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33720" y="4033800"/>
              <a:ext cx="33858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060040" y="4033800"/>
              <a:ext cx="158760" cy="4248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8060040" y="3991680"/>
              <a:ext cx="158760" cy="41400"/>
            </a:xfrm>
            <a:prstGeom prst="line">
              <a:avLst/>
            </a:prstGeom>
            <a:ln w="79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46200" y="3848760"/>
              <a:ext cx="54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ara_timb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94200" y="246528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E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600" y="5567400"/>
            <a:ext cx="91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Casos de u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 ideados por Jacobson a principios de los novent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án inspirados en los </a:t>
            </a:r>
            <a:r>
              <a:rPr b="0" i="1" lang="es-ES_tradnl" sz="2400" spc="-1" strike="noStrike">
                <a:solidFill>
                  <a:srgbClr val="000099"/>
                </a:solidFill>
                <a:latin typeface="Times New Roman"/>
              </a:rPr>
              <a:t>Escena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tilizados para describir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7120" y="282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jemplo de Escenari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0DC-8705-4E22-B8A4-E9AB66F630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5680" y="149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scripción de un caso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0680" y="1504800"/>
            <a:ext cx="82724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Son documentos de texto, no son diagram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odelado de casos de uso consiste en escribir texto, no en dibujar dia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bir el flujo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Texto estructurado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xto estructurado formal (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plantill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Pseudo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ciones gráficas: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diagramas de s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ser legible y comprensible para un usuario no exp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indic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ores, flujos principal y excep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94B-F708-492F-8CEA-18FE27786F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8920" y="272880"/>
            <a:ext cx="8420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iagrama de un caso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0840" y="1319040"/>
            <a:ext cx="88898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09840" y="1563840"/>
            <a:ext cx="7061040" cy="43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194-94A5-40AC-841D-40BC33314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8920" y="272880"/>
            <a:ext cx="8420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scripción de un caso de uso: textua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0840" y="1319040"/>
            <a:ext cx="88898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Realizar Vent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en un Terminal de Punto de Venta o TP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Actor Principal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Flujo Principa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 cliente llega al TPV con un conjunto de artículos. El Cajero registra los artículos y se genera un ticket. El cliente paga en efectivo y recoge los artíc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 El cliente llega al TPV con los artíc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El cajero registra el identificador de cada artíc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. El sistema obtiene el precio de cada artículo y añade la información a la transacción de v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. Al acabar el cajero indica la finalización de la introducción de artícul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FF3-31F7-44B6-AA9B-35B93025F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3080" y="318600"/>
            <a:ext cx="84200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scripción de un caso de uso: textual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0840" y="1517760"/>
            <a:ext cx="90122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Realizar Vent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en un Terminal de Punto de Venta o TP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. El sistema calcula el total de la compra y lo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. El cajero le dice al cliente el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. El cliente realiza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. El cajero registra la cantidad de dinero recib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9. El sistema muestra la cantidad a retornar al cliente y genera un recib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. El cajero deposita el dinero recibido y saca la cantidad a devolver que entrega al cliente junto al ticket de comp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. El sistema almacena la compra comple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2. El cliente recoge los artículos compr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7D5-31DF-49BC-9115-32027A9B5C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3080" y="318600"/>
            <a:ext cx="84200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Descripción de un caso de uso: gráfica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849400" y="2666880"/>
            <a:ext cx="4438440" cy="3971880"/>
            <a:chOff x="2849400" y="2666880"/>
            <a:chExt cx="4438440" cy="3971880"/>
          </a:xfrm>
        </p:grpSpPr>
        <p:sp>
          <p:nvSpPr>
            <p:cNvPr id="127" name=""/>
            <p:cNvSpPr/>
            <p:nvPr/>
          </p:nvSpPr>
          <p:spPr>
            <a:xfrm>
              <a:off x="3080880" y="2666880"/>
              <a:ext cx="257400" cy="23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3280" y="2892240"/>
              <a:ext cx="14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20760" y="2947680"/>
              <a:ext cx="37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47680" y="3093840"/>
              <a:ext cx="523800" cy="2476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22"/>
                  </a:moveTo>
                  <a:lnTo>
                    <a:pt x="21" y="0"/>
                  </a:lnTo>
                  <a:lnTo>
                    <a:pt x="43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9400" y="343512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: Caje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3280" y="3679560"/>
              <a:ext cx="1440" cy="295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30200" y="3870000"/>
              <a:ext cx="146160" cy="1959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7040" y="3027240"/>
              <a:ext cx="1450800" cy="48420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90560" y="307152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8920" y="3679560"/>
              <a:ext cx="1440" cy="295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9600" y="4605120"/>
              <a:ext cx="133200" cy="270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9600" y="5092560"/>
              <a:ext cx="133200" cy="269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07000" y="5681520"/>
              <a:ext cx="133200" cy="269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12720" y="4616280"/>
              <a:ext cx="32068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335280" y="4616280"/>
              <a:ext cx="18432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6335280" y="4547880"/>
              <a:ext cx="18432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9880" y="4290840"/>
              <a:ext cx="298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* introducirItem(cod,cantid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2720" y="5092560"/>
              <a:ext cx="32068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335280" y="5092560"/>
              <a:ext cx="1843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335280" y="5025600"/>
              <a:ext cx="18432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77880" y="4800240"/>
              <a:ext cx="153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inalizarVent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0120" y="5681520"/>
              <a:ext cx="32068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22680" y="5681520"/>
              <a:ext cx="18432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322680" y="5613120"/>
              <a:ext cx="18432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08960" y="5387760"/>
              <a:ext cx="211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acerPago(cantid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4040" y="4092480"/>
              <a:ext cx="133560" cy="269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7520" y="4103640"/>
              <a:ext cx="32065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09720" y="4103640"/>
              <a:ext cx="1839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309720" y="4035240"/>
              <a:ext cx="18396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8520" y="3754080"/>
              <a:ext cx="19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rearNuevaVenta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79320" y="1324080"/>
            <a:ext cx="8356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Realizar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agrama de s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689-EAC1-44F7-8757-2CB3D9313E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92000" y="14580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Ejemplo de modelo de casos de uso: diagramas de casos de uso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63800" y="1440000"/>
            <a:ext cx="1060560" cy="519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81440" y="2116080"/>
            <a:ext cx="117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ervar 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3800" y="2881440"/>
            <a:ext cx="1060560" cy="5173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280" y="3556080"/>
            <a:ext cx="121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tamo 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3800" y="4321080"/>
            <a:ext cx="1060560" cy="5176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2320" y="4997520"/>
            <a:ext cx="115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volver 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7000" y="3578400"/>
            <a:ext cx="268560" cy="247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2000" y="3814920"/>
            <a:ext cx="180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920" y="3871800"/>
            <a:ext cx="40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8240" y="4029120"/>
            <a:ext cx="573120" cy="25884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23"/>
                </a:moveTo>
                <a:lnTo>
                  <a:pt x="24" y="0"/>
                </a:lnTo>
                <a:lnTo>
                  <a:pt x="47" y="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87400" y="44449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035080" y="2317680"/>
            <a:ext cx="708120" cy="66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328760" y="2982960"/>
            <a:ext cx="706320" cy="663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97000" y="3308040"/>
            <a:ext cx="755640" cy="258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28760" y="3567240"/>
            <a:ext cx="768240" cy="25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97000" y="4208400"/>
            <a:ext cx="755640" cy="214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328760" y="3995280"/>
            <a:ext cx="768240" cy="212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6880" y="5548320"/>
            <a:ext cx="1073160" cy="5176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51760" y="6222960"/>
            <a:ext cx="152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tender Prest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0560" y="4838760"/>
            <a:ext cx="901440" cy="698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328400" y="4141800"/>
            <a:ext cx="901800" cy="696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6920" y="1440000"/>
            <a:ext cx="1073160" cy="519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19360" y="2116080"/>
            <a:ext cx="141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tamo Re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16840" y="1924200"/>
            <a:ext cx="268200" cy="247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39240" y="2160720"/>
            <a:ext cx="1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43760" y="2217600"/>
            <a:ext cx="40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2374920"/>
            <a:ext cx="573120" cy="25884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23"/>
                </a:moveTo>
                <a:lnTo>
                  <a:pt x="23" y="0"/>
                </a:lnTo>
                <a:lnTo>
                  <a:pt x="47" y="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79680" y="279072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567480" y="1834920"/>
            <a:ext cx="633600" cy="168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1080" y="2003400"/>
            <a:ext cx="645840" cy="16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3840" y="2881440"/>
            <a:ext cx="1060560" cy="5173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3360" y="3556080"/>
            <a:ext cx="135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volver Re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94400" y="2644920"/>
            <a:ext cx="682560" cy="269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76960" y="2374920"/>
            <a:ext cx="669960" cy="27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58080" y="4219560"/>
            <a:ext cx="268200" cy="247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93080" y="4456080"/>
            <a:ext cx="144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85000" y="4524480"/>
            <a:ext cx="40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11920" y="4681440"/>
            <a:ext cx="560520" cy="247680"/>
          </a:xfrm>
          <a:custGeom>
            <a:avLst/>
            <a:gdLst/>
            <a:ahLst/>
            <a:rect l="l" t="t" r="r" b="b"/>
            <a:pathLst>
              <a:path w="46" h="22">
                <a:moveTo>
                  <a:pt x="0" y="22"/>
                </a:moveTo>
                <a:lnTo>
                  <a:pt x="23" y="0"/>
                </a:lnTo>
                <a:lnTo>
                  <a:pt x="46" y="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6840" y="509760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ibliotec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9960" y="4321080"/>
            <a:ext cx="1071360" cy="5176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76360" y="4997520"/>
            <a:ext cx="154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tualizar Cata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408360" y="4579920"/>
            <a:ext cx="6462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54920" y="4579920"/>
            <a:ext cx="63324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31160" y="5592600"/>
            <a:ext cx="280800" cy="247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6160" y="5829480"/>
            <a:ext cx="1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58080" y="5886360"/>
            <a:ext cx="414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5000" y="6043680"/>
            <a:ext cx="560520" cy="25884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23"/>
                </a:moveTo>
                <a:lnTo>
                  <a:pt x="23" y="0"/>
                </a:lnTo>
                <a:lnTo>
                  <a:pt x="46" y="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02720" y="64594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2360" y="5694480"/>
            <a:ext cx="1060200" cy="5061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1160" y="637056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ul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249960" y="5942160"/>
            <a:ext cx="76824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8200" y="5942160"/>
            <a:ext cx="7542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30B-9524-490F-9B43-4B62081C1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5680" y="18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s de uso y Colabor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9360" y="1587600"/>
            <a:ext cx="82486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un caso de uso se describe un comportamiento esperado del sistema, pero no se especifica cómo se implemen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aso de uso se implementa a través de un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olabo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edad de clases y otros elementos que colaborarán para realizar el comportamiento expresado en un caso de u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laboración tiene una parte estática (diagramas de clases) y una parte dinámica (diagramas de secuenc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00B-5E3F-4606-9E03-4834F61F4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7120" y="232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s de uso y Colabor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870120" y="3309840"/>
            <a:ext cx="2387520" cy="84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4330800"/>
            <a:ext cx="2387880" cy="8460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34000" y="3517920"/>
            <a:ext cx="16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Hacer Ped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09320" y="4503600"/>
            <a:ext cx="200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Gestión Pedi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3358800" y="3917880"/>
            <a:ext cx="2205000" cy="773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3822840"/>
            <a:ext cx="206280" cy="201600"/>
          </a:xfrm>
          <a:custGeom>
            <a:avLst/>
            <a:gdLst/>
            <a:ahLst/>
            <a:rect l="l" t="t" r="r" b="b"/>
            <a:pathLst>
              <a:path w="120" h="127">
                <a:moveTo>
                  <a:pt x="0" y="7"/>
                </a:moveTo>
                <a:lnTo>
                  <a:pt x="75" y="127"/>
                </a:lnTo>
                <a:lnTo>
                  <a:pt x="120" y="0"/>
                </a:lnTo>
                <a:lnTo>
                  <a:pt x="0" y="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198108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caso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flipH="1" rot="16200000">
            <a:off x="1147680" y="2707920"/>
            <a:ext cx="789480" cy="275040"/>
          </a:xfrm>
          <a:prstGeom prst="curvedConnector5">
            <a:avLst>
              <a:gd name="adj1" fmla="val 49863"/>
              <a:gd name="adj2" fmla="val 49934"/>
              <a:gd name="adj3" fmla="val 49863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222" name=""/>
          <p:cNvSpPr/>
          <p:nvPr/>
        </p:nvSpPr>
        <p:spPr>
          <a:xfrm>
            <a:off x="5549040" y="298296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/>
          <p:nvPr/>
        </p:nvCxnSpPr>
        <p:spPr>
          <a:xfrm flipH="1" rot="16200000">
            <a:off x="5682240" y="3744720"/>
            <a:ext cx="789840" cy="27540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224" name=""/>
          <p:cNvSpPr/>
          <p:nvPr/>
        </p:nvSpPr>
        <p:spPr>
          <a:xfrm>
            <a:off x="2250000" y="49100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/>
          <p:nvPr/>
        </p:nvCxnSpPr>
        <p:spPr>
          <a:xfrm flipV="1">
            <a:off x="3249360" y="4349160"/>
            <a:ext cx="859320" cy="603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586-6D03-4C09-9CF0-64FBFEED49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2203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ontenido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0760" y="1568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al modelado del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sentación de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Modelado de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sos de 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asos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a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iagramas de 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aqu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4880" y="2793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1DB-E401-4ED9-BA3E-3DC7A7604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8920" y="212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rganización de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1200" y="1587600"/>
            <a:ext cx="84232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es tipos de 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Ge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 cdu hereda el comportamiento y significado de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 cdu base incorpora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ícitamente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el comportamiento de otro en algún lugar de su s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xt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 cdu base incorpora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ícitamente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el comportamiento de otro cdu en el lugar especificado indirectamente por este otro c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7F6-313F-46CE-9EFD-63EF573A2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7080" y="169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jemplo con los tres tipos de relacion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7150680" y="44956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Tahoma"/>
              </a:rPr>
              <a:t>Ge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0360" y="4000680"/>
            <a:ext cx="1792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60" y="52"/>
                </a:moveTo>
                <a:lnTo>
                  <a:pt x="0" y="0"/>
                </a:lnTo>
                <a:lnTo>
                  <a:pt x="0" y="105"/>
                </a:lnTo>
                <a:lnTo>
                  <a:pt x="105" y="105"/>
                </a:lnTo>
                <a:lnTo>
                  <a:pt x="60" y="52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3320" y="4487760"/>
            <a:ext cx="166680" cy="142920"/>
          </a:xfrm>
          <a:custGeom>
            <a:avLst/>
            <a:gdLst/>
            <a:ahLst/>
            <a:rect l="l" t="t" r="r" b="b"/>
            <a:pathLst>
              <a:path w="97" h="90">
                <a:moveTo>
                  <a:pt x="7" y="0"/>
                </a:moveTo>
                <a:lnTo>
                  <a:pt x="0" y="90"/>
                </a:lnTo>
                <a:lnTo>
                  <a:pt x="97" y="38"/>
                </a:lnTo>
                <a:lnTo>
                  <a:pt x="7" y="0"/>
                </a:lnTo>
                <a:close/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49880" y="3119400"/>
            <a:ext cx="238752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99640" y="3327480"/>
            <a:ext cx="21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omprobar cla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7040" y="5081760"/>
            <a:ext cx="238752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56440" y="5265720"/>
            <a:ext cx="197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aminar ret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424120" y="3606840"/>
            <a:ext cx="749160" cy="465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502240" y="4606560"/>
            <a:ext cx="619200" cy="8334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/>
          <p:nvPr/>
        </p:nvCxnSpPr>
        <p:spPr>
          <a:xfrm flipV="1" rot="16200000">
            <a:off x="6383880" y="3481200"/>
            <a:ext cx="506880" cy="15408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239" name=""/>
          <p:cNvCxnSpPr/>
          <p:nvPr/>
        </p:nvCxnSpPr>
        <p:spPr>
          <a:xfrm flipV="1" rot="10800000">
            <a:off x="5834880" y="4874040"/>
            <a:ext cx="1437480" cy="113400"/>
          </a:xfrm>
          <a:prstGeom prst="curvedConnector5">
            <a:avLst>
              <a:gd name="adj1" fmla="val 49924"/>
              <a:gd name="adj2" fmla="val 50000"/>
              <a:gd name="adj3" fmla="val 49924"/>
            </a:avLst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grpSp>
        <p:nvGrpSpPr>
          <p:cNvPr id="240" name=""/>
          <p:cNvGrpSpPr/>
          <p:nvPr/>
        </p:nvGrpSpPr>
        <p:grpSpPr>
          <a:xfrm>
            <a:off x="79200" y="1938240"/>
            <a:ext cx="5369040" cy="3986280"/>
            <a:chOff x="79200" y="1938240"/>
            <a:chExt cx="5369040" cy="3986280"/>
          </a:xfrm>
        </p:grpSpPr>
        <p:sp>
          <p:nvSpPr>
            <p:cNvPr id="241" name=""/>
            <p:cNvSpPr/>
            <p:nvPr/>
          </p:nvSpPr>
          <p:spPr>
            <a:xfrm>
              <a:off x="3261600" y="4145040"/>
              <a:ext cx="197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Validar Usuari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2160" y="3949920"/>
              <a:ext cx="2386080" cy="84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244520" y="1938240"/>
              <a:ext cx="2385720" cy="846000"/>
              <a:chOff x="1244520" y="1938240"/>
              <a:chExt cx="2385720" cy="846000"/>
            </a:xfrm>
          </p:grpSpPr>
          <p:sp>
            <p:nvSpPr>
              <p:cNvPr id="244" name=""/>
              <p:cNvSpPr/>
              <p:nvPr/>
            </p:nvSpPr>
            <p:spPr>
              <a:xfrm>
                <a:off x="1244520" y="1938240"/>
                <a:ext cx="2385720" cy="846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47280" y="2133360"/>
                <a:ext cx="169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00"/>
                    </a:solidFill>
                    <a:latin typeface="Times New Roman"/>
                  </a:rPr>
                  <a:t>Hacer Pedido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9200" y="5078520"/>
              <a:ext cx="2387880" cy="84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760" y="5284800"/>
              <a:ext cx="1758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Seguir Pedid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790800" y="2316240"/>
            <a:ext cx="18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stabl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o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83400" y="1819440"/>
            <a:ext cx="2449440" cy="898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2200" y="1908000"/>
            <a:ext cx="17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Hacer Pedi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rg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619080" y="2297160"/>
            <a:ext cx="21668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7400" y="1778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«extend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63400" y="13190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Tahoma"/>
              </a:rPr>
              <a:t>Ex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52" idx="0"/>
          </p:cNvCxnSpPr>
          <p:nvPr/>
        </p:nvCxnSpPr>
        <p:spPr>
          <a:xfrm flipV="1" rot="10800000">
            <a:off x="4574520" y="1516680"/>
            <a:ext cx="1384920" cy="261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255" name=""/>
          <p:cNvSpPr/>
          <p:nvPr/>
        </p:nvSpPr>
        <p:spPr>
          <a:xfrm>
            <a:off x="2522520" y="2774880"/>
            <a:ext cx="1154160" cy="1189080"/>
          </a:xfrm>
          <a:prstGeom prst="line">
            <a:avLst/>
          </a:prstGeom>
          <a:ln w="34920">
            <a:solidFill>
              <a:srgbClr val="0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1040" y="30942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«include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574640" y="4677840"/>
            <a:ext cx="1792440" cy="405000"/>
          </a:xfrm>
          <a:prstGeom prst="line">
            <a:avLst/>
          </a:prstGeom>
          <a:ln w="34920">
            <a:solidFill>
              <a:srgbClr val="00008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3400" y="50212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«include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360" y="37051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Tahoma"/>
              </a:rPr>
              <a:t>In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/>
          <p:nvPr/>
        </p:nvCxnSpPr>
        <p:spPr>
          <a:xfrm flipV="1">
            <a:off x="1612440" y="3322440"/>
            <a:ext cx="1445040" cy="568800"/>
          </a:xfrm>
          <a:prstGeom prst="curvedConnector5">
            <a:avLst>
              <a:gd name="adj1" fmla="val 49987"/>
              <a:gd name="adj2" fmla="val 49968"/>
              <a:gd name="adj3" fmla="val 49987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261" name=""/>
          <p:cNvCxnSpPr/>
          <p:nvPr/>
        </p:nvCxnSpPr>
        <p:spPr>
          <a:xfrm>
            <a:off x="1658520" y="4017960"/>
            <a:ext cx="1142280" cy="737280"/>
          </a:xfrm>
          <a:prstGeom prst="curvedConnector5">
            <a:avLst>
              <a:gd name="adj1" fmla="val 49905"/>
              <a:gd name="adj2" fmla="val 49975"/>
              <a:gd name="adj3" fmla="val 49905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AAD-D006-48C9-9391-37984757B9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0080" y="232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ón de inclus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3040" y="1533240"/>
            <a:ext cx="81691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factorizar un comportamiento en un caso de uso aparte y evitar repetir un mismo flujo en diferentes casos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urier New"/>
              </a:rPr>
              <a:t>Hacer Ped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Obtener y verificar el número de ped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Courier New"/>
              </a:rPr>
              <a:t>Incluir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Courier New"/>
              </a:rPr>
              <a:t>Validar usuario”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coger los ítem del pedido del usuario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BC2-D101-4B7C-ADBC-4D188EBEB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60240" y="201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ón de extens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04520" y="1636200"/>
            <a:ext cx="81471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aso de uso base incluye una serie de puntos de exten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aso de uso base no conoce los casos de uso de extensión, está completo sin las exten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rve para modela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arte opcional del sistema,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subflujo que sólo se ejecuta bajo ciertas cond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132-AC02-4ABF-B5FD-BC352EBDCF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0360" y="414000"/>
            <a:ext cx="84200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ón de extens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636200"/>
            <a:ext cx="85388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Courier New"/>
              </a:rPr>
              <a:t>Hacer Ped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Courier New"/>
              </a:rPr>
              <a:t>Incluir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“</a:t>
            </a:r>
            <a:r>
              <a:rPr b="0" i="1" lang="es-ES_tradnl" sz="2400" spc="-1" strike="noStrike">
                <a:solidFill>
                  <a:srgbClr val="000000"/>
                </a:solidFill>
                <a:latin typeface="Courier New"/>
              </a:rPr>
              <a:t>Validar usuari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coger los ítem del pedido del usuar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s-ES_tradnl" sz="2400" spc="-1" strike="noStrike">
                <a:solidFill>
                  <a:srgbClr val="3333ff"/>
                </a:solidFill>
                <a:latin typeface="Courier New"/>
              </a:rPr>
              <a:t>Establecer</a:t>
            </a:r>
            <a:r>
              <a:rPr b="0" i="1" lang="es-ES_tradnl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i="1" lang="es-ES_tradnl" sz="2400" spc="-1" strike="noStrike">
                <a:solidFill>
                  <a:srgbClr val="3333ff"/>
                </a:solidFill>
                <a:latin typeface="Courier New"/>
              </a:rPr>
              <a:t>prioridad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punto de ex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viar pedido para ser procesado según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la pri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BD0-3C55-4705-BC58-A07810F74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3080" y="1854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tro ejemplo con relación de extens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7240" y="1776240"/>
            <a:ext cx="9084600" cy="1274400"/>
            <a:chOff x="147240" y="1776240"/>
            <a:chExt cx="9084600" cy="1274400"/>
          </a:xfrm>
        </p:grpSpPr>
        <p:grpSp>
          <p:nvGrpSpPr>
            <p:cNvPr id="270" name=""/>
            <p:cNvGrpSpPr/>
            <p:nvPr/>
          </p:nvGrpSpPr>
          <p:grpSpPr>
            <a:xfrm>
              <a:off x="2311200" y="1776240"/>
              <a:ext cx="6920640" cy="1057320"/>
              <a:chOff x="2311200" y="1776240"/>
              <a:chExt cx="6920640" cy="1057320"/>
            </a:xfrm>
          </p:grpSpPr>
          <p:sp>
            <p:nvSpPr>
              <p:cNvPr id="271" name=""/>
              <p:cNvSpPr/>
              <p:nvPr/>
            </p:nvSpPr>
            <p:spPr>
              <a:xfrm>
                <a:off x="2311200" y="1776240"/>
                <a:ext cx="2454480" cy="1057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375280" y="1792800"/>
                <a:ext cx="6856560" cy="1020960"/>
                <a:chOff x="2375280" y="1792800"/>
                <a:chExt cx="6856560" cy="1020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772720" y="1825200"/>
                  <a:ext cx="1599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</a:rPr>
                    <a:t>Devolver Libr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4786200" y="2320920"/>
                  <a:ext cx="2095560" cy="108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6863400" y="1874160"/>
                  <a:ext cx="2368440" cy="871200"/>
                  <a:chOff x="6863400" y="1874160"/>
                  <a:chExt cx="2368440" cy="8712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6863400" y="1874160"/>
                    <a:ext cx="2368440" cy="8712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8680" y="2097000"/>
                    <a:ext cx="153864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ner mult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5115240" y="1792800"/>
                  <a:ext cx="14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Arial"/>
                    </a:rPr>
                    <a:t>«extend»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75280" y="2145240"/>
                  <a:ext cx="2317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94800" y="2202120"/>
                  <a:ext cx="21963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Puntos de extens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s-ES_tradnl" sz="1800" spc="-1" strike="noStrike">
                      <a:solidFill>
                        <a:srgbClr val="000099"/>
                      </a:solidFill>
                      <a:latin typeface="Times New Roman"/>
                    </a:rPr>
                    <a:t>libro retras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955440" y="2311200"/>
              <a:ext cx="13716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47240" y="1885680"/>
              <a:ext cx="1378440" cy="1164960"/>
              <a:chOff x="147240" y="1885680"/>
              <a:chExt cx="1378440" cy="1164960"/>
            </a:xfrm>
          </p:grpSpPr>
          <p:sp>
            <p:nvSpPr>
              <p:cNvPr id="283" name=""/>
              <p:cNvSpPr/>
              <p:nvPr/>
            </p:nvSpPr>
            <p:spPr>
              <a:xfrm>
                <a:off x="703080" y="1885680"/>
                <a:ext cx="228600" cy="21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0440" y="2098080"/>
                <a:ext cx="0" cy="38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34680" y="2469600"/>
                <a:ext cx="18576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0440" y="2469600"/>
                <a:ext cx="17784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1000" y="2199600"/>
                <a:ext cx="26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7240" y="2682360"/>
                <a:ext cx="137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Bibliotec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5173920" y="3541680"/>
            <a:ext cx="426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mbre: </a:t>
            </a: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Poner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condición: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Libro devuelto fuera de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ujo: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1. El bibliotecario introduce detalles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2. El sistema registra e imprime la mu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680" y="3573360"/>
            <a:ext cx="4898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mbre: </a:t>
            </a: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Devolver li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tor principal: Bibliotec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condición: Bibliotecario está autent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lujo:</a:t>
            </a: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. El bibliotecario introduce id del presta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. El sistema muestra datos del prestatario y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libros que tiene pres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. El bibliotecario selecciona libro a devol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Punto de extens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libro retra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4. El sistema registra la devolu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5.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032-3405-4F2D-A8BE-1E1FBE32D4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onfus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iene su uso sólo para insertar un nuevo comportamiento no previsto en un caso de uso exis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720360" y="414000"/>
            <a:ext cx="84200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lación de extens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E08-3E3A-4A59-B2DE-F44C8078A1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11200" y="4383000"/>
            <a:ext cx="84232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asos de uso “hijo” son una especialización del caso de uso “padr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e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confu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y se debería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evitar su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380960" y="1479600"/>
            <a:ext cx="7124760" cy="2601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-360" y="185400"/>
            <a:ext cx="97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tro ejemplo con relación de generalización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FD1-C91E-40C0-ADB4-0E8DCCC476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8000" y="2646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Obtención de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636200"/>
            <a:ext cx="83264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r los </a:t>
            </a:r>
            <a:r>
              <a:rPr b="0" lang="es-ES_tradnl" sz="3200" spc="-1" strike="noStrike">
                <a:solidFill>
                  <a:srgbClr val="3333ff"/>
                </a:solidFill>
                <a:latin typeface="Times New Roman"/>
              </a:rPr>
              <a:t>usuari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) Encontrar todos los </a:t>
            </a:r>
            <a:r>
              <a:rPr b="0" lang="es-ES_tradnl" sz="3200" spc="-1" strike="noStrike">
                <a:solidFill>
                  <a:srgbClr val="3333ff"/>
                </a:solidFill>
                <a:latin typeface="Times New Roman"/>
              </a:rPr>
              <a:t>ro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que juegan los usuarios y que son relevantes a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) Para cada rol identificar todas las formas (</a:t>
            </a:r>
            <a:r>
              <a:rPr b="1" lang="es-ES_tradnl" sz="3200" spc="-1" strike="noStrike">
                <a:solidFill>
                  <a:srgbClr val="3333ff"/>
                </a:solidFill>
                <a:latin typeface="Times New Roman"/>
              </a:rPr>
              <a:t>obje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 de interactuar con 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s-ES_tradnl" sz="3200" spc="-1" strike="noStrike">
                <a:solidFill>
                  <a:srgbClr val="3333ff"/>
                </a:solidFill>
                <a:latin typeface="Times New Roman"/>
              </a:rPr>
              <a:t>Crea un caso de uso por cada objetiv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) Estructurar los casos de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) Revisar y </a:t>
            </a:r>
            <a:r>
              <a:rPr b="0" lang="es-ES_tradnl" sz="3200" spc="-1" strike="noStrike">
                <a:solidFill>
                  <a:srgbClr val="3333ff"/>
                </a:solidFill>
                <a:latin typeface="Times New Roman"/>
              </a:rPr>
              <a:t>valida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n el usu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FA7-149A-4B4F-B71B-D79901077B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30080" y="433440"/>
            <a:ext cx="8420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lantilla </a:t>
            </a:r>
            <a:r>
              <a:rPr b="0" i="1" lang="es-ES_tradnl" sz="3600" spc="-1" strike="noStrike">
                <a:solidFill>
                  <a:srgbClr val="3333cc"/>
                </a:solidFill>
                <a:latin typeface="Tahoma"/>
              </a:rPr>
              <a:t>usecases.org 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(Larman)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360" y="1750680"/>
            <a:ext cx="885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ores Principale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s involucradas e Inter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enario Principal (Flujo Bás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ensiones (Flujos Alterna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de Interfaz de Usu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No-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stion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1CA-456C-47C9-B5ED-AFA01CD6F6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71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de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717200"/>
            <a:ext cx="8334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caso de uso especifica un comportamiento deseado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n los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requisitos funcion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n caso de uso especifica un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conjunto d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secuencias de accion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incluyendo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variant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que el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sistema</a:t>
            </a:r>
            <a:r>
              <a:rPr b="0" i="1" lang="es-ES_tradnl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puede ejecutar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y que produce un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resultado observabl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1" i="1" lang="es-ES_tradnl" sz="2800" spc="-1" strike="noStrike">
                <a:solidFill>
                  <a:srgbClr val="3333ff"/>
                </a:solidFill>
                <a:latin typeface="Times New Roman"/>
              </a:rPr>
              <a:t>valor para un actor en particular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.”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finición en 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ben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ace el sistema, no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óm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lo h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E3B-1929-4F3C-991E-4AD32DF32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5280" y="412920"/>
            <a:ext cx="84200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 de uso </a:t>
            </a:r>
            <a:r>
              <a:rPr b="0" i="1" lang="es-ES_tradnl" sz="3600" spc="-1" strike="noStrike">
                <a:solidFill>
                  <a:srgbClr val="000000"/>
                </a:solidFill>
                <a:latin typeface="Tahoma"/>
              </a:rPr>
              <a:t>“Realizar Venta”</a:t>
            </a:r>
            <a:r>
              <a:rPr b="0" i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7880" y="1755720"/>
            <a:ext cx="8694720" cy="4530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liente llega al TPV con un conjunto de artículos. El cajero registra los artículos y se genera un ticket. El cliente paga en efectivo y recoge los artíc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ore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jero (principal), Sistema (secund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ersonal Involucrado e Inter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jero: quiere entradas precisas, rápidas y sin errores de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añía: quiere registrar transacciones y satisfacer cl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ondición: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ajero se identifica y auten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condi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registra la venta. Se calcula el impuesto. Se actualiza la contabilidad y el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F98-701C-4D08-BED2-161B632E9A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280" y="438120"/>
            <a:ext cx="8420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 de uso </a:t>
            </a:r>
            <a:r>
              <a:rPr b="0" i="1" lang="es-ES_tradnl" sz="3600" spc="-1" strike="noStrike">
                <a:solidFill>
                  <a:srgbClr val="000000"/>
                </a:solidFill>
                <a:latin typeface="Tahoma"/>
              </a:rPr>
              <a:t>“Realizar Venta”</a:t>
            </a:r>
            <a:r>
              <a:rPr b="0" i="1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5720" y="1755720"/>
            <a:ext cx="8483760" cy="4530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enario Principal (Flujo Básico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El cliente llega al TPV con los artícu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. El cajero inicia una nueva v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. El cajero introduce el identificador de cada artíc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. El sistema registra la línea de venta y presenta descripción del artículo, precio y suma pa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cajero repite los pasos 3 y 4 hasta que se ind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. El sistema presenta el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. El cajero le dice al cliente el total a paga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. El cliente paga y el sistema gestiona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. El sistema registra la venta completa y actualiza el inven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. El sistema presenta recib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3600" y="1758960"/>
            <a:ext cx="92916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7FE-2BB5-43E8-88C4-EA9E90505B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3840" y="155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 de uso </a:t>
            </a:r>
            <a:r>
              <a:rPr b="0" i="1" lang="es-ES_tradnl" sz="3600" spc="-1" strike="noStrike">
                <a:solidFill>
                  <a:srgbClr val="000000"/>
                </a:solidFill>
                <a:latin typeface="Tahoma"/>
              </a:rPr>
              <a:t>“Realizar Venta”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9680" y="1668240"/>
            <a:ext cx="8718480" cy="4593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nsiones (Flujos Alternativ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1: Identificador no vá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secuencia A1 comienza en el punto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. El sistema señala el error y rechaza la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escenario vuelve al punto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2: El cliente pide eliminar un artículo de la comp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secuencia A2 puede ocurrir entre los puntos 3-6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El cajero introduce identificador a elim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El sistema actualiza la s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escenario continúa en el punto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3: Pago en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secuencia A3 ocurre en el punto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El cajero introduce la cantidad entregada por el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El sistema muestra cantidad a devol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escenario continúa en el punto 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D99-9466-409F-94C7-661BAAEC77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3840" y="1551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Caso de uso </a:t>
            </a:r>
            <a:r>
              <a:rPr b="0" i="1" lang="es-ES_tradnl" sz="3600" spc="-1" strike="noStrike">
                <a:solidFill>
                  <a:srgbClr val="000000"/>
                </a:solidFill>
                <a:latin typeface="Tahoma"/>
              </a:rPr>
              <a:t>“Realizar Venta”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9680" y="1698120"/>
            <a:ext cx="8710560" cy="45990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 de Interfaz de Usu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antalla táctil en un monitor de pantalla pl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l texto debe ser visible a un metro de di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 No-Funcion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identificador del producto podría ser cualquier esquema de código de barras UPC, EAN-8, EAN-13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tiempo de respuesta para autorizar el pago con la tarjeta de débito o de crédito es de 30 segun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uestiones Pend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plorar cuestiones de recuperación de accesos a servicios remo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Qué adaptaciones son necesarias en un TPV para diferentes negoc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8D5-D9E9-4D2A-9AD6-ED1CE21388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0840" y="204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Utilidad de los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8520" y="1584360"/>
            <a:ext cx="801684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y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onsens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n considerar casos de uso como esenciales para capturar requisitos y guiar el model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todavía existe mucha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onfus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obre cómo usar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¿Cuál es el número de casos de uso apropiado en un proye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¿Qué casos de uso hay en 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F7A-7DD1-4D10-B866-B78694ED76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7240" y="236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ranularidad de los casos de uso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676160"/>
            <a:ext cx="8086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erente granu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aso de uso se puede asociar a un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objetiv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usuario o a una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interac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bás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n 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objetivo implica una o más interaccion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debe definir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un caso de uso por cada objetiv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usu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122-6BE4-41B4-8003-6395AFD173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79040" y="1588680"/>
            <a:ext cx="84200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Casos de uso del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Negocio: Objetivo estratégico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nta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Casos de uso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 de un usu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un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Casos de uso de inc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n parte de otro, son como subfun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scar, Validar,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87240" y="236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ranularidad de los casos de uso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957-7BEC-4200-83D3-C879B8190F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79040" y="1588680"/>
            <a:ext cx="84200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granularidad es apropiada para un caso de uso del sist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rven para planificar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es asocia un flujo de interacciones actor-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n ser objetivos d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un sistema de venta por internet, es un caso de u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99"/>
                </a:solidFill>
                <a:latin typeface="Times New Roman"/>
              </a:rPr>
              <a:t>Añadir producto al carro de la compra”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7240" y="2361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Granularidad de los casos de uso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C92-29AB-4DD5-B671-67E36AD8F3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7320" y="473040"/>
            <a:ext cx="843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comendaciones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81200" y="1449360"/>
            <a:ext cx="8099280" cy="4834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ificar casos de uso no es una actividad de dibujar diagramas sino de escribir con el detalle necesario el flujo principal y los flujos alternativos: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centrado en la escritura en vez del dibuj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inicial es identificar los actores y a partir de sus objetivos encontrar los casos de uso, el diagrama de casos de uso es una ayuda vi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exto de los casos de uso debe ser cla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547-E38D-4A9B-B8EF-F5AC4755C8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7320" y="473040"/>
            <a:ext cx="843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comendaciones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1200" y="1449360"/>
            <a:ext cx="8229600" cy="4834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aso de uso debe tener una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granular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propiada, pues especifica una interacción en la que se produce un resultado de valor para un 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identificar como caso de uso lo que son interacciones que forman parte de una interacción mayor que las engloba y no son casos de uso de inclu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error común es no identificar como casos de uso las tareas que inicia el propio sistema (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Actor </a:t>
            </a:r>
            <a:r>
              <a:rPr b="0" i="1" lang="es-ES_tradnl" sz="3200" spc="-1" strike="noStrike">
                <a:solidFill>
                  <a:srgbClr val="000099"/>
                </a:solidFill>
                <a:latin typeface="Times New Roman"/>
              </a:rPr>
              <a:t>Tiemp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ular reservas pasados quince dí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2FA-F13A-4B72-949C-ECEE8F943B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120" y="272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Modelado de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717200"/>
            <a:ext cx="88329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tes de un caso de uso (cd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secuencias de acciones; cada secuencia representa un posible comportamient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ores, roles que pueden jugar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antes: versiones especializadas, un cdu que extiende a otro o un cdu que incluye a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caso de uso realiza un trabajo tang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E75-91E8-4F38-941D-6AAFBD6C4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7320" y="473040"/>
            <a:ext cx="843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comendaciones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81200" y="1449000"/>
            <a:ext cx="8099280" cy="4987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No incluir como casos de uso las operaciones </a:t>
            </a:r>
            <a:r>
              <a:rPr b="0" i="1" lang="es-ES_tradnl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RU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bre un objeto de negocio (alta, consulta, borrado, actualizació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D es el acrónimo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ar, Obtener, Actualizar y Borrar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ate, Retrieve, Update y Delete, en inglé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cepción es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 se trata de operaciones relevantes para el sistem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o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Registrar Cliente”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un sistema de venta por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949-1488-4DB0-ACA8-E47A98BC5F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7320" y="473040"/>
            <a:ext cx="8434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Recomendaciones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81200" y="1449360"/>
            <a:ext cx="8099280" cy="3184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idado con el empleo de la relación “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¡No hacer una descomposición func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abusar de las relaciones de extens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3200" spc="-1" strike="noStrike">
                <a:solidFill>
                  <a:srgbClr val="000099"/>
                </a:solidFill>
                <a:latin typeface="Times New Roman"/>
              </a:rPr>
              <a:t>relación de generalización no debería utilizars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822-94E0-4935-8F1B-42CA0BBB36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9320" y="74160"/>
            <a:ext cx="358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Tahoma"/>
              </a:rPr>
              <a:t>Mal uso de los casos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073240" y="127080"/>
            <a:ext cx="6811920" cy="67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579-D1F7-4EBA-81C6-D0A2A62D6C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120" y="282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jemplo de Caso de Uso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510560" y="1960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8120" y="199224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so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</p:cNvCxnSpPr>
          <p:nvPr/>
        </p:nvCxnSpPr>
        <p:spPr>
          <a:xfrm flipH="1" rot="16200000">
            <a:off x="1899360" y="2519640"/>
            <a:ext cx="670680" cy="465840"/>
          </a:xfrm>
          <a:prstGeom prst="curvedConnector5">
            <a:avLst>
              <a:gd name="adj1" fmla="val 50000"/>
              <a:gd name="adj2" fmla="val 49961"/>
              <a:gd name="adj3" fmla="val 50000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" name=""/>
          <p:cNvCxnSpPr/>
          <p:nvPr/>
        </p:nvCxnSpPr>
        <p:spPr>
          <a:xfrm flipH="1" rot="16200000">
            <a:off x="5634720" y="2684160"/>
            <a:ext cx="789840" cy="275400"/>
          </a:xfrm>
          <a:prstGeom prst="curvedConnector5">
            <a:avLst>
              <a:gd name="adj1" fmla="val 49886"/>
              <a:gd name="adj2" fmla="val 50000"/>
              <a:gd name="adj3" fmla="val 49886"/>
            </a:avLst>
          </a:prstGeom>
          <a:ln w="1584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56" name=""/>
          <p:cNvSpPr/>
          <p:nvPr/>
        </p:nvSpPr>
        <p:spPr>
          <a:xfrm>
            <a:off x="3732120" y="47782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 flipH="1" rot="16200000">
            <a:off x="3446280" y="4089960"/>
            <a:ext cx="953280" cy="44028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15840">
            <a:solidFill>
              <a:srgbClr val="000000"/>
            </a:solidFill>
            <a:miter/>
            <a:headEnd len="med" type="oval" w="med"/>
          </a:ln>
        </p:spPr>
      </p:cxn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57280" y="3230640"/>
            <a:ext cx="636120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F2C-E506-4D4F-9E46-EE393E394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cto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6440" y="178596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n actor representa un conjunto coherente de roles que juegan los usuarios de los casos de uso al interaccionar con 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les jugados por personas, dispositivos, u otros sist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iempo puede ser un actor (“procesos iniciados automáticamente por el sistema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forman parte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20B-F10D-411B-91F6-C0EF426E9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193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cto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63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usuario puede jugar diferentes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a realización de un caso de uso pueden intervenir diferentes ac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actor puede intervenir en varios casos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car casos de uso mediante actores y eventos exter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actor necesita el caso de uso y/o participa en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2AD-DA51-4EB9-9089-74E2587A0A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93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Acto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63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s tipos de act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Princip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 al sistema el cumplimiento de un obje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Secundar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sistema necesita de ellos para satisfacer u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je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827-45B6-40FD-91BB-DEB473FF3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7451640" cy="3397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25920" y="4859280"/>
            <a:ext cx="2335320" cy="1062000"/>
          </a:xfrm>
          <a:prstGeom prst="wedgeEllipseCallout">
            <a:avLst>
              <a:gd name="adj1" fmla="val 36402"/>
              <a:gd name="adj2" fmla="val -75412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ahoma"/>
              </a:rPr>
              <a:t>Actores Secund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35320"/>
            <a:ext cx="2098800" cy="946080"/>
          </a:xfrm>
          <a:prstGeom prst="wedgeEllipseCallout">
            <a:avLst>
              <a:gd name="adj1" fmla="val -4388"/>
              <a:gd name="adj2" fmla="val -77013"/>
            </a:avLst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Tahoma"/>
              </a:rPr>
              <a:t>Actor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7120" y="282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jemplo de Actores</a:t>
            </a:r>
            <a:endParaRPr b="0" lang="en-US" sz="3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D6F-86AF-4689-A735-7994B0BD26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2:07:21Z</dcterms:created>
  <dc:creator>MCO</dc:creator>
  <dc:description/>
  <dc:language>en-US</dc:language>
  <cp:lastModifiedBy>MCO</cp:lastModifiedBy>
  <cp:lastPrinted>2001-02-12T13:12:26Z</cp:lastPrinted>
  <dcterms:modified xsi:type="dcterms:W3CDTF">2008-11-13T16:33:06Z</dcterms:modified>
  <cp:revision>199</cp:revision>
  <dc:subject/>
  <dc:title>Modelado de casos de uso</dc:title>
</cp:coreProperties>
</file>