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1.wmf" ContentType="image/x-wmf"/>
  <Override PartName="/ppt/media/image26.png" ContentType="image/png"/>
  <Override PartName="/ppt/media/image28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7.wmf" ContentType="image/x-wmf"/>
  <Override PartName="/ppt/media/image37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3CB-7D09-46A7-9F30-DB1BAD11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B98-9538-488F-9265-C25B3282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649-77B3-4084-B9EA-8903AA72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958-5927-4709-B1DB-4D4B7A8C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F8C-D2C8-4135-BA91-01898D5B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2B1-29E6-4C8E-B9BD-C885502F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B0B-EF7C-44F0-9C72-E3642338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B1B-CF78-471E-85D4-B674538F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0080" y="42048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19B-61A4-413C-B82C-DC5A5C1B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E5F-39BA-4405-A49B-DEDF41B3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6ED-0F28-452F-9218-8453C6BD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486-CC80-4221-B690-1104230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DD01-9625-4079-9BBF-F3B73A87C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3880" y="1246320"/>
            <a:ext cx="84200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8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8.wmf"/><Relationship Id="rId19" Type="http://schemas.openxmlformats.org/officeDocument/2006/relationships/image" Target="../media/image6.wmf"/><Relationship Id="rId20" Type="http://schemas.openxmlformats.org/officeDocument/2006/relationships/image" Target="../media/image7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7.wmf"/><Relationship Id="rId24" Type="http://schemas.openxmlformats.org/officeDocument/2006/relationships/image" Target="../media/image6.wmf"/><Relationship Id="rId25" Type="http://schemas.openxmlformats.org/officeDocument/2006/relationships/image" Target="../media/image8.wmf"/><Relationship Id="rId26" Type="http://schemas.openxmlformats.org/officeDocument/2006/relationships/image" Target="../media/image9.wmf"/><Relationship Id="rId27" Type="http://schemas.openxmlformats.org/officeDocument/2006/relationships/image" Target="../media/image8.wmf"/><Relationship Id="rId28" Type="http://schemas.openxmlformats.org/officeDocument/2006/relationships/image" Target="../media/image6.wmf"/><Relationship Id="rId29" Type="http://schemas.openxmlformats.org/officeDocument/2006/relationships/image" Target="../media/image7.wmf"/><Relationship Id="rId30" Type="http://schemas.openxmlformats.org/officeDocument/2006/relationships/image" Target="../media/image6.wmf"/><Relationship Id="rId3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4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4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4.wmf"/><Relationship Id="rId16" Type="http://schemas.openxmlformats.org/officeDocument/2006/relationships/image" Target="../media/image24.wmf"/><Relationship Id="rId17" Type="http://schemas.openxmlformats.org/officeDocument/2006/relationships/image" Target="../media/image25.wmf"/><Relationship Id="rId18" Type="http://schemas.openxmlformats.org/officeDocument/2006/relationships/image" Target="../media/image24.wmf"/><Relationship Id="rId19" Type="http://schemas.openxmlformats.org/officeDocument/2006/relationships/image" Target="../media/image24.wmf"/><Relationship Id="rId20" Type="http://schemas.openxmlformats.org/officeDocument/2006/relationships/image" Target="../media/image25.wmf"/><Relationship Id="rId21" Type="http://schemas.openxmlformats.org/officeDocument/2006/relationships/image" Target="../media/image24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24.wmf"/><Relationship Id="rId25" Type="http://schemas.openxmlformats.org/officeDocument/2006/relationships/image" Target="../media/image24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24.wmf"/><Relationship Id="rId29" Type="http://schemas.openxmlformats.org/officeDocument/2006/relationships/image" Target="../media/image25.wmf"/><Relationship Id="rId30" Type="http://schemas.openxmlformats.org/officeDocument/2006/relationships/image" Target="../media/image24.wmf"/><Relationship Id="rId3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1200" y="2847960"/>
            <a:ext cx="8623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El Lenguaje Unificado de Modelado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UML 2.0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441520" y="825480"/>
            <a:ext cx="462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Análisis y Diseño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0080" y="331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Colaboración (parte estática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60440" y="1744560"/>
            <a:ext cx="6761160" cy="373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F83-FC12-4A4E-B616-889452662A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0080" y="331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Colaboración (parte dinámica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6680" y="1098720"/>
            <a:ext cx="9469440" cy="57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AEE-5EF6-47D5-A49F-38EB850AF5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0" y="255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atrón de diseño (parte estática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32000" y="1544760"/>
            <a:ext cx="7760880" cy="4181040"/>
            <a:chOff x="1332000" y="1544760"/>
            <a:chExt cx="7760880" cy="4181040"/>
          </a:xfrm>
        </p:grpSpPr>
        <p:sp>
          <p:nvSpPr>
            <p:cNvPr id="68" name=""/>
            <p:cNvSpPr/>
            <p:nvPr/>
          </p:nvSpPr>
          <p:spPr>
            <a:xfrm>
              <a:off x="5588640" y="1870200"/>
              <a:ext cx="848520" cy="81360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25800" y="192348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88640" y="2155320"/>
              <a:ext cx="848520" cy="528120"/>
            </a:xfrm>
            <a:prstGeom prst="rect">
              <a:avLst/>
            </a:prstGeom>
            <a:noFill/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88640" y="2262600"/>
              <a:ext cx="848520" cy="42084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5634000" y="2412000"/>
              <a:ext cx="1864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5634000" y="2412000"/>
              <a:ext cx="1864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5634000" y="2412000"/>
              <a:ext cx="18648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817600" y="241200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pdat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34960" y="1544760"/>
              <a:ext cx="1127520" cy="146448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48880" y="159840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34960" y="1829880"/>
              <a:ext cx="1127520" cy="117936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34960" y="2155320"/>
              <a:ext cx="1127520" cy="853920"/>
            </a:xfrm>
            <a:prstGeom prst="rect">
              <a:avLst/>
            </a:prstGeom>
            <a:noFill/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1483560" y="187020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1483560" y="187020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1483560" y="187020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665000" y="1870200"/>
              <a:ext cx="84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bject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1483560" y="2302920"/>
              <a:ext cx="184680" cy="2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1483560" y="2302920"/>
              <a:ext cx="184680" cy="2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9"/>
            <a:stretch/>
          </p:blipFill>
          <p:spPr>
            <a:xfrm>
              <a:off x="1483560" y="2302920"/>
              <a:ext cx="184680" cy="2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67160" y="230292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ttach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483560" y="2521080"/>
              <a:ext cx="18468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>
              <a:off x="1483560" y="2521080"/>
              <a:ext cx="18468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>
              <a:off x="1483560" y="2521080"/>
              <a:ext cx="1846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66440" y="2521080"/>
              <a:ext cx="58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etach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3"/>
            <a:stretch/>
          </p:blipFill>
          <p:spPr>
            <a:xfrm>
              <a:off x="1483560" y="273780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4"/>
            <a:stretch/>
          </p:blipFill>
          <p:spPr>
            <a:xfrm>
              <a:off x="1483560" y="273780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5"/>
            <a:stretch/>
          </p:blipFill>
          <p:spPr>
            <a:xfrm>
              <a:off x="1483560" y="273780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668240" y="273780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otify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75560" y="2276280"/>
              <a:ext cx="1512720" cy="14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235836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562840" y="2276280"/>
              <a:ext cx="1512720" cy="14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7240" y="23716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37280" y="235836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8960" y="1965600"/>
              <a:ext cx="75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+ob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67240" y="23716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32000" y="4431600"/>
              <a:ext cx="1337040" cy="123264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2880" y="4485600"/>
              <a:ext cx="113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creteSu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715280"/>
              <a:ext cx="1337040" cy="9493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5040360"/>
              <a:ext cx="1337040" cy="62424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6"/>
            <a:stretch/>
          </p:blipFill>
          <p:spPr>
            <a:xfrm>
              <a:off x="1377360" y="4757400"/>
              <a:ext cx="18612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1377360" y="4757400"/>
              <a:ext cx="18612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1377360" y="4757400"/>
              <a:ext cx="18612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60600" y="4757400"/>
              <a:ext cx="84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bject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9"/>
            <a:stretch/>
          </p:blipFill>
          <p:spPr>
            <a:xfrm>
              <a:off x="1377360" y="5189760"/>
              <a:ext cx="18612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0"/>
            <a:stretch/>
          </p:blipFill>
          <p:spPr>
            <a:xfrm>
              <a:off x="1377360" y="5189760"/>
              <a:ext cx="18612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1"/>
            <a:stretch/>
          </p:blipFill>
          <p:spPr>
            <a:xfrm>
              <a:off x="1377360" y="5189760"/>
              <a:ext cx="18612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561680" y="518976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etStat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2"/>
            <a:stretch/>
          </p:blipFill>
          <p:spPr>
            <a:xfrm>
              <a:off x="1377360" y="5406480"/>
              <a:ext cx="18612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3"/>
            <a:stretch/>
          </p:blipFill>
          <p:spPr>
            <a:xfrm>
              <a:off x="1377360" y="5406480"/>
              <a:ext cx="18612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4"/>
            <a:stretch/>
          </p:blipFill>
          <p:spPr>
            <a:xfrm>
              <a:off x="1377360" y="5406480"/>
              <a:ext cx="18612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562400" y="540648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etStat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004840" y="3022560"/>
              <a:ext cx="1440" cy="14086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2240" y="3022920"/>
              <a:ext cx="207360" cy="32328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63" y="0"/>
                  </a:moveTo>
                  <a:lnTo>
                    <a:pt x="127" y="169"/>
                  </a:lnTo>
                  <a:lnTo>
                    <a:pt x="0" y="1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7400" y="4538880"/>
              <a:ext cx="1441440" cy="101664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21240" y="4594680"/>
              <a:ext cx="124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creteO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7400" y="4824000"/>
              <a:ext cx="1441440" cy="731520"/>
            </a:xfrm>
            <a:prstGeom prst="rect">
              <a:avLst/>
            </a:prstGeom>
            <a:noFill/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97400" y="5149800"/>
              <a:ext cx="1441440" cy="40572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5"/>
            <a:stretch/>
          </p:blipFill>
          <p:spPr>
            <a:xfrm>
              <a:off x="5344560" y="486468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6"/>
            <a:stretch/>
          </p:blipFill>
          <p:spPr>
            <a:xfrm>
              <a:off x="5344560" y="486468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7"/>
            <a:stretch/>
          </p:blipFill>
          <p:spPr>
            <a:xfrm>
              <a:off x="5344560" y="486468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525640" y="4864680"/>
              <a:ext cx="95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er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8"/>
            <a:stretch/>
          </p:blipFill>
          <p:spPr>
            <a:xfrm>
              <a:off x="5344560" y="529920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9"/>
            <a:stretch/>
          </p:blipFill>
          <p:spPr>
            <a:xfrm>
              <a:off x="5344560" y="529920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0"/>
            <a:stretch/>
          </p:blipFill>
          <p:spPr>
            <a:xfrm>
              <a:off x="5344560" y="5299200"/>
              <a:ext cx="18468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26720" y="52992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pdat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018840" y="2696760"/>
              <a:ext cx="1440" cy="18414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13000" y="2697120"/>
              <a:ext cx="208800" cy="325440"/>
            </a:xfrm>
            <a:custGeom>
              <a:avLst/>
              <a:gdLst/>
              <a:ahLst/>
              <a:rect l="l" t="t" r="r" b="b"/>
              <a:pathLst>
                <a:path w="127" h="170">
                  <a:moveTo>
                    <a:pt x="64" y="0"/>
                  </a:moveTo>
                  <a:lnTo>
                    <a:pt x="127" y="170"/>
                  </a:lnTo>
                  <a:lnTo>
                    <a:pt x="0" y="17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1960" y="5053680"/>
              <a:ext cx="1315440" cy="2160"/>
            </a:xfrm>
            <a:prstGeom prst="line">
              <a:avLst/>
            </a:prstGeom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79480" y="5053680"/>
              <a:ext cx="1302120" cy="21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98280" y="4728600"/>
              <a:ext cx="57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+su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56160" y="5061600"/>
              <a:ext cx="1836720" cy="664200"/>
            </a:xfrm>
            <a:custGeom>
              <a:avLst/>
              <a:gdLst/>
              <a:ahLst/>
              <a:rect l="l" t="t" r="r" b="b"/>
              <a:pathLst>
                <a:path w="1119" h="347">
                  <a:moveTo>
                    <a:pt x="0" y="0"/>
                  </a:moveTo>
                  <a:lnTo>
                    <a:pt x="1013" y="0"/>
                  </a:lnTo>
                  <a:lnTo>
                    <a:pt x="1119" y="99"/>
                  </a:lnTo>
                  <a:lnTo>
                    <a:pt x="1119" y="347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56160" y="5061600"/>
              <a:ext cx="1836720" cy="664200"/>
            </a:xfrm>
            <a:custGeom>
              <a:avLst/>
              <a:gdLst/>
              <a:ahLst/>
              <a:rect l="l" t="t" r="r" b="b"/>
              <a:pathLst>
                <a:path w="158" h="49">
                  <a:moveTo>
                    <a:pt x="0" y="0"/>
                  </a:moveTo>
                  <a:lnTo>
                    <a:pt x="143" y="0"/>
                  </a:lnTo>
                  <a:lnTo>
                    <a:pt x="158" y="14"/>
                  </a:lnTo>
                  <a:lnTo>
                    <a:pt x="158" y="49"/>
                  </a:lnTo>
                  <a:lnTo>
                    <a:pt x="0" y="49"/>
                  </a:lnTo>
                  <a:lnTo>
                    <a:pt x="0" y="0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918640" y="5061600"/>
              <a:ext cx="174240" cy="18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0" y="14"/>
                  </a:lnTo>
                  <a:lnTo>
                    <a:pt x="15" y="14"/>
                  </a:lnTo>
                </a:path>
              </a:pathLst>
            </a:custGeom>
            <a:noFill/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11960" y="5088600"/>
              <a:ext cx="104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erState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1240" y="5306400"/>
              <a:ext cx="128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bject.getState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3760" y="5398560"/>
              <a:ext cx="701640" cy="172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29760" y="3035880"/>
              <a:ext cx="1638360" cy="717840"/>
            </a:xfrm>
            <a:custGeom>
              <a:avLst/>
              <a:gdLst/>
              <a:ahLst/>
              <a:rect l="l" t="t" r="r" b="b"/>
              <a:pathLst>
                <a:path w="998" h="375">
                  <a:moveTo>
                    <a:pt x="0" y="0"/>
                  </a:moveTo>
                  <a:lnTo>
                    <a:pt x="899" y="0"/>
                  </a:lnTo>
                  <a:lnTo>
                    <a:pt x="998" y="99"/>
                  </a:lnTo>
                  <a:lnTo>
                    <a:pt x="998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29760" y="3035880"/>
              <a:ext cx="1638360" cy="717840"/>
            </a:xfrm>
            <a:custGeom>
              <a:avLst/>
              <a:gdLst/>
              <a:ahLst/>
              <a:rect l="l" t="t" r="r" b="b"/>
              <a:pathLst>
                <a:path w="141" h="53">
                  <a:moveTo>
                    <a:pt x="0" y="0"/>
                  </a:moveTo>
                  <a:lnTo>
                    <a:pt x="127" y="0"/>
                  </a:lnTo>
                  <a:lnTo>
                    <a:pt x="141" y="14"/>
                  </a:lnTo>
                  <a:lnTo>
                    <a:pt x="141" y="53"/>
                  </a:ln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06120" y="3035880"/>
              <a:ext cx="162000" cy="1897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14"/>
                  </a:lnTo>
                  <a:lnTo>
                    <a:pt x="14" y="14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83400" y="3062880"/>
              <a:ext cx="137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or all o in ob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84840" y="327960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{o.update()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379240" y="2899800"/>
              <a:ext cx="859320" cy="1227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DC1-5C65-4247-B7BC-AC2C7D751E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2217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atrón de diseño (parte dinámica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92120" y="1704960"/>
            <a:ext cx="690408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F08-F976-4F08-B681-237F38B8F9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0080" y="2710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Ingeniería Directa e Inversa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743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Ingenierí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nsformar modelos en código en un lenguaje de programación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Ingeniería inve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tener un modelo a partir de cód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difícil ya que hay pérdida de información al pasar de los modelos al cód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3CB-A5C1-4831-986D-8707C490D7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8520" y="21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las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915160" y="2050920"/>
            <a:ext cx="2217600" cy="648000"/>
          </a:xfrm>
          <a:prstGeom prst="wedgeEllipseCallout">
            <a:avLst>
              <a:gd name="adj1" fmla="val -55370"/>
              <a:gd name="adj2" fmla="val 65194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4840" y="3681360"/>
            <a:ext cx="2593800" cy="760320"/>
          </a:xfrm>
          <a:prstGeom prst="wedgeEllipseCallout">
            <a:avLst>
              <a:gd name="adj1" fmla="val -59486"/>
              <a:gd name="adj2" fmla="val 4791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54320" y="1487520"/>
            <a:ext cx="3646440" cy="3771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782800" y="4970520"/>
            <a:ext cx="166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7560" y="5305320"/>
            <a:ext cx="849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tienen por qué mostrar todos los atributos y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grupar los métodos usando estereotipos: &lt;&lt;constructor&gt;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&lt;query&gt;&gt;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672-80A5-47F9-9C25-D0A28446A1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0080" y="301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Interfac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3840" y="1815840"/>
            <a:ext cx="842004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interfaz es una colección de operaciones que especifica los servicios de una clase o compon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03520" y="3070080"/>
            <a:ext cx="2004840" cy="2865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70360" y="3716280"/>
            <a:ext cx="2184480" cy="19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CED-F27C-4E0B-BCFB-37B7ACE82D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64760" y="4129200"/>
            <a:ext cx="119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ombr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8280" y="4149720"/>
            <a:ext cx="24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e del atrib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64400" y="4662360"/>
            <a:ext cx="68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ip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02040" y="4646520"/>
            <a:ext cx="19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l atrib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61520" y="5186520"/>
            <a:ext cx="173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valor_in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04880" y="5195880"/>
            <a:ext cx="323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inicial o por d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00" y="1812960"/>
            <a:ext cx="8085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visibilidad] nombre [: tipo] [‘[‘multiplicidad’]’] [= valor_inicial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property-string {‘,’ property-string}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3280" y="5613480"/>
            <a:ext cx="45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pie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oz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 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Onl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640" y="3240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tribu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263320" y="2752560"/>
            <a:ext cx="3992400" cy="1361160"/>
            <a:chOff x="2263320" y="2752560"/>
            <a:chExt cx="3992400" cy="1361160"/>
          </a:xfrm>
        </p:grpSpPr>
        <p:sp>
          <p:nvSpPr>
            <p:cNvPr id="174" name=""/>
            <p:cNvSpPr/>
            <p:nvPr/>
          </p:nvSpPr>
          <p:spPr>
            <a:xfrm>
              <a:off x="2422080" y="3262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63320" y="3252960"/>
              <a:ext cx="135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vis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18120" y="3033720"/>
              <a:ext cx="170172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30080" y="2752560"/>
              <a:ext cx="166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  =    públ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40880" y="3083040"/>
              <a:ext cx="191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#   =    proteg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93360" y="3465360"/>
              <a:ext cx="175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   priv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25800" y="2855880"/>
              <a:ext cx="309600" cy="1109520"/>
            </a:xfrm>
            <a:custGeom>
              <a:avLst/>
              <a:gdLst/>
              <a:ahLst/>
              <a:rect l="l" t="t" r="r" b="b"/>
              <a:pathLst>
                <a:path w="180" h="504">
                  <a:moveTo>
                    <a:pt x="180" y="0"/>
                  </a:moveTo>
                  <a:lnTo>
                    <a:pt x="144" y="6"/>
                  </a:lnTo>
                  <a:lnTo>
                    <a:pt x="120" y="12"/>
                  </a:lnTo>
                  <a:lnTo>
                    <a:pt x="96" y="24"/>
                  </a:lnTo>
                  <a:lnTo>
                    <a:pt x="90" y="42"/>
                  </a:lnTo>
                  <a:lnTo>
                    <a:pt x="90" y="240"/>
                  </a:lnTo>
                  <a:lnTo>
                    <a:pt x="84" y="258"/>
                  </a:lnTo>
                  <a:lnTo>
                    <a:pt x="66" y="270"/>
                  </a:lnTo>
                  <a:lnTo>
                    <a:pt x="36" y="282"/>
                  </a:lnTo>
                  <a:lnTo>
                    <a:pt x="0" y="282"/>
                  </a:lnTo>
                  <a:lnTo>
                    <a:pt x="36" y="288"/>
                  </a:lnTo>
                  <a:lnTo>
                    <a:pt x="66" y="294"/>
                  </a:lnTo>
                  <a:lnTo>
                    <a:pt x="84" y="306"/>
                  </a:lnTo>
                  <a:lnTo>
                    <a:pt x="90" y="324"/>
                  </a:lnTo>
                  <a:lnTo>
                    <a:pt x="90" y="462"/>
                  </a:lnTo>
                  <a:lnTo>
                    <a:pt x="96" y="480"/>
                  </a:lnTo>
                  <a:lnTo>
                    <a:pt x="120" y="492"/>
                  </a:lnTo>
                  <a:lnTo>
                    <a:pt x="144" y="504"/>
                  </a:lnTo>
                  <a:lnTo>
                    <a:pt x="180" y="5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62120" y="3808440"/>
              <a:ext cx="182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~    =    pack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0A6-BC44-4C52-B6EE-1826DCABA24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7120" y="369360"/>
            <a:ext cx="84200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Atributos: Ejempl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6440" y="1671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+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origen : Pu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nombre : String [0..3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origen : Punto =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id : Integer {readOnl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F51-B19B-4F13-B222-154187EAC0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61240" y="3862440"/>
            <a:ext cx="119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ombre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97200" y="3868560"/>
            <a:ext cx="287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e de la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59080" y="4518000"/>
            <a:ext cx="238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ista_parámetros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59360" y="4498920"/>
            <a:ext cx="492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sta de parámetros separados por c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60160" y="5148360"/>
            <a:ext cx="167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ipo retorn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65160" y="5129280"/>
            <a:ext cx="480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valor devuelto por la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61600" y="5753160"/>
            <a:ext cx="16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pie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63360" y="5769000"/>
            <a:ext cx="513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Quer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quenti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urren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7200" y="1414440"/>
            <a:ext cx="8297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visibilidad] nombre [‘(‘lista_parametros’)’] [: tipo_retorno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property-string {‘,’ property-string}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6480" y="2620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31360" y="2443320"/>
            <a:ext cx="3992400" cy="1360800"/>
            <a:chOff x="1431360" y="2443320"/>
            <a:chExt cx="3992400" cy="1360800"/>
          </a:xfrm>
        </p:grpSpPr>
        <p:sp>
          <p:nvSpPr>
            <p:cNvPr id="195" name=""/>
            <p:cNvSpPr/>
            <p:nvPr/>
          </p:nvSpPr>
          <p:spPr>
            <a:xfrm>
              <a:off x="1590120" y="29527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31360" y="2943360"/>
              <a:ext cx="135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vis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86160" y="2724120"/>
              <a:ext cx="170172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98120" y="2443320"/>
              <a:ext cx="166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  =    públ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8920" y="2773440"/>
              <a:ext cx="191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#   =    proteg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61400" y="3155760"/>
              <a:ext cx="175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   priv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93840" y="2546280"/>
              <a:ext cx="309600" cy="1109160"/>
            </a:xfrm>
            <a:custGeom>
              <a:avLst/>
              <a:gdLst/>
              <a:ahLst/>
              <a:rect l="l" t="t" r="r" b="b"/>
              <a:pathLst>
                <a:path w="180" h="504">
                  <a:moveTo>
                    <a:pt x="180" y="0"/>
                  </a:moveTo>
                  <a:lnTo>
                    <a:pt x="144" y="6"/>
                  </a:lnTo>
                  <a:lnTo>
                    <a:pt x="120" y="12"/>
                  </a:lnTo>
                  <a:lnTo>
                    <a:pt x="96" y="24"/>
                  </a:lnTo>
                  <a:lnTo>
                    <a:pt x="90" y="42"/>
                  </a:lnTo>
                  <a:lnTo>
                    <a:pt x="90" y="240"/>
                  </a:lnTo>
                  <a:lnTo>
                    <a:pt x="84" y="258"/>
                  </a:lnTo>
                  <a:lnTo>
                    <a:pt x="66" y="270"/>
                  </a:lnTo>
                  <a:lnTo>
                    <a:pt x="36" y="282"/>
                  </a:lnTo>
                  <a:lnTo>
                    <a:pt x="0" y="282"/>
                  </a:lnTo>
                  <a:lnTo>
                    <a:pt x="36" y="288"/>
                  </a:lnTo>
                  <a:lnTo>
                    <a:pt x="66" y="294"/>
                  </a:lnTo>
                  <a:lnTo>
                    <a:pt x="84" y="306"/>
                  </a:lnTo>
                  <a:lnTo>
                    <a:pt x="90" y="324"/>
                  </a:lnTo>
                  <a:lnTo>
                    <a:pt x="90" y="462"/>
                  </a:lnTo>
                  <a:lnTo>
                    <a:pt x="96" y="480"/>
                  </a:lnTo>
                  <a:lnTo>
                    <a:pt x="120" y="492"/>
                  </a:lnTo>
                  <a:lnTo>
                    <a:pt x="144" y="504"/>
                  </a:lnTo>
                  <a:lnTo>
                    <a:pt x="180" y="5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30160" y="3498840"/>
              <a:ext cx="182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~    =    pack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52C-29C8-4C81-95C9-C2B57F1B2F1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nte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0760" y="1568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Modelado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aqu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16635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454-C941-41D8-AEC1-B61E7C495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301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Operaciones: Ejempl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3840" y="1744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bujar 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+ dibujar 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et (nombre :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getID():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arrancar() {sequential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ormato parámetr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[direccion] nombre : tipo [= valor-por-defect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reccio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uede ser 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et (in nombre : String = “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0C7-3422-4B46-BD34-8F7AE1DCE7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lases Parametrizada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0" y="3557520"/>
            <a:ext cx="34671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«bind» &lt;Emplead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25960" y="2131920"/>
            <a:ext cx="1297080" cy="17668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06800" y="1886040"/>
            <a:ext cx="649440" cy="476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74120" y="194796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8120" y="2378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b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5960" y="2638440"/>
            <a:ext cx="1297080" cy="1260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5960" y="3254400"/>
            <a:ext cx="1297080" cy="6444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192560" y="2684520"/>
            <a:ext cx="265320" cy="231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192560" y="2684520"/>
            <a:ext cx="265320" cy="23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192560" y="2684520"/>
            <a:ext cx="265320" cy="23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457520" y="268452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192560" y="2930400"/>
            <a:ext cx="265320" cy="231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192560" y="2930400"/>
            <a:ext cx="265320" cy="231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4192560" y="2930400"/>
            <a:ext cx="265320" cy="231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456440" y="2930400"/>
            <a:ext cx="74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4192560" y="3422520"/>
            <a:ext cx="265320" cy="216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4192560" y="3422520"/>
            <a:ext cx="265320" cy="21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4192560" y="3422520"/>
            <a:ext cx="265320" cy="216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459680" y="342252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ut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0"/>
          <a:stretch/>
        </p:blipFill>
        <p:spPr>
          <a:xfrm>
            <a:off x="4192560" y="3668760"/>
            <a:ext cx="265320" cy="214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4192560" y="3668760"/>
            <a:ext cx="265320" cy="214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2"/>
          <a:stretch/>
        </p:blipFill>
        <p:spPr>
          <a:xfrm>
            <a:off x="4192560" y="3668760"/>
            <a:ext cx="265320" cy="214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460760" y="3668760"/>
            <a:ext cx="8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tem() :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54800" y="4559400"/>
            <a:ext cx="1312920" cy="6300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52440" y="4637160"/>
            <a:ext cx="101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54800" y="4897440"/>
            <a:ext cx="1312920" cy="291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54800" y="5021280"/>
            <a:ext cx="1312920" cy="168120"/>
          </a:xfrm>
          <a:prstGeom prst="rect">
            <a:avLst/>
          </a:prstGeom>
          <a:noFill/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60640" y="4775040"/>
            <a:ext cx="1679760" cy="782640"/>
            <a:chOff x="2960640" y="4775040"/>
            <a:chExt cx="1679760" cy="782640"/>
          </a:xfrm>
        </p:grpSpPr>
        <p:sp>
          <p:nvSpPr>
            <p:cNvPr id="234" name=""/>
            <p:cNvSpPr/>
            <p:nvPr/>
          </p:nvSpPr>
          <p:spPr>
            <a:xfrm>
              <a:off x="2960640" y="4775040"/>
              <a:ext cx="1679760" cy="7826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73320" y="4836960"/>
              <a:ext cx="1454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abla&lt;Empleado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0640" y="5097600"/>
              <a:ext cx="1679760" cy="460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60640" y="5221440"/>
              <a:ext cx="1679760" cy="336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H="1" flipV="1">
            <a:off x="5439960" y="3546360"/>
            <a:ext cx="1297080" cy="10130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0320" y="3546360"/>
            <a:ext cx="249120" cy="60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40320" y="3546360"/>
            <a:ext cx="115920" cy="19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22200" y="2508120"/>
            <a:ext cx="1947960" cy="7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arametr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6480" y="4952880"/>
            <a:ext cx="21351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sta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33F-7903-473B-847C-AF9E8CA1A7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68160" y="2487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Otras propiedad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07840" y="1484280"/>
            <a:ext cx="842004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y métodos abstra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ltip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iables y métodos de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68320" y="3322800"/>
            <a:ext cx="2644920" cy="2736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20760" y="587376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8640" y="5514840"/>
            <a:ext cx="13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227480" y="3833640"/>
            <a:ext cx="1461960" cy="158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472080" y="3424320"/>
            <a:ext cx="2160720" cy="2349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14920" y="3486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35680" y="549108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B82-9857-4ABD-88E9-CF32529F1A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280" y="248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lases Estereotipada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506600" y="1633680"/>
            <a:ext cx="7067520" cy="1250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378080" y="3197160"/>
            <a:ext cx="7451640" cy="623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1514520" y="4546440"/>
            <a:ext cx="7058160" cy="7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FCA-665F-42D2-9749-EC096FEB73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0080" y="2710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76160" y="1499760"/>
            <a:ext cx="84204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cambio en la especificación de un elemento afecta a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42800" y="3013200"/>
            <a:ext cx="1506240" cy="2741040"/>
            <a:chOff x="442800" y="3013200"/>
            <a:chExt cx="1506240" cy="2741040"/>
          </a:xfrm>
        </p:grpSpPr>
        <p:sp>
          <p:nvSpPr>
            <p:cNvPr id="259" name=""/>
            <p:cNvSpPr/>
            <p:nvPr/>
          </p:nvSpPr>
          <p:spPr>
            <a:xfrm>
              <a:off x="442800" y="3013200"/>
              <a:ext cx="1506240" cy="2741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5360" y="308448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Wind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2800" y="3354120"/>
              <a:ext cx="1506240" cy="2400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2800" y="4504320"/>
              <a:ext cx="1506240" cy="1249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520560" y="3396960"/>
              <a:ext cx="30744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520560" y="3396960"/>
              <a:ext cx="30744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20560" y="3396960"/>
              <a:ext cx="307440" cy="2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29080" y="3396960"/>
              <a:ext cx="78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4"/>
            <a:stretch/>
          </p:blipFill>
          <p:spPr>
            <a:xfrm>
              <a:off x="520560" y="3652560"/>
              <a:ext cx="307440" cy="2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520560" y="3652560"/>
              <a:ext cx="307440" cy="2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6"/>
            <a:stretch/>
          </p:blipFill>
          <p:spPr>
            <a:xfrm>
              <a:off x="520560" y="3652560"/>
              <a:ext cx="307440" cy="2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28360" y="365256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a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7"/>
            <a:stretch/>
          </p:blipFill>
          <p:spPr>
            <a:xfrm>
              <a:off x="520560" y="3907800"/>
              <a:ext cx="307440" cy="2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520560" y="3907800"/>
              <a:ext cx="307440" cy="2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9"/>
            <a:stretch/>
          </p:blipFill>
          <p:spPr>
            <a:xfrm>
              <a:off x="520560" y="3907800"/>
              <a:ext cx="30744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30160" y="3907800"/>
              <a:ext cx="79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0"/>
            <a:stretch/>
          </p:blipFill>
          <p:spPr>
            <a:xfrm>
              <a:off x="520560" y="4164120"/>
              <a:ext cx="30744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1"/>
            <a:stretch/>
          </p:blipFill>
          <p:spPr>
            <a:xfrm>
              <a:off x="520560" y="4164120"/>
              <a:ext cx="30744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2"/>
            <a:stretch/>
          </p:blipFill>
          <p:spPr>
            <a:xfrm>
              <a:off x="520560" y="4164120"/>
              <a:ext cx="307440" cy="2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28360" y="4164120"/>
              <a:ext cx="40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3"/>
            <a:stretch/>
          </p:blipFill>
          <p:spPr>
            <a:xfrm>
              <a:off x="520560" y="4674960"/>
              <a:ext cx="307440" cy="2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4"/>
            <a:stretch/>
          </p:blipFill>
          <p:spPr>
            <a:xfrm>
              <a:off x="520560" y="4674960"/>
              <a:ext cx="307440" cy="2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5"/>
            <a:stretch/>
          </p:blipFill>
          <p:spPr>
            <a:xfrm>
              <a:off x="520560" y="4674960"/>
              <a:ext cx="30744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829440" y="4674960"/>
              <a:ext cx="65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n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6"/>
            <a:stretch/>
          </p:blipFill>
          <p:spPr>
            <a:xfrm>
              <a:off x="520560" y="4929840"/>
              <a:ext cx="307440" cy="2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7"/>
            <a:stretch/>
          </p:blipFill>
          <p:spPr>
            <a:xfrm>
              <a:off x="520560" y="4929840"/>
              <a:ext cx="307440" cy="2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8"/>
            <a:stretch/>
          </p:blipFill>
          <p:spPr>
            <a:xfrm>
              <a:off x="520560" y="4929840"/>
              <a:ext cx="307440" cy="2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828360" y="4929840"/>
              <a:ext cx="68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los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9"/>
            <a:stretch/>
          </p:blipFill>
          <p:spPr>
            <a:xfrm>
              <a:off x="520560" y="5186520"/>
              <a:ext cx="30744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0"/>
            <a:stretch/>
          </p:blipFill>
          <p:spPr>
            <a:xfrm>
              <a:off x="520560" y="5186520"/>
              <a:ext cx="30744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1"/>
            <a:stretch/>
          </p:blipFill>
          <p:spPr>
            <a:xfrm>
              <a:off x="520560" y="5186520"/>
              <a:ext cx="307440" cy="2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828360" y="518652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ov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2"/>
            <a:stretch/>
          </p:blipFill>
          <p:spPr>
            <a:xfrm>
              <a:off x="520560" y="5442120"/>
              <a:ext cx="307440" cy="2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3"/>
            <a:stretch/>
          </p:blipFill>
          <p:spPr>
            <a:xfrm>
              <a:off x="520560" y="5442120"/>
              <a:ext cx="307440" cy="2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4"/>
            <a:stretch/>
          </p:blipFill>
          <p:spPr>
            <a:xfrm>
              <a:off x="520560" y="5442120"/>
              <a:ext cx="307440" cy="2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28360" y="5442120"/>
              <a:ext cx="76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siz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632040" y="4059360"/>
            <a:ext cx="1089360" cy="6364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78640" y="413064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32040" y="4398840"/>
            <a:ext cx="1089360" cy="2970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32040" y="4525920"/>
            <a:ext cx="108936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49400" y="4384800"/>
            <a:ext cx="1682640" cy="14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401640" y="4384800"/>
            <a:ext cx="230040" cy="83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401640" y="4300560"/>
            <a:ext cx="230040" cy="84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62440" y="2614680"/>
            <a:ext cx="2160360" cy="10954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04880" y="2666880"/>
            <a:ext cx="125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lanDel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62440" y="2917800"/>
            <a:ext cx="2160360" cy="7923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62440" y="3036960"/>
            <a:ext cx="2160360" cy="673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5"/>
          <a:stretch/>
        </p:blipFill>
        <p:spPr>
          <a:xfrm>
            <a:off x="3919680" y="3182760"/>
            <a:ext cx="228600" cy="1969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6"/>
          <a:stretch/>
        </p:blipFill>
        <p:spPr>
          <a:xfrm>
            <a:off x="3919680" y="3182760"/>
            <a:ext cx="228600" cy="196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7"/>
          <a:stretch/>
        </p:blipFill>
        <p:spPr>
          <a:xfrm>
            <a:off x="3919680" y="3182760"/>
            <a:ext cx="228600" cy="196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149720" y="3182760"/>
            <a:ext cx="151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ñadir(c : Curs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8"/>
          <a:stretch/>
        </p:blipFill>
        <p:spPr>
          <a:xfrm>
            <a:off x="3919680" y="3406680"/>
            <a:ext cx="228600" cy="198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9"/>
          <a:stretch/>
        </p:blipFill>
        <p:spPr>
          <a:xfrm>
            <a:off x="3919680" y="3406680"/>
            <a:ext cx="228600" cy="198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0"/>
          <a:stretch/>
        </p:blipFill>
        <p:spPr>
          <a:xfrm>
            <a:off x="3919680" y="3406680"/>
            <a:ext cx="228600" cy="198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49000" y="340668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iminar(c : Curs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37200" y="3168720"/>
            <a:ext cx="1449360" cy="14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392960" y="3166920"/>
            <a:ext cx="20016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7392960" y="3087720"/>
            <a:ext cx="20016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81960" y="2841480"/>
            <a:ext cx="1030320" cy="59400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10560" y="290844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81960" y="3159000"/>
            <a:ext cx="1030320" cy="2764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81960" y="3263760"/>
            <a:ext cx="1030320" cy="171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24280" y="5237280"/>
            <a:ext cx="1314360" cy="7635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12000" y="531324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24280" y="5656320"/>
            <a:ext cx="1314360" cy="344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4280" y="5791320"/>
            <a:ext cx="131436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57880" y="5237280"/>
            <a:ext cx="1316160" cy="7635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65040" y="531324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57880" y="5656320"/>
            <a:ext cx="1316160" cy="344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57880" y="5791320"/>
            <a:ext cx="1316160" cy="209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157720" y="5637240"/>
            <a:ext cx="2000160" cy="14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57720" y="5637240"/>
            <a:ext cx="2588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157720" y="5522760"/>
            <a:ext cx="25884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84760" y="57690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&lt;friend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886-5716-4566-A1B1-658FDA9845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0080" y="2059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stereotipos para la dependencia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80840" y="1803240"/>
            <a:ext cx="842004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&lt;&lt;use&gt;&gt;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lación de uso, el más común entre clases y se da por def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&lt;&lt;trace&gt;&gt;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liente y proveedor representan el mismo concepto en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ferentes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&lt;&lt;bind&gt;&gt;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re una clase genérica y una insta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&lt;&lt;friend&gt;&gt;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pendencia de clase ami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&lt;&lt;import&gt;&gt;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 paquete importa los elementos d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&lt;&lt;access&gt;&gt;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milar a &lt;&lt;import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&lt;&lt;extend&gt;&gt;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&lt;&lt;include&gt;&gt;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826-B883-4BE0-90ED-520DBB8115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7360" y="288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7840" y="1615680"/>
            <a:ext cx="8420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Ge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ón estructura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Es-un-tipo-de”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02520" y="3252960"/>
            <a:ext cx="1174680" cy="5997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80000" y="3319560"/>
            <a:ext cx="77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02520" y="3571920"/>
            <a:ext cx="1174680" cy="280800"/>
          </a:xfrm>
          <a:prstGeom prst="rect">
            <a:avLst/>
          </a:prstGeom>
          <a:noFill/>
          <a:ln cap="sq"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02520" y="3692520"/>
            <a:ext cx="1174680" cy="16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46760" y="4613400"/>
            <a:ext cx="1581120" cy="6001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10200" y="4680000"/>
            <a:ext cx="119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TextWind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46760" y="4932360"/>
            <a:ext cx="1581120" cy="281160"/>
          </a:xfrm>
          <a:prstGeom prst="rect">
            <a:avLst/>
          </a:prstGeom>
          <a:noFill/>
          <a:ln cap="sq"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46760" y="5052960"/>
            <a:ext cx="1581120" cy="160560"/>
          </a:xfrm>
          <a:prstGeom prst="rect">
            <a:avLst/>
          </a:prstGeom>
          <a:noFill/>
          <a:ln cap="sq"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37320" y="4613400"/>
            <a:ext cx="1413000" cy="6001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84920" y="4680000"/>
            <a:ext cx="989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oxDialo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37320" y="4932360"/>
            <a:ext cx="1413000" cy="281160"/>
          </a:xfrm>
          <a:prstGeom prst="rect">
            <a:avLst/>
          </a:prstGeom>
          <a:noFill/>
          <a:ln cap="sq"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37320" y="5052960"/>
            <a:ext cx="1413000" cy="160560"/>
          </a:xfrm>
          <a:prstGeom prst="rect">
            <a:avLst/>
          </a:prstGeom>
          <a:noFill/>
          <a:ln cap="sq"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7189920" y="3865320"/>
            <a:ext cx="752400" cy="747720"/>
          </a:xfrm>
          <a:prstGeom prst="line">
            <a:avLst/>
          </a:prstGeom>
          <a:ln cap="sq"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89920" y="3865680"/>
            <a:ext cx="347400" cy="32040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0" y="0"/>
                </a:moveTo>
                <a:lnTo>
                  <a:pt x="202" y="101"/>
                </a:lnTo>
                <a:lnTo>
                  <a:pt x="88" y="2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000840" y="3865320"/>
            <a:ext cx="646200" cy="747720"/>
          </a:xfrm>
          <a:prstGeom prst="line">
            <a:avLst/>
          </a:prstGeom>
          <a:ln cap="sq"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15120" y="3865680"/>
            <a:ext cx="331920" cy="320400"/>
          </a:xfrm>
          <a:custGeom>
            <a:avLst/>
            <a:gdLst/>
            <a:ahLst/>
            <a:rect l="l" t="t" r="r" b="b"/>
            <a:pathLst>
              <a:path w="193" h="202">
                <a:moveTo>
                  <a:pt x="193" y="0"/>
                </a:moveTo>
                <a:lnTo>
                  <a:pt x="123" y="202"/>
                </a:lnTo>
                <a:lnTo>
                  <a:pt x="0" y="118"/>
                </a:lnTo>
                <a:lnTo>
                  <a:pt x="193" y="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63640" y="3246480"/>
            <a:ext cx="1195560" cy="60012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49840" y="3305160"/>
            <a:ext cx="61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00"/>
                </a:solidFill>
                <a:latin typeface="Arial"/>
              </a:rPr>
              <a:t>Cu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6280" y="4622760"/>
            <a:ext cx="1484280" cy="5986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7120" y="4695840"/>
            <a:ext cx="119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uentaAhorr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6280" y="4943520"/>
            <a:ext cx="1484280" cy="277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6280" y="5060880"/>
            <a:ext cx="1484280" cy="1605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32040" y="4622760"/>
            <a:ext cx="1679760" cy="5986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6680" y="4695840"/>
            <a:ext cx="140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uentaCorri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32040" y="4943520"/>
            <a:ext cx="1679760" cy="277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32040" y="5060880"/>
            <a:ext cx="1679760" cy="16056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414520" y="3846600"/>
            <a:ext cx="1800" cy="527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60520" y="4373640"/>
            <a:ext cx="211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78080" y="3846600"/>
            <a:ext cx="271440" cy="350640"/>
          </a:xfrm>
          <a:custGeom>
            <a:avLst/>
            <a:gdLst/>
            <a:ahLst/>
            <a:rect l="l" t="t" r="r" b="b"/>
            <a:pathLst>
              <a:path w="171" h="221">
                <a:moveTo>
                  <a:pt x="86" y="0"/>
                </a:moveTo>
                <a:lnTo>
                  <a:pt x="171" y="221"/>
                </a:lnTo>
                <a:lnTo>
                  <a:pt x="0" y="221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460520" y="4373640"/>
            <a:ext cx="1440" cy="2635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579840" y="4373640"/>
            <a:ext cx="1440" cy="2635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603-058E-4E50-9C72-87E56D2C8C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0080" y="2059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dornos para la generaliz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80840" y="18032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mplementation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estereotipo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rencia privada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omplete/incomplete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restricción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e han especificado todos los desc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sjoint/overlapping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restricción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una nueva clase puede ser subclase de más de una subcl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0D4-B541-4355-9494-32937F1058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30080" y="2059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Restricciones semánticas entre las subclas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80840" y="1802880"/>
            <a:ext cx="8420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verl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nueva clase puede ser subclase de más de una subcl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instancia puede ser instancia directa o indirecta de dos más subcl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nueva clase no puede ser subclase de más de una subcl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ncias de una única cl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C62-5551-408B-95CD-C91E1FCA95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0080" y="2059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Generalización: {overlapping}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909720" y="1859040"/>
            <a:ext cx="808668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4A0-6BCB-4F5A-A4A1-47EC942D68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0840" y="22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 estructura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960" y="1550880"/>
            <a:ext cx="79441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criben los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tipos de objet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 sistema y las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relaciones</a:t>
            </a:r>
            <a:r>
              <a:rPr b="0" lang="es-ES_tradnl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estátic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que existen entre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de dependencia, realización, generalización y asociación (agregación, com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mbién pueden incluir paquetes y colab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agrama de clase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a representación gráfica de un modelo estructu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D6E-FD9D-406C-89E4-1AB6860F5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0080" y="2059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Generalización: {disjoint}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71560" y="1714680"/>
            <a:ext cx="636264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EBA-F4B2-4E37-B703-420EA53DA4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30080" y="255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9280" y="1617480"/>
            <a:ext cx="794700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Aso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ón estructural que especifica que los objetos de un tipo están conectados con los de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82880" y="3648240"/>
            <a:ext cx="1190520" cy="61596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76200" y="371628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82880" y="4076640"/>
            <a:ext cx="1190520" cy="1875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2880" y="4262400"/>
            <a:ext cx="1190520" cy="1634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15000" y="3648240"/>
            <a:ext cx="1281240" cy="61596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08680" y="3716280"/>
            <a:ext cx="81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15000" y="4076640"/>
            <a:ext cx="1281240" cy="1875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15000" y="4264200"/>
            <a:ext cx="1281240" cy="19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02120" y="3759120"/>
            <a:ext cx="1712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91080" y="37879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189240" y="3759120"/>
            <a:ext cx="171288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21280" y="380520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77040" y="3505320"/>
            <a:ext cx="107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emple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4360" y="3517920"/>
            <a:ext cx="101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empl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02120" y="4292640"/>
            <a:ext cx="1712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16280" y="4321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189240" y="4292640"/>
            <a:ext cx="171288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08680" y="433872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30280" y="4051440"/>
            <a:ext cx="68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du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84440" y="5068800"/>
            <a:ext cx="4911840" cy="662760"/>
            <a:chOff x="2584440" y="5068800"/>
            <a:chExt cx="4911840" cy="662760"/>
          </a:xfrm>
        </p:grpSpPr>
        <p:sp>
          <p:nvSpPr>
            <p:cNvPr id="398" name=""/>
            <p:cNvSpPr/>
            <p:nvPr/>
          </p:nvSpPr>
          <p:spPr>
            <a:xfrm>
              <a:off x="2584440" y="5159520"/>
              <a:ext cx="1130400" cy="5029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51200" y="52149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ur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84440" y="5427720"/>
              <a:ext cx="1130400" cy="234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84440" y="5516640"/>
              <a:ext cx="1130400" cy="145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40600" y="5159520"/>
              <a:ext cx="1255680" cy="502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29960" y="521496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rofe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40600" y="5427720"/>
              <a:ext cx="1255680" cy="234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40600" y="5516640"/>
              <a:ext cx="1255680" cy="145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86360" y="5416560"/>
              <a:ext cx="1254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44320" y="54831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730680" y="5416560"/>
              <a:ext cx="125568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87720" y="5483160"/>
              <a:ext cx="6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44320" y="54831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87720" y="5483160"/>
              <a:ext cx="6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0400" y="5068800"/>
              <a:ext cx="171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 impartido por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15400" y="5487840"/>
              <a:ext cx="93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◄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mpa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6A2-55B0-4F6B-A05C-969EAF4D72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0080" y="204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ardinalidad de la asociación 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29476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on 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..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on uno o ning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on cero, uno o v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..*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on cero, uno o v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on uno o vari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on N exac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..N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mínimo con M y máximo con 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101600" y="4497480"/>
            <a:ext cx="7228080" cy="1077480"/>
            <a:chOff x="1101600" y="4497480"/>
            <a:chExt cx="7228080" cy="1077480"/>
          </a:xfrm>
        </p:grpSpPr>
        <p:sp>
          <p:nvSpPr>
            <p:cNvPr id="417" name=""/>
            <p:cNvSpPr/>
            <p:nvPr/>
          </p:nvSpPr>
          <p:spPr>
            <a:xfrm>
              <a:off x="1101600" y="4546440"/>
              <a:ext cx="1662120" cy="979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92200" y="4654440"/>
              <a:ext cx="884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000000"/>
                  </a:solidFill>
                  <a:latin typeface="Arial"/>
                </a:rPr>
                <a:t>Curs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1600" y="5068800"/>
              <a:ext cx="1662120" cy="457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01600" y="5243400"/>
              <a:ext cx="1662120" cy="282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81800" y="4546440"/>
              <a:ext cx="1847880" cy="979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58280" y="4654440"/>
              <a:ext cx="125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000000"/>
                  </a:solidFill>
                  <a:latin typeface="Arial"/>
                </a:rPr>
                <a:t>Profes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1800" y="5068800"/>
              <a:ext cx="1847880" cy="457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81800" y="5243400"/>
              <a:ext cx="1847880" cy="282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33920" y="5046840"/>
              <a:ext cx="184788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2040" y="5178600"/>
              <a:ext cx="496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787120" y="5046840"/>
              <a:ext cx="184644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63960" y="5178600"/>
              <a:ext cx="128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2040" y="5178600"/>
              <a:ext cx="496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63960" y="5178600"/>
              <a:ext cx="128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64120" y="4497480"/>
              <a:ext cx="2792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000000"/>
                  </a:solidFill>
                  <a:latin typeface="Arial"/>
                </a:rPr>
                <a:t>es impartido por </a:t>
              </a:r>
              <a:r>
                <a:rPr b="0" lang="es-E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53440" y="5110200"/>
              <a:ext cx="1523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◄ </a:t>
              </a:r>
              <a:r>
                <a:rPr b="0" lang="es-ES" sz="2600" spc="-1" strike="noStrike">
                  <a:solidFill>
                    <a:srgbClr val="000000"/>
                  </a:solidFill>
                  <a:latin typeface="Arial"/>
                </a:rPr>
                <a:t>impart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FDE-8E54-49B8-AC82-77FF79FBD2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0080" y="204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Navegabilidad de la asociación 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42680" y="1517760"/>
            <a:ext cx="8294760" cy="22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sociaciones son bidirec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bilidad de limitar la navegación a una so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 si una clase de la asociación tiene “conocimiento” d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ndica tanto a nivel de especificación (de análisis y de diseño) como de imple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17440" y="4533840"/>
            <a:ext cx="9399600" cy="9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CE1-199B-405B-B949-2F99AF77E3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28280" y="256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Navegabilidad de la asoci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6720" y="1555920"/>
            <a:ext cx="881244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Pedid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private Hashtable  _itemsPedid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Date fech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boolean esComple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ItemPedid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private Producto product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int canti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Product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Money prec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String descripció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5B4-5E52-4936-8050-C882DE0908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30080" y="204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Navegabilidad (UML 2.0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1587960" y="176220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57800" y="176220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89000" y="199872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95880" y="261612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65720" y="261612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96920" y="285264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3520" y="357336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83360" y="357336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4560" y="38098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97680" y="460692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7520" y="460692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98720" y="484344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25800" y="4768920"/>
            <a:ext cx="203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117880" y="4757760"/>
            <a:ext cx="20160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05600" y="549576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75440" y="549576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06640" y="573264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5657760"/>
            <a:ext cx="203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125800" y="5646600"/>
            <a:ext cx="20160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51160" y="5638680"/>
            <a:ext cx="1443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216240" y="5646600"/>
            <a:ext cx="16992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71520" y="1809720"/>
            <a:ext cx="301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ilidad indefin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36960" y="2622600"/>
            <a:ext cx="481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le de A a B, de B a A indefin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46680" y="3570120"/>
            <a:ext cx="35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le en ambos senti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51360" y="4664160"/>
            <a:ext cx="301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le sólo de A a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48120" y="5475240"/>
            <a:ext cx="383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o navegable en ningún sent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50E-0A08-44B3-BFF9-89E0521C9D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30080" y="204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Navegabilidad (Práctica habitual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587960" y="176220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57800" y="176220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89000" y="199872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95880" y="261612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65720" y="261612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96920" y="285264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13520" y="357336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83360" y="357336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14560" y="38098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97680" y="460692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67520" y="460692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98720" y="484344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25800" y="4768920"/>
            <a:ext cx="203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117880" y="4757760"/>
            <a:ext cx="20160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5600" y="549576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75440" y="549576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06640" y="573264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5657760"/>
            <a:ext cx="203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125800" y="5646600"/>
            <a:ext cx="20160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51160" y="5638680"/>
            <a:ext cx="1443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216240" y="5646600"/>
            <a:ext cx="16992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0800" y="1809720"/>
            <a:ext cx="392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ilidad en ambos senti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36960" y="2622600"/>
            <a:ext cx="301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le sólo de A a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1880" y="3570120"/>
            <a:ext cx="134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o se u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76920" y="4664160"/>
            <a:ext cx="138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o se u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73680" y="5475240"/>
            <a:ext cx="135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o se u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3CE-5D02-42E7-8B3F-F61D91CEF1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Visibilidad de roles de la asoci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550880" y="1611360"/>
            <a:ext cx="64677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ública:   + propi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otegida: # propi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da: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–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opi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aquete: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~ propi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34880" y="3859200"/>
            <a:ext cx="8469360" cy="827280"/>
            <a:chOff x="434880" y="3859200"/>
            <a:chExt cx="8469360" cy="827280"/>
          </a:xfrm>
        </p:grpSpPr>
        <p:sp>
          <p:nvSpPr>
            <p:cNvPr id="495" name=""/>
            <p:cNvSpPr/>
            <p:nvPr/>
          </p:nvSpPr>
          <p:spPr>
            <a:xfrm>
              <a:off x="434880" y="3921120"/>
              <a:ext cx="1569960" cy="507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3800" y="396720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GrupoUsuari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05240" y="3921120"/>
              <a:ext cx="978120" cy="507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10080" y="3967200"/>
              <a:ext cx="66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Usuar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54320" y="4167360"/>
              <a:ext cx="115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67120" y="43210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004480" y="4167360"/>
              <a:ext cx="1149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12840" y="432108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02440" y="3921120"/>
              <a:ext cx="901800" cy="507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40040" y="396720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la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35880" y="4167360"/>
              <a:ext cx="136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50280" y="42609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283000" y="4167360"/>
              <a:ext cx="135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00360" y="4321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03240" y="3859200"/>
              <a:ext cx="101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+propietar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12760" y="3859200"/>
              <a:ext cx="51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-cla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11400" y="43210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68560" y="432108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50280" y="4260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0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00360" y="4321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4E9-8E1D-4CF3-BD86-2AF3839456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stricciones para la asoci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887400" y="1911240"/>
            <a:ext cx="7953480" cy="36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28C-63C2-482E-B536-271CCC8C52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60240" y="231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stricciones para la asoci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75560" y="1919160"/>
            <a:ext cx="8406360" cy="3005280"/>
            <a:chOff x="475560" y="1919160"/>
            <a:chExt cx="8406360" cy="3005280"/>
          </a:xfrm>
        </p:grpSpPr>
        <p:sp>
          <p:nvSpPr>
            <p:cNvPr id="519" name=""/>
            <p:cNvSpPr/>
            <p:nvPr/>
          </p:nvSpPr>
          <p:spPr>
            <a:xfrm>
              <a:off x="3666960" y="3978360"/>
              <a:ext cx="3608640" cy="946080"/>
            </a:xfrm>
            <a:custGeom>
              <a:avLst/>
              <a:gdLst/>
              <a:ahLst/>
              <a:rect l="l" t="t" r="r" b="b"/>
              <a:pathLst>
                <a:path w="2209" h="577">
                  <a:moveTo>
                    <a:pt x="0" y="0"/>
                  </a:moveTo>
                  <a:lnTo>
                    <a:pt x="0" y="576"/>
                  </a:lnTo>
                  <a:lnTo>
                    <a:pt x="2208" y="576"/>
                  </a:lnTo>
                  <a:lnTo>
                    <a:pt x="2208" y="125"/>
                  </a:lnTo>
                  <a:lnTo>
                    <a:pt x="197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41600" y="2359080"/>
              <a:ext cx="1712880" cy="852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70840" y="2216160"/>
              <a:ext cx="1711080" cy="85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52680" y="2638440"/>
              <a:ext cx="382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87520" y="2571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75040" y="264636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30720" y="2149560"/>
              <a:ext cx="130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2480" y="2422440"/>
              <a:ext cx="785880" cy="631800"/>
            </a:xfrm>
            <a:custGeom>
              <a:avLst/>
              <a:gdLst/>
              <a:ahLst/>
              <a:rect l="l" t="t" r="r" b="b"/>
              <a:pathLst>
                <a:path w="481" h="385">
                  <a:moveTo>
                    <a:pt x="480" y="384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4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51400" y="2638440"/>
              <a:ext cx="0" cy="13399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08000" y="3052800"/>
              <a:ext cx="2668680" cy="1262160"/>
            </a:xfrm>
            <a:custGeom>
              <a:avLst/>
              <a:gdLst/>
              <a:ahLst/>
              <a:rect l="l" t="t" r="r" b="b"/>
              <a:pathLst>
                <a:path w="1633" h="769">
                  <a:moveTo>
                    <a:pt x="0" y="0"/>
                  </a:moveTo>
                  <a:lnTo>
                    <a:pt x="0" y="768"/>
                  </a:lnTo>
                  <a:lnTo>
                    <a:pt x="1632" y="7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5720" y="2406600"/>
              <a:ext cx="284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41840" y="2662200"/>
              <a:ext cx="60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43280" y="4148280"/>
              <a:ext cx="392292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{ Persona.patrón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.jefe.patrón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4360" y="2158920"/>
              <a:ext cx="907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atr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80280" y="3116160"/>
              <a:ext cx="59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je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5560" y="1919160"/>
              <a:ext cx="1120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pera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452960" y="5549760"/>
            <a:ext cx="72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empleado trabaja para la misma empresa que su jef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E7B-F621-4E31-A4FC-FDBF10B1C1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0840" y="22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 estructura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9960" y="1550520"/>
            <a:ext cx="839484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erentes perspec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Concep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ncep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dominio del problema: atributos, restricciones y relaciones entr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lo del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las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corresponden a conceptos del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ributos y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lo del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ye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las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corresponden a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cisiones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lo de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las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corresponden a un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enguaj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 progra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0CF-DEDC-4524-82A2-F0E9D3C51D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0080" y="301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ón n-aria en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636480" y="1299240"/>
            <a:ext cx="8086320" cy="3256920"/>
            <a:chOff x="636480" y="1299240"/>
            <a:chExt cx="8086320" cy="3256920"/>
          </a:xfrm>
        </p:grpSpPr>
        <p:grpSp>
          <p:nvGrpSpPr>
            <p:cNvPr id="538" name=""/>
            <p:cNvGrpSpPr/>
            <p:nvPr/>
          </p:nvGrpSpPr>
          <p:grpSpPr>
            <a:xfrm>
              <a:off x="3705120" y="1299240"/>
              <a:ext cx="1898280" cy="1601280"/>
              <a:chOff x="3705120" y="1299240"/>
              <a:chExt cx="1898280" cy="160128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3705120" y="1299240"/>
                <a:ext cx="1897920" cy="1601280"/>
                <a:chOff x="3705120" y="1299240"/>
                <a:chExt cx="1897920" cy="16012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705120" y="137664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158360" y="1299240"/>
                  <a:ext cx="1154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705120" y="175752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3705120" y="21384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705120" y="25196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824520" y="2883240"/>
              <a:ext cx="1898280" cy="1601280"/>
              <a:chOff x="6824520" y="2883240"/>
              <a:chExt cx="1898280" cy="160128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6824520" y="2883240"/>
                <a:ext cx="1897920" cy="1601280"/>
                <a:chOff x="6824520" y="2883240"/>
                <a:chExt cx="1897920" cy="16012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824520" y="296064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4240" y="2883240"/>
                  <a:ext cx="113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24520" y="334152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>
                <a:off x="6824520" y="37224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24520" y="41036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6151680" y="3746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39880" y="3746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636480" y="2954880"/>
              <a:ext cx="1898280" cy="1601280"/>
              <a:chOff x="636480" y="2954880"/>
              <a:chExt cx="1898280" cy="160128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636480" y="2954880"/>
                <a:ext cx="1897920" cy="1601280"/>
                <a:chOff x="636480" y="2954880"/>
                <a:chExt cx="1897920" cy="160128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36480" y="303228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096200" y="2954880"/>
                  <a:ext cx="113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36480" y="341316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636480" y="37940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6480" y="41752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4952880" y="384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677840" y="2884320"/>
              <a:ext cx="162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35120" y="384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06760" y="3591000"/>
              <a:ext cx="536760" cy="50616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46600" y="2883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0" y="4722840"/>
            <a:ext cx="47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 par &lt;a,b&gt; conocido puede estar asociado a lo sumo con un sol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428560" y="4138560"/>
            <a:ext cx="525240" cy="7239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213520" y="4722840"/>
            <a:ext cx="46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 par &lt;a,c&gt; conocido puede estar asociado a los b’s que qu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65960" y="4176720"/>
            <a:ext cx="23472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38840" y="1303200"/>
            <a:ext cx="34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 par &lt;b,c&gt; conocido puede estar asociado a los a’s que qu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346720" y="2438280"/>
            <a:ext cx="1871640" cy="648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93680" y="5821200"/>
            <a:ext cx="8512200" cy="882720"/>
            <a:chOff x="193680" y="5821200"/>
            <a:chExt cx="8512200" cy="882720"/>
          </a:xfrm>
        </p:grpSpPr>
        <p:sp>
          <p:nvSpPr>
            <p:cNvPr id="573" name=""/>
            <p:cNvSpPr/>
            <p:nvPr/>
          </p:nvSpPr>
          <p:spPr>
            <a:xfrm>
              <a:off x="193680" y="5842080"/>
              <a:ext cx="851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ijados el resto de objetos que participan en la asociación, ¿con cuántos pueden relacionars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8520" y="5821200"/>
              <a:ext cx="8136720" cy="882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E79-110A-4F4E-A972-9A99F0379BD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839880" y="1317960"/>
            <a:ext cx="8073720" cy="3269880"/>
            <a:chOff x="839880" y="1317960"/>
            <a:chExt cx="8073720" cy="3269880"/>
          </a:xfrm>
        </p:grpSpPr>
        <p:grpSp>
          <p:nvGrpSpPr>
            <p:cNvPr id="576" name=""/>
            <p:cNvGrpSpPr/>
            <p:nvPr/>
          </p:nvGrpSpPr>
          <p:grpSpPr>
            <a:xfrm>
              <a:off x="3895560" y="1317960"/>
              <a:ext cx="1898280" cy="1601280"/>
              <a:chOff x="3895560" y="1317960"/>
              <a:chExt cx="1898280" cy="160128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3895560" y="1317960"/>
                <a:ext cx="1897920" cy="1601280"/>
                <a:chOff x="3895560" y="1317960"/>
                <a:chExt cx="1897920" cy="16012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3895560" y="139536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195800" y="1317960"/>
                  <a:ext cx="146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studian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895560" y="17762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3895560" y="215712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95560" y="253836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7015320" y="2915280"/>
              <a:ext cx="1898280" cy="1601280"/>
              <a:chOff x="7015320" y="2915280"/>
              <a:chExt cx="1898280" cy="160128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7015320" y="2915280"/>
                <a:ext cx="1897920" cy="1601280"/>
                <a:chOff x="7015320" y="2915280"/>
                <a:chExt cx="1897920" cy="16012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7015320" y="299268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290360" y="29152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Asigna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015320" y="337356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7015320" y="37544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15320" y="41356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6340680" y="37789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30680" y="37789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839880" y="2986560"/>
              <a:ext cx="1898280" cy="1601280"/>
              <a:chOff x="839880" y="2986560"/>
              <a:chExt cx="1898280" cy="16012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839880" y="2986560"/>
                <a:ext cx="1897920" cy="1601280"/>
                <a:chOff x="839880" y="2986560"/>
                <a:chExt cx="1897920" cy="160128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839880" y="306396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263600" y="2986560"/>
                  <a:ext cx="121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rofes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39880" y="34448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39880" y="382572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9880" y="420696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143680" y="38638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4869000" y="2927520"/>
              <a:ext cx="288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38520" y="3863880"/>
              <a:ext cx="18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7560" y="3598920"/>
              <a:ext cx="536400" cy="5302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37040" y="2915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09480" y="4781160"/>
            <a:ext cx="8580240" cy="1011240"/>
            <a:chOff x="609480" y="4781160"/>
            <a:chExt cx="8580240" cy="1011240"/>
          </a:xfrm>
        </p:grpSpPr>
        <p:sp>
          <p:nvSpPr>
            <p:cNvPr id="605" name=""/>
            <p:cNvSpPr/>
            <p:nvPr/>
          </p:nvSpPr>
          <p:spPr>
            <a:xfrm>
              <a:off x="609480" y="4781160"/>
              <a:ext cx="8407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nformación sobre qué profesores imparten qué asignaturas a qué estudi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9480" y="4790880"/>
              <a:ext cx="8580240" cy="1001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817560" y="5865840"/>
            <a:ext cx="838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HAY QUE ESTAR SEGUROS DE QUE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NECESITA UNA ASOCIACIÓN TERN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30080" y="282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ón n-aria en UML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FD2-6FF2-43DD-8B0E-6FF183E525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3552840" y="1254600"/>
            <a:ext cx="1898280" cy="1601280"/>
            <a:chOff x="3552840" y="1254600"/>
            <a:chExt cx="1898280" cy="1601280"/>
          </a:xfrm>
        </p:grpSpPr>
        <p:grpSp>
          <p:nvGrpSpPr>
            <p:cNvPr id="610" name=""/>
            <p:cNvGrpSpPr/>
            <p:nvPr/>
          </p:nvGrpSpPr>
          <p:grpSpPr>
            <a:xfrm>
              <a:off x="3552840" y="1254600"/>
              <a:ext cx="1897920" cy="1601280"/>
              <a:chOff x="3552840" y="1254600"/>
              <a:chExt cx="1897920" cy="1601280"/>
            </a:xfrm>
          </p:grpSpPr>
          <p:sp>
            <p:nvSpPr>
              <p:cNvPr id="611" name=""/>
              <p:cNvSpPr/>
              <p:nvPr/>
            </p:nvSpPr>
            <p:spPr>
              <a:xfrm>
                <a:off x="3552840" y="1332000"/>
                <a:ext cx="189792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53080" y="1254600"/>
                <a:ext cx="146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Estudian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552840" y="171288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3552840" y="209376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52840" y="247500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826320" y="2419920"/>
            <a:ext cx="1898280" cy="1601280"/>
            <a:chOff x="6826320" y="2419920"/>
            <a:chExt cx="1898280" cy="1601280"/>
          </a:xfrm>
        </p:grpSpPr>
        <p:grpSp>
          <p:nvGrpSpPr>
            <p:cNvPr id="617" name=""/>
            <p:cNvGrpSpPr/>
            <p:nvPr/>
          </p:nvGrpSpPr>
          <p:grpSpPr>
            <a:xfrm>
              <a:off x="6826320" y="2419920"/>
              <a:ext cx="1897920" cy="1601280"/>
              <a:chOff x="6826320" y="2419920"/>
              <a:chExt cx="1897920" cy="1601280"/>
            </a:xfrm>
          </p:grpSpPr>
          <p:sp>
            <p:nvSpPr>
              <p:cNvPr id="618" name=""/>
              <p:cNvSpPr/>
              <p:nvPr/>
            </p:nvSpPr>
            <p:spPr>
              <a:xfrm>
                <a:off x="6826320" y="2497320"/>
                <a:ext cx="189792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64280" y="2419920"/>
                <a:ext cx="159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signatur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26320" y="287820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6826320" y="325908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26320" y="364032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394680" y="322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56000" y="3183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662040" y="2491200"/>
            <a:ext cx="1898280" cy="1601280"/>
            <a:chOff x="662040" y="2491200"/>
            <a:chExt cx="1898280" cy="1601280"/>
          </a:xfrm>
        </p:grpSpPr>
        <p:grpSp>
          <p:nvGrpSpPr>
            <p:cNvPr id="626" name=""/>
            <p:cNvGrpSpPr/>
            <p:nvPr/>
          </p:nvGrpSpPr>
          <p:grpSpPr>
            <a:xfrm>
              <a:off x="662040" y="2491200"/>
              <a:ext cx="1897920" cy="1601280"/>
              <a:chOff x="662040" y="2491200"/>
              <a:chExt cx="1897920" cy="1601280"/>
            </a:xfrm>
          </p:grpSpPr>
          <p:sp>
            <p:nvSpPr>
              <p:cNvPr id="627" name=""/>
              <p:cNvSpPr/>
              <p:nvPr/>
            </p:nvSpPr>
            <p:spPr>
              <a:xfrm>
                <a:off x="662040" y="2568600"/>
                <a:ext cx="189792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5040" y="2491200"/>
                <a:ext cx="12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rofes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62040" y="294948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662040" y="333036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2040" y="371160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5464080" y="2185920"/>
            <a:ext cx="1362240" cy="10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73280" y="3543480"/>
            <a:ext cx="42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974880" y="4290480"/>
            <a:ext cx="7879680" cy="1011240"/>
            <a:chOff x="974880" y="4290480"/>
            <a:chExt cx="7879680" cy="1011240"/>
          </a:xfrm>
        </p:grpSpPr>
        <p:sp>
          <p:nvSpPr>
            <p:cNvPr id="635" name=""/>
            <p:cNvSpPr/>
            <p:nvPr/>
          </p:nvSpPr>
          <p:spPr>
            <a:xfrm>
              <a:off x="974880" y="4290480"/>
              <a:ext cx="772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Los estudiantes se matriculan en asignatura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Los profesores imparten asignatura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74880" y="4300200"/>
              <a:ext cx="7879680" cy="1001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0" y="5303880"/>
            <a:ext cx="917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SOCIACIÓN TERNARIA SÓLO SI HAY QUE DISTINGUIR CON QUÉ PROFESOR/ES SE HA MATRICUL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83040" y="3305160"/>
            <a:ext cx="155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55760" y="186120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riculado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956720" y="2141640"/>
            <a:ext cx="155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04120" y="27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77040" y="179280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30080" y="2948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ón n-aria en UML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3705840" y="30448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6BE-ACF7-47C4-942D-5BF1F8B2CA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0" y="4365720"/>
            <a:ext cx="8767440" cy="2492280"/>
            <a:chOff x="0" y="4365720"/>
            <a:chExt cx="8767440" cy="2492280"/>
          </a:xfrm>
        </p:grpSpPr>
        <p:sp>
          <p:nvSpPr>
            <p:cNvPr id="646" name=""/>
            <p:cNvSpPr/>
            <p:nvPr/>
          </p:nvSpPr>
          <p:spPr>
            <a:xfrm>
              <a:off x="76680" y="4416480"/>
              <a:ext cx="8614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Los estudiantes se matriculan en asignatura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Los profesores imparten asignatura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uando un estudiante se matricula en una asignatura, NO todos los profesores que la imparten son sus profesor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4365720"/>
              <a:ext cx="8767440" cy="24922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839880" y="1296720"/>
            <a:ext cx="8073720" cy="2977560"/>
            <a:chOff x="839880" y="1296720"/>
            <a:chExt cx="8073720" cy="2977560"/>
          </a:xfrm>
        </p:grpSpPr>
        <p:grpSp>
          <p:nvGrpSpPr>
            <p:cNvPr id="649" name=""/>
            <p:cNvGrpSpPr/>
            <p:nvPr/>
          </p:nvGrpSpPr>
          <p:grpSpPr>
            <a:xfrm>
              <a:off x="3895560" y="1296720"/>
              <a:ext cx="1898280" cy="1469160"/>
              <a:chOff x="3895560" y="1296720"/>
              <a:chExt cx="1898280" cy="146916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3895560" y="1296720"/>
                <a:ext cx="1897920" cy="1469160"/>
                <a:chOff x="3895560" y="1296720"/>
                <a:chExt cx="1897920" cy="1469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3895560" y="1388880"/>
                  <a:ext cx="1897920" cy="137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95800" y="1296720"/>
                  <a:ext cx="146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studian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895560" y="17330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895560" y="20772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95560" y="242172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7015320" y="2740680"/>
              <a:ext cx="1898280" cy="1469160"/>
              <a:chOff x="7015320" y="2740680"/>
              <a:chExt cx="1898280" cy="146916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7015320" y="2740680"/>
                <a:ext cx="1897920" cy="1469160"/>
                <a:chOff x="7015320" y="2740680"/>
                <a:chExt cx="1897920" cy="146916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7015320" y="2832840"/>
                  <a:ext cx="1897920" cy="137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290360" y="27406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Asigna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015320" y="317700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7015320" y="352116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15320" y="38656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6340680" y="3521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30680" y="3521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839880" y="2805120"/>
              <a:ext cx="1898280" cy="1469160"/>
              <a:chOff x="839880" y="2805120"/>
              <a:chExt cx="1898280" cy="146916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839880" y="2805120"/>
                <a:ext cx="1897920" cy="1469160"/>
                <a:chOff x="839880" y="2805120"/>
                <a:chExt cx="1897920" cy="14691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839880" y="2897280"/>
                  <a:ext cx="1897920" cy="137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263600" y="2805120"/>
                  <a:ext cx="121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rofes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39880" y="32414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839880" y="35856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39880" y="393012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5143680" y="362052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869000" y="2773800"/>
              <a:ext cx="2880" cy="61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38520" y="3620520"/>
              <a:ext cx="18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97560" y="3380760"/>
              <a:ext cx="536400" cy="47916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37040" y="2739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0080" y="2948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ón n-aria en UML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AB4-4D70-478E-B351-02DE1DEB80D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52280" y="4848120"/>
            <a:ext cx="8655120" cy="1800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 &lt;est,asig&gt; conocido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 0 ó 1 profe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 estudiante se puede matricular en una asignatura SÓLO CON UNO DE LOS PROFESORES QUE LA IMPARTE, o no matricularse, cla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2277720" y="3917880"/>
            <a:ext cx="826920" cy="1081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30080" y="2948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ón n-aria en UML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839880" y="1296720"/>
            <a:ext cx="8073720" cy="2977920"/>
            <a:chOff x="839880" y="1296720"/>
            <a:chExt cx="8073720" cy="2977920"/>
          </a:xfrm>
        </p:grpSpPr>
        <p:grpSp>
          <p:nvGrpSpPr>
            <p:cNvPr id="682" name=""/>
            <p:cNvGrpSpPr/>
            <p:nvPr/>
          </p:nvGrpSpPr>
          <p:grpSpPr>
            <a:xfrm>
              <a:off x="3895560" y="1296720"/>
              <a:ext cx="1898280" cy="1469880"/>
              <a:chOff x="3895560" y="1296720"/>
              <a:chExt cx="1898280" cy="146988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3895560" y="1296720"/>
                <a:ext cx="1897920" cy="1469880"/>
                <a:chOff x="3895560" y="1296720"/>
                <a:chExt cx="1897920" cy="146988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895560" y="1388880"/>
                  <a:ext cx="1897920" cy="137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195800" y="1296720"/>
                  <a:ext cx="146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studian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895560" y="173340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3895560" y="207756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895560" y="24224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7015320" y="2739960"/>
              <a:ext cx="1898280" cy="1469880"/>
              <a:chOff x="7015320" y="2739960"/>
              <a:chExt cx="1898280" cy="146988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7015320" y="2739960"/>
                <a:ext cx="1897920" cy="1469880"/>
                <a:chOff x="7015320" y="2739960"/>
                <a:chExt cx="1897920" cy="146988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7015320" y="2832120"/>
                  <a:ext cx="1897920" cy="137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290360" y="273996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Asigna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015320" y="31766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7015320" y="35208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15320" y="38656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6340680" y="35215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30680" y="35215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839880" y="2804760"/>
              <a:ext cx="1898280" cy="1469880"/>
              <a:chOff x="839880" y="2804760"/>
              <a:chExt cx="1898280" cy="146988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839880" y="2804760"/>
                <a:ext cx="1897920" cy="1469880"/>
                <a:chOff x="839880" y="2804760"/>
                <a:chExt cx="1897920" cy="146988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839880" y="2896920"/>
                  <a:ext cx="1897920" cy="137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263600" y="2804760"/>
                  <a:ext cx="121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rofes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39880" y="32414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"/>
              <p:cNvSpPr/>
              <p:nvPr/>
            </p:nvSpPr>
            <p:spPr>
              <a:xfrm>
                <a:off x="839880" y="35856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39880" y="39304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5143680" y="36212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4869000" y="2773440"/>
              <a:ext cx="288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38520" y="3621240"/>
              <a:ext cx="18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97560" y="3381480"/>
              <a:ext cx="536400" cy="47916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7040" y="27406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B37-32E0-42ED-95FF-9E216F91EE9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52280" y="4848120"/>
            <a:ext cx="8655120" cy="1800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 &lt;est,prof&gt; conocido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n 0 ó varias asigna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 estudiante se puede matricular con el mismo profesor en DISTINTAS asignaturas o puede que no le corresponda ese profe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341080" y="3929040"/>
            <a:ext cx="4157640" cy="1044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30080" y="2948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ón n-aria en UML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839880" y="1296720"/>
            <a:ext cx="8073720" cy="2977920"/>
            <a:chOff x="839880" y="1296720"/>
            <a:chExt cx="8073720" cy="2977920"/>
          </a:xfrm>
        </p:grpSpPr>
        <p:grpSp>
          <p:nvGrpSpPr>
            <p:cNvPr id="714" name=""/>
            <p:cNvGrpSpPr/>
            <p:nvPr/>
          </p:nvGrpSpPr>
          <p:grpSpPr>
            <a:xfrm>
              <a:off x="3895560" y="1296720"/>
              <a:ext cx="1898280" cy="1469880"/>
              <a:chOff x="3895560" y="1296720"/>
              <a:chExt cx="1898280" cy="146988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3895560" y="1296720"/>
                <a:ext cx="1897920" cy="1469880"/>
                <a:chOff x="3895560" y="1296720"/>
                <a:chExt cx="1897920" cy="14698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3895560" y="1388880"/>
                  <a:ext cx="1897920" cy="137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195800" y="1296720"/>
                  <a:ext cx="146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studian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895560" y="173340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3895560" y="207756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895560" y="24224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7015320" y="2739960"/>
              <a:ext cx="1898280" cy="1469880"/>
              <a:chOff x="7015320" y="2739960"/>
              <a:chExt cx="1898280" cy="146988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7015320" y="2739960"/>
                <a:ext cx="1897920" cy="1469880"/>
                <a:chOff x="7015320" y="2739960"/>
                <a:chExt cx="1897920" cy="146988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7015320" y="2832120"/>
                  <a:ext cx="1897920" cy="137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290360" y="273996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Asigna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015320" y="31766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" name=""/>
              <p:cNvSpPr/>
              <p:nvPr/>
            </p:nvSpPr>
            <p:spPr>
              <a:xfrm>
                <a:off x="7015320" y="35208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15320" y="38656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6340680" y="35215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30680" y="35215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839880" y="2804760"/>
              <a:ext cx="1898280" cy="1469880"/>
              <a:chOff x="839880" y="2804760"/>
              <a:chExt cx="1898280" cy="146988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839880" y="2804760"/>
                <a:ext cx="1897920" cy="1469880"/>
                <a:chOff x="839880" y="2804760"/>
                <a:chExt cx="1897920" cy="14698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839880" y="2896920"/>
                  <a:ext cx="1897920" cy="137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263600" y="2804760"/>
                  <a:ext cx="121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rofes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39880" y="32414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839880" y="35856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39880" y="39304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5143680" y="36212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869000" y="2773440"/>
              <a:ext cx="288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38520" y="3621240"/>
              <a:ext cx="18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97560" y="3381480"/>
              <a:ext cx="536400" cy="47916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37040" y="27406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BA6-30D7-4E55-AE24-D000D967C1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280" y="4846320"/>
            <a:ext cx="8655120" cy="1800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 &lt;prof,asig&gt; conocido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 0 ó varios estudi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 profesor puede impartir o no una asignatura, y si la imparte, entonces puede tener VARIOS estudi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2341440" y="3014640"/>
            <a:ext cx="2616480" cy="19591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30080" y="2948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ón n-aria en UML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839880" y="1296720"/>
            <a:ext cx="8073720" cy="2977920"/>
            <a:chOff x="839880" y="1296720"/>
            <a:chExt cx="8073720" cy="2977920"/>
          </a:xfrm>
        </p:grpSpPr>
        <p:grpSp>
          <p:nvGrpSpPr>
            <p:cNvPr id="746" name=""/>
            <p:cNvGrpSpPr/>
            <p:nvPr/>
          </p:nvGrpSpPr>
          <p:grpSpPr>
            <a:xfrm>
              <a:off x="3895560" y="1296720"/>
              <a:ext cx="1898280" cy="1469880"/>
              <a:chOff x="3895560" y="1296720"/>
              <a:chExt cx="1898280" cy="146988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3895560" y="1296720"/>
                <a:ext cx="1897920" cy="1469880"/>
                <a:chOff x="3895560" y="1296720"/>
                <a:chExt cx="1897920" cy="146988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895560" y="1388880"/>
                  <a:ext cx="1897920" cy="137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195800" y="1296720"/>
                  <a:ext cx="146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studian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895560" y="173340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" name=""/>
              <p:cNvSpPr/>
              <p:nvPr/>
            </p:nvSpPr>
            <p:spPr>
              <a:xfrm>
                <a:off x="3895560" y="207756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895560" y="24224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7015320" y="2739960"/>
              <a:ext cx="1898280" cy="1469880"/>
              <a:chOff x="7015320" y="2739960"/>
              <a:chExt cx="1898280" cy="146988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7015320" y="2739960"/>
                <a:ext cx="1897920" cy="1469880"/>
                <a:chOff x="7015320" y="2739960"/>
                <a:chExt cx="1897920" cy="146988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015320" y="2832120"/>
                  <a:ext cx="1897920" cy="137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290360" y="273996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Asigna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015320" y="31766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7015320" y="35208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015320" y="38656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6340680" y="35215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30680" y="35215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839880" y="2804760"/>
              <a:ext cx="1898280" cy="1469880"/>
              <a:chOff x="839880" y="2804760"/>
              <a:chExt cx="1898280" cy="146988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839880" y="2804760"/>
                <a:ext cx="1897920" cy="1469880"/>
                <a:chOff x="839880" y="2804760"/>
                <a:chExt cx="1897920" cy="146988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839880" y="2896920"/>
                  <a:ext cx="1897920" cy="137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63600" y="2804760"/>
                  <a:ext cx="121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rofes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39880" y="32414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>
                <a:off x="839880" y="35856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9880" y="39304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5143680" y="36212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869000" y="2773440"/>
              <a:ext cx="288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38520" y="3621240"/>
              <a:ext cx="18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97560" y="3381480"/>
              <a:ext cx="536400" cy="47916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37040" y="27406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307-DF39-4282-B9E3-663328CB32D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55280" y="275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lase Asoci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77800" y="1676520"/>
            <a:ext cx="8393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sociación que también es una cl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sociación que posee sus propias caracterís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lase asociación añade una restri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ólo puede existir una instancia de la asociación entre cualquiera par de objetos participant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E09-E93E-4DA0-94D0-5615A33BE8C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1650960" y="1291320"/>
            <a:ext cx="1896840" cy="1301040"/>
            <a:chOff x="1650960" y="1291320"/>
            <a:chExt cx="1896840" cy="1301040"/>
          </a:xfrm>
        </p:grpSpPr>
        <p:grpSp>
          <p:nvGrpSpPr>
            <p:cNvPr id="777" name=""/>
            <p:cNvGrpSpPr/>
            <p:nvPr/>
          </p:nvGrpSpPr>
          <p:grpSpPr>
            <a:xfrm>
              <a:off x="1650960" y="1291320"/>
              <a:ext cx="1896480" cy="1301040"/>
              <a:chOff x="1650960" y="1291320"/>
              <a:chExt cx="1896480" cy="1301040"/>
            </a:xfrm>
          </p:grpSpPr>
          <p:sp>
            <p:nvSpPr>
              <p:cNvPr id="778" name=""/>
              <p:cNvSpPr/>
              <p:nvPr/>
            </p:nvSpPr>
            <p:spPr>
              <a:xfrm>
                <a:off x="1650960" y="1401480"/>
                <a:ext cx="1896480" cy="119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104200" y="1291320"/>
                <a:ext cx="115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lase 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650960" y="1699200"/>
                <a:ext cx="189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1650960" y="1996560"/>
              <a:ext cx="18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50960" y="2294640"/>
              <a:ext cx="18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191280" y="1281240"/>
            <a:ext cx="1923840" cy="1302840"/>
            <a:chOff x="6191280" y="1281240"/>
            <a:chExt cx="1923840" cy="1302840"/>
          </a:xfrm>
        </p:grpSpPr>
        <p:grpSp>
          <p:nvGrpSpPr>
            <p:cNvPr id="784" name=""/>
            <p:cNvGrpSpPr/>
            <p:nvPr/>
          </p:nvGrpSpPr>
          <p:grpSpPr>
            <a:xfrm>
              <a:off x="6191280" y="1281240"/>
              <a:ext cx="1923480" cy="1302840"/>
              <a:chOff x="6191280" y="1281240"/>
              <a:chExt cx="1923480" cy="1302840"/>
            </a:xfrm>
          </p:grpSpPr>
          <p:sp>
            <p:nvSpPr>
              <p:cNvPr id="785" name=""/>
              <p:cNvSpPr/>
              <p:nvPr/>
            </p:nvSpPr>
            <p:spPr>
              <a:xfrm>
                <a:off x="6191280" y="1391760"/>
                <a:ext cx="1923480" cy="119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663960" y="1281240"/>
                <a:ext cx="113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las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191280" y="1689840"/>
                <a:ext cx="192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6191280" y="1987920"/>
              <a:ext cx="19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91280" y="2286360"/>
              <a:ext cx="19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3549600" y="190512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95320" y="1446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95680" y="1446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578400" y="1904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94240" y="1904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687480"/>
            <a:ext cx="97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ara almacen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&lt;objeto de A, objeto de B, Atributos PROPIO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89360" y="4724280"/>
            <a:ext cx="140328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78360" y="4648320"/>
            <a:ext cx="10731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5811840" y="4875840"/>
            <a:ext cx="766080" cy="1296360"/>
            <a:chOff x="5811840" y="4875840"/>
            <a:chExt cx="766080" cy="1296360"/>
          </a:xfrm>
        </p:grpSpPr>
        <p:sp>
          <p:nvSpPr>
            <p:cNvPr id="799" name=""/>
            <p:cNvSpPr/>
            <p:nvPr/>
          </p:nvSpPr>
          <p:spPr>
            <a:xfrm flipH="1">
              <a:off x="5811840" y="48758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@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5811840" y="53330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@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6101280" y="5715000"/>
              <a:ext cx="19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252600" y="4799520"/>
            <a:ext cx="749160" cy="1678680"/>
            <a:chOff x="3252600" y="4799520"/>
            <a:chExt cx="749160" cy="1678680"/>
          </a:xfrm>
        </p:grpSpPr>
        <p:sp>
          <p:nvSpPr>
            <p:cNvPr id="803" name=""/>
            <p:cNvSpPr/>
            <p:nvPr/>
          </p:nvSpPr>
          <p:spPr>
            <a:xfrm>
              <a:off x="3252600" y="479952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@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52600" y="525672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@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52600" y="563760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@a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52600" y="601848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@a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3962520" y="5105520"/>
            <a:ext cx="181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962520" y="5181120"/>
            <a:ext cx="181584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044960" y="5562720"/>
            <a:ext cx="181620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7800" y="5180040"/>
            <a:ext cx="23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s de la clas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69080" y="4722840"/>
            <a:ext cx="23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s de la clas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70520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79720" y="2666880"/>
            <a:ext cx="189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339440" y="258984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79720" y="297180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9720" y="327672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879720" y="342900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433560" y="28785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860800" y="3122640"/>
            <a:ext cx="577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152240" y="28944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4242960" y="6094800"/>
            <a:ext cx="1122480" cy="764640"/>
            <a:chOff x="4242960" y="6094800"/>
            <a:chExt cx="1122480" cy="764640"/>
          </a:xfrm>
        </p:grpSpPr>
        <p:sp>
          <p:nvSpPr>
            <p:cNvPr id="822" name=""/>
            <p:cNvSpPr/>
            <p:nvPr/>
          </p:nvSpPr>
          <p:spPr>
            <a:xfrm>
              <a:off x="4242960" y="609480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@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22760" y="6476760"/>
              <a:ext cx="7426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22760" y="6399720"/>
              <a:ext cx="74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233680" y="6094800"/>
            <a:ext cx="1122480" cy="764640"/>
            <a:chOff x="5233680" y="6094800"/>
            <a:chExt cx="1122480" cy="764640"/>
          </a:xfrm>
        </p:grpSpPr>
        <p:sp>
          <p:nvSpPr>
            <p:cNvPr id="826" name=""/>
            <p:cNvSpPr/>
            <p:nvPr/>
          </p:nvSpPr>
          <p:spPr>
            <a:xfrm>
              <a:off x="5233680" y="609480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@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13480" y="6476760"/>
              <a:ext cx="7426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13480" y="6399720"/>
              <a:ext cx="74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224040" y="6094800"/>
            <a:ext cx="1122480" cy="764640"/>
            <a:chOff x="6224040" y="6094800"/>
            <a:chExt cx="1122480" cy="764640"/>
          </a:xfrm>
        </p:grpSpPr>
        <p:sp>
          <p:nvSpPr>
            <p:cNvPr id="830" name=""/>
            <p:cNvSpPr/>
            <p:nvPr/>
          </p:nvSpPr>
          <p:spPr>
            <a:xfrm>
              <a:off x="6224040" y="609480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@c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603840" y="6476760"/>
              <a:ext cx="7426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03840" y="6399720"/>
              <a:ext cx="74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 flipH="1">
            <a:off x="4705200" y="5105520"/>
            <a:ext cx="247680" cy="1066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18120" y="5334120"/>
            <a:ext cx="123840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83360" y="5715000"/>
            <a:ext cx="41256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54920" y="5865840"/>
            <a:ext cx="23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s de la clas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098840" y="632448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55280" y="275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lase Asoci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E61-5DB0-4634-AF6E-0D95211A273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"/>
          <p:cNvGrpSpPr/>
          <p:nvPr/>
        </p:nvGrpSpPr>
        <p:grpSpPr>
          <a:xfrm>
            <a:off x="1650960" y="1291320"/>
            <a:ext cx="1896840" cy="1301040"/>
            <a:chOff x="1650960" y="1291320"/>
            <a:chExt cx="1896840" cy="1301040"/>
          </a:xfrm>
        </p:grpSpPr>
        <p:grpSp>
          <p:nvGrpSpPr>
            <p:cNvPr id="840" name=""/>
            <p:cNvGrpSpPr/>
            <p:nvPr/>
          </p:nvGrpSpPr>
          <p:grpSpPr>
            <a:xfrm>
              <a:off x="1650960" y="1291320"/>
              <a:ext cx="1896480" cy="1301040"/>
              <a:chOff x="1650960" y="1291320"/>
              <a:chExt cx="1896480" cy="1301040"/>
            </a:xfrm>
          </p:grpSpPr>
          <p:sp>
            <p:nvSpPr>
              <p:cNvPr id="841" name=""/>
              <p:cNvSpPr/>
              <p:nvPr/>
            </p:nvSpPr>
            <p:spPr>
              <a:xfrm>
                <a:off x="1650960" y="1401480"/>
                <a:ext cx="1896480" cy="119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104200" y="1291320"/>
                <a:ext cx="115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lase 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50960" y="1699200"/>
                <a:ext cx="189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1650960" y="1996560"/>
              <a:ext cx="18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50960" y="2294640"/>
              <a:ext cx="18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6191280" y="1281240"/>
            <a:ext cx="1923840" cy="1302840"/>
            <a:chOff x="6191280" y="1281240"/>
            <a:chExt cx="1923840" cy="1302840"/>
          </a:xfrm>
        </p:grpSpPr>
        <p:grpSp>
          <p:nvGrpSpPr>
            <p:cNvPr id="847" name=""/>
            <p:cNvGrpSpPr/>
            <p:nvPr/>
          </p:nvGrpSpPr>
          <p:grpSpPr>
            <a:xfrm>
              <a:off x="6191280" y="1281240"/>
              <a:ext cx="1923480" cy="1302840"/>
              <a:chOff x="6191280" y="1281240"/>
              <a:chExt cx="1923480" cy="1302840"/>
            </a:xfrm>
          </p:grpSpPr>
          <p:sp>
            <p:nvSpPr>
              <p:cNvPr id="848" name=""/>
              <p:cNvSpPr/>
              <p:nvPr/>
            </p:nvSpPr>
            <p:spPr>
              <a:xfrm>
                <a:off x="6191280" y="1391760"/>
                <a:ext cx="1923480" cy="119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63960" y="1281240"/>
                <a:ext cx="113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las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91280" y="1689840"/>
                <a:ext cx="192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6191280" y="1987920"/>
              <a:ext cx="19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1280" y="2286360"/>
              <a:ext cx="19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3549600" y="190512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395320" y="1446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95680" y="1446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78400" y="1904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94240" y="1904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496880" y="3832920"/>
            <a:ext cx="635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Cada objeto de C se refiere a un único objeto de A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a un único objeto de 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0520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79720" y="2666880"/>
            <a:ext cx="189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339440" y="258984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79720" y="297180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79720" y="327672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879720" y="342900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33560" y="28785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860800" y="3122640"/>
            <a:ext cx="577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52240" y="28944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55280" y="275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lase Asoci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B0E-A7DD-42C6-8788-46C886F9420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080" y="331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l Modelo Conceptual a las clas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781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modelos de análisi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e obtienen a partir del modelo conceptu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ncept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e convierten en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Atributos de un concep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atributos de l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ñadir comportamiento (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métod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857-56F9-4F7E-B9AA-C4FF1ECAC7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428760" y="3914280"/>
            <a:ext cx="91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Si se quisiera que uno de C pudiera asociarse con varios de A y con 0 ó 1 de B, entonces no se puede usar una clase asociación sino una clase (normal) y 2 asoci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428760" y="1411920"/>
            <a:ext cx="8914680" cy="1601280"/>
            <a:chOff x="428760" y="1411920"/>
            <a:chExt cx="8914680" cy="1601280"/>
          </a:xfrm>
        </p:grpSpPr>
        <p:grpSp>
          <p:nvGrpSpPr>
            <p:cNvPr id="871" name=""/>
            <p:cNvGrpSpPr/>
            <p:nvPr/>
          </p:nvGrpSpPr>
          <p:grpSpPr>
            <a:xfrm>
              <a:off x="428760" y="1411920"/>
              <a:ext cx="1897920" cy="1601280"/>
              <a:chOff x="428760" y="1411920"/>
              <a:chExt cx="1897920" cy="160128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428760" y="1411920"/>
                <a:ext cx="1897560" cy="1601280"/>
                <a:chOff x="428760" y="1411920"/>
                <a:chExt cx="1897560" cy="160128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428760" y="1489320"/>
                  <a:ext cx="189756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82000" y="1411920"/>
                  <a:ext cx="1154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28760" y="1870200"/>
                  <a:ext cx="189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6" name=""/>
              <p:cNvSpPr/>
              <p:nvPr/>
            </p:nvSpPr>
            <p:spPr>
              <a:xfrm>
                <a:off x="428760" y="225108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28760" y="263232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7445160" y="1411920"/>
              <a:ext cx="1898280" cy="1601280"/>
              <a:chOff x="7445160" y="1411920"/>
              <a:chExt cx="1898280" cy="1601280"/>
            </a:xfrm>
          </p:grpSpPr>
          <p:grpSp>
            <p:nvGrpSpPr>
              <p:cNvPr id="879" name=""/>
              <p:cNvGrpSpPr/>
              <p:nvPr/>
            </p:nvGrpSpPr>
            <p:grpSpPr>
              <a:xfrm>
                <a:off x="7445160" y="1411920"/>
                <a:ext cx="1897920" cy="1601280"/>
                <a:chOff x="7445160" y="1411920"/>
                <a:chExt cx="1897920" cy="160128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7445160" y="148932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904880" y="1411920"/>
                  <a:ext cx="113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45160" y="187020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3" name=""/>
              <p:cNvSpPr/>
              <p:nvPr/>
            </p:nvSpPr>
            <p:spPr>
              <a:xfrm>
                <a:off x="7445160" y="22510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445160" y="263232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6814080" y="18691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62680" y="1869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u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55480" y="2402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3360" y="2326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27040" y="2403360"/>
              <a:ext cx="1485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3813120" y="1716480"/>
              <a:ext cx="1897920" cy="1067760"/>
              <a:chOff x="3813120" y="1716480"/>
              <a:chExt cx="1897920" cy="1067760"/>
            </a:xfrm>
          </p:grpSpPr>
          <p:sp>
            <p:nvSpPr>
              <p:cNvPr id="891" name=""/>
              <p:cNvSpPr/>
              <p:nvPr/>
            </p:nvSpPr>
            <p:spPr>
              <a:xfrm>
                <a:off x="3813120" y="1793520"/>
                <a:ext cx="1897920" cy="99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234680" y="171648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lase  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813120" y="217476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813120" y="232704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813120" y="255564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 flipH="1">
              <a:off x="5711040" y="2403360"/>
              <a:ext cx="173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55280" y="275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lase Asoci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078-0A86-4E01-85A5-02BC649F4B8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521000" y="1391040"/>
            <a:ext cx="1898280" cy="1601280"/>
            <a:chOff x="1521000" y="1391040"/>
            <a:chExt cx="1898280" cy="1601280"/>
          </a:xfrm>
        </p:grpSpPr>
        <p:grpSp>
          <p:nvGrpSpPr>
            <p:cNvPr id="899" name=""/>
            <p:cNvGrpSpPr/>
            <p:nvPr/>
          </p:nvGrpSpPr>
          <p:grpSpPr>
            <a:xfrm>
              <a:off x="1521000" y="1391040"/>
              <a:ext cx="1897920" cy="1601280"/>
              <a:chOff x="1521000" y="1391040"/>
              <a:chExt cx="1897920" cy="1601280"/>
            </a:xfrm>
          </p:grpSpPr>
          <p:sp>
            <p:nvSpPr>
              <p:cNvPr id="900" name=""/>
              <p:cNvSpPr/>
              <p:nvPr/>
            </p:nvSpPr>
            <p:spPr>
              <a:xfrm>
                <a:off x="1521000" y="1468440"/>
                <a:ext cx="189792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821240" y="1391040"/>
                <a:ext cx="146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Estudian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521000" y="184932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521000" y="223020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521000" y="261144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060960" y="1391040"/>
            <a:ext cx="1898280" cy="1601280"/>
            <a:chOff x="6060960" y="1391040"/>
            <a:chExt cx="1898280" cy="1601280"/>
          </a:xfrm>
        </p:grpSpPr>
        <p:grpSp>
          <p:nvGrpSpPr>
            <p:cNvPr id="906" name=""/>
            <p:cNvGrpSpPr/>
            <p:nvPr/>
          </p:nvGrpSpPr>
          <p:grpSpPr>
            <a:xfrm>
              <a:off x="6060960" y="1391040"/>
              <a:ext cx="1897920" cy="1601280"/>
              <a:chOff x="6060960" y="1391040"/>
              <a:chExt cx="1897920" cy="1601280"/>
            </a:xfrm>
          </p:grpSpPr>
          <p:sp>
            <p:nvSpPr>
              <p:cNvPr id="907" name=""/>
              <p:cNvSpPr/>
              <p:nvPr/>
            </p:nvSpPr>
            <p:spPr>
              <a:xfrm>
                <a:off x="6060960" y="1468440"/>
                <a:ext cx="189792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34200" y="1391040"/>
                <a:ext cx="152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signatu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60960" y="184932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6060960" y="223020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60960" y="261144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3419640" y="2382840"/>
            <a:ext cx="26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598920" y="238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415120" y="238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5240" y="2382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749760" y="3144960"/>
            <a:ext cx="1904760" cy="13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99320" y="30675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r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749760" y="352584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1000" y="4636080"/>
            <a:ext cx="928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Si se desea poder almacenar el nº de convocatoria, nota obtenida, curso académico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33480" y="182304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riculado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654520" y="2111400"/>
            <a:ext cx="233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62440" y="3551400"/>
            <a:ext cx="15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numCo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331680" y="36406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5759280" y="3884760"/>
            <a:ext cx="578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55280" y="275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lase Asociación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2FE-827D-4A0C-9597-D845DCD6DE5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175440" y="3336840"/>
            <a:ext cx="2589120" cy="1108080"/>
          </a:xfrm>
          <a:prstGeom prst="wedgeEllipseCallout">
            <a:avLst>
              <a:gd name="adj1" fmla="val -75750"/>
              <a:gd name="adj2" fmla="val 56731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Distinta 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55680" y="275760"/>
            <a:ext cx="895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lase Asociación y Clase Normal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57240" y="5518080"/>
            <a:ext cx="931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i se quiere modelar que una persona tiene diferentes contratos para una misma empresa a lo largo del tiempo, NO se debe diseñar mediante una clase asociación, sino medi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una clase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004840" y="1552680"/>
            <a:ext cx="5062680" cy="2381040"/>
            <a:chOff x="2004840" y="1552680"/>
            <a:chExt cx="5062680" cy="2381040"/>
          </a:xfrm>
        </p:grpSpPr>
        <p:sp>
          <p:nvSpPr>
            <p:cNvPr id="930" name=""/>
            <p:cNvSpPr/>
            <p:nvPr/>
          </p:nvSpPr>
          <p:spPr>
            <a:xfrm>
              <a:off x="2004840" y="1581120"/>
              <a:ext cx="90036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24720" y="163656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72120" y="1581120"/>
              <a:ext cx="99540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06760" y="163656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87760" y="1814400"/>
              <a:ext cx="158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2905200" y="1814400"/>
              <a:ext cx="158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966760" y="18478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895720" y="18367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73960" y="1552680"/>
              <a:ext cx="88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+emple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070600" y="1569960"/>
              <a:ext cx="94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+emple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887640" y="2908440"/>
              <a:ext cx="1173240" cy="1025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31000" y="296388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tr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887640" y="3195720"/>
              <a:ext cx="1173240" cy="738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926880" y="322272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al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25440" y="344160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descrip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24360" y="3660840"/>
              <a:ext cx="112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fechaContr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4475160" y="1814040"/>
              <a:ext cx="12600" cy="10940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339920" y="4344840"/>
            <a:ext cx="6251400" cy="976320"/>
            <a:chOff x="1339920" y="4344840"/>
            <a:chExt cx="6251400" cy="976320"/>
          </a:xfrm>
        </p:grpSpPr>
        <p:sp>
          <p:nvSpPr>
            <p:cNvPr id="948" name=""/>
            <p:cNvSpPr/>
            <p:nvPr/>
          </p:nvSpPr>
          <p:spPr>
            <a:xfrm>
              <a:off x="1339920" y="4614840"/>
              <a:ext cx="852480" cy="436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65920" y="46656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22560" y="4344840"/>
              <a:ext cx="1111320" cy="976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79240" y="439740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ntra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922560" y="4627440"/>
              <a:ext cx="1111320" cy="693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960360" y="465300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al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59280" y="4846680"/>
              <a:ext cx="77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rip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58560" y="5038560"/>
              <a:ext cx="96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echaContra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57480" y="4832280"/>
              <a:ext cx="865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74080" y="49118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2192040" y="4832280"/>
              <a:ext cx="865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43880" y="49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48480" y="4614840"/>
              <a:ext cx="942840" cy="436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89600" y="466560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48200" y="4832280"/>
              <a:ext cx="800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18880" y="49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033880" y="4832280"/>
              <a:ext cx="81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074200" y="48974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43880" y="49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518880" y="49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880-BB77-47D4-9EE5-CB8A5E6E48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ón: Agregación vs. Composi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3520" y="1670040"/>
            <a:ext cx="832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s criter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endenci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¿La existencia de una parte va ligada a la del agreg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clusivida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¿Una parte puede pertenecer a más de un agreg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bría cuatro posibles tipos de agregación; en UML hay dos: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agrega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composi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4B2-F892-43C9-9303-7CF723AD768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847800" y="1488960"/>
            <a:ext cx="84312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Agre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“especial” de aso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ón estructura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Parte-d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787920" y="3149640"/>
            <a:ext cx="1191960" cy="58716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039920" y="3213000"/>
            <a:ext cx="81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87920" y="3456000"/>
            <a:ext cx="1191960" cy="2808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787920" y="3570120"/>
            <a:ext cx="1191960" cy="166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4384800" y="3736440"/>
            <a:ext cx="1440" cy="81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05480" y="38005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300560" y="3736800"/>
            <a:ext cx="166680" cy="281160"/>
          </a:xfrm>
          <a:custGeom>
            <a:avLst/>
            <a:gdLst/>
            <a:ahLst/>
            <a:rect l="l" t="t" r="r" b="b"/>
            <a:pathLst>
              <a:path w="105" h="177">
                <a:moveTo>
                  <a:pt x="53" y="0"/>
                </a:moveTo>
                <a:lnTo>
                  <a:pt x="105" y="88"/>
                </a:lnTo>
                <a:lnTo>
                  <a:pt x="53" y="177"/>
                </a:lnTo>
                <a:lnTo>
                  <a:pt x="0" y="88"/>
                </a:lnTo>
                <a:lnTo>
                  <a:pt x="53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84800" y="4554360"/>
            <a:ext cx="1440" cy="804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712040" y="50785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538440" y="5359320"/>
            <a:ext cx="1690920" cy="5875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10960" y="5423040"/>
            <a:ext cx="128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part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538440" y="5665680"/>
            <a:ext cx="1690920" cy="281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538440" y="5781600"/>
            <a:ext cx="1690920" cy="165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12040" y="50785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677520" y="272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391-59BE-4C75-AD8A-7D4076E48C4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0" y="3413880"/>
            <a:ext cx="9740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 UNA ASOCIACIÓN CON LA 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“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FORMADO POR/FORMA PARTE DE”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1650960" y="1433880"/>
            <a:ext cx="6438240" cy="1679040"/>
            <a:chOff x="1650960" y="1433880"/>
            <a:chExt cx="6438240" cy="1679040"/>
          </a:xfrm>
        </p:grpSpPr>
        <p:grpSp>
          <p:nvGrpSpPr>
            <p:cNvPr id="988" name=""/>
            <p:cNvGrpSpPr/>
            <p:nvPr/>
          </p:nvGrpSpPr>
          <p:grpSpPr>
            <a:xfrm>
              <a:off x="1650960" y="1433880"/>
              <a:ext cx="1898280" cy="1601280"/>
              <a:chOff x="1650960" y="1433880"/>
              <a:chExt cx="1898280" cy="160128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1650960" y="1433880"/>
                <a:ext cx="1897920" cy="1601280"/>
                <a:chOff x="1650960" y="1433880"/>
                <a:chExt cx="1897920" cy="16012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1650960" y="151128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104200" y="1433880"/>
                  <a:ext cx="1154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650960" y="189216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3" name=""/>
              <p:cNvSpPr/>
              <p:nvPr/>
            </p:nvSpPr>
            <p:spPr>
              <a:xfrm>
                <a:off x="1650960" y="22730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650960" y="26542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6191280" y="1433880"/>
              <a:ext cx="1897920" cy="1601280"/>
              <a:chOff x="6191280" y="1433880"/>
              <a:chExt cx="1897920" cy="1601280"/>
            </a:xfrm>
          </p:grpSpPr>
          <p:grpSp>
            <p:nvGrpSpPr>
              <p:cNvPr id="996" name=""/>
              <p:cNvGrpSpPr/>
              <p:nvPr/>
            </p:nvGrpSpPr>
            <p:grpSpPr>
              <a:xfrm>
                <a:off x="6191280" y="1433880"/>
                <a:ext cx="1897560" cy="1601280"/>
                <a:chOff x="6191280" y="1433880"/>
                <a:chExt cx="1897560" cy="160128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191280" y="1511280"/>
                  <a:ext cx="189756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650640" y="1433880"/>
                  <a:ext cx="113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191280" y="1892160"/>
                  <a:ext cx="189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0" name=""/>
              <p:cNvSpPr/>
              <p:nvPr/>
            </p:nvSpPr>
            <p:spPr>
              <a:xfrm>
                <a:off x="6191280" y="227304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191280" y="265428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3549600" y="2425680"/>
              <a:ext cx="264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394960" y="2424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549600" y="2197080"/>
              <a:ext cx="572400" cy="4521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1560" y="26532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614600" y="4588560"/>
            <a:ext cx="6438240" cy="1753560"/>
            <a:chOff x="1614600" y="4588560"/>
            <a:chExt cx="6438240" cy="1753560"/>
          </a:xfrm>
        </p:grpSpPr>
        <p:grpSp>
          <p:nvGrpSpPr>
            <p:cNvPr id="1007" name=""/>
            <p:cNvGrpSpPr/>
            <p:nvPr/>
          </p:nvGrpSpPr>
          <p:grpSpPr>
            <a:xfrm>
              <a:off x="6154920" y="4740840"/>
              <a:ext cx="1897920" cy="1601280"/>
              <a:chOff x="6154920" y="4740840"/>
              <a:chExt cx="1897920" cy="1601280"/>
            </a:xfrm>
          </p:grpSpPr>
          <p:grpSp>
            <p:nvGrpSpPr>
              <p:cNvPr id="1008" name=""/>
              <p:cNvGrpSpPr/>
              <p:nvPr/>
            </p:nvGrpSpPr>
            <p:grpSpPr>
              <a:xfrm>
                <a:off x="6154920" y="4740840"/>
                <a:ext cx="1897560" cy="1601280"/>
                <a:chOff x="6154920" y="4740840"/>
                <a:chExt cx="1897560" cy="160128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6154920" y="4818240"/>
                  <a:ext cx="189756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614280" y="4740840"/>
                  <a:ext cx="113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154920" y="5199120"/>
                  <a:ext cx="189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2" name=""/>
              <p:cNvSpPr/>
              <p:nvPr/>
            </p:nvSpPr>
            <p:spPr>
              <a:xfrm>
                <a:off x="6154920" y="558000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154920" y="596124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1614600" y="4588560"/>
              <a:ext cx="1898280" cy="1601280"/>
              <a:chOff x="1614600" y="4588560"/>
              <a:chExt cx="1898280" cy="1601280"/>
            </a:xfrm>
          </p:grpSpPr>
          <p:grpSp>
            <p:nvGrpSpPr>
              <p:cNvPr id="1015" name=""/>
              <p:cNvGrpSpPr/>
              <p:nvPr/>
            </p:nvGrpSpPr>
            <p:grpSpPr>
              <a:xfrm>
                <a:off x="1614600" y="4588560"/>
                <a:ext cx="1897920" cy="1601280"/>
                <a:chOff x="1614600" y="4588560"/>
                <a:chExt cx="1897920" cy="16012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1614600" y="466596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2067840" y="4588560"/>
                  <a:ext cx="1154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614600" y="50468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9" name=""/>
              <p:cNvSpPr/>
              <p:nvPr/>
            </p:nvSpPr>
            <p:spPr>
              <a:xfrm>
                <a:off x="1614600" y="542772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614600" y="580896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>
              <a:off x="3513240" y="5504040"/>
              <a:ext cx="264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723200" y="5502960"/>
              <a:ext cx="140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formadoP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95960" y="504576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formaParte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441040" y="49694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542400" y="55029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77520" y="272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greg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88B-5EAA-40E0-A8CA-68449C645AE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1600200" y="1987920"/>
            <a:ext cx="6525360" cy="3600000"/>
            <a:chOff x="1600200" y="1987920"/>
            <a:chExt cx="6525360" cy="3600000"/>
          </a:xfrm>
        </p:grpSpPr>
        <p:grpSp>
          <p:nvGrpSpPr>
            <p:cNvPr id="1028" name=""/>
            <p:cNvGrpSpPr/>
            <p:nvPr/>
          </p:nvGrpSpPr>
          <p:grpSpPr>
            <a:xfrm>
              <a:off x="1600200" y="1987920"/>
              <a:ext cx="1898280" cy="1601280"/>
              <a:chOff x="1600200" y="1987920"/>
              <a:chExt cx="1898280" cy="160128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1600200" y="1987920"/>
                <a:ext cx="1897920" cy="1601280"/>
                <a:chOff x="1600200" y="1987920"/>
                <a:chExt cx="1897920" cy="160128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1600200" y="206532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151720" y="1987920"/>
                  <a:ext cx="959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och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600200" y="244620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3" name=""/>
              <p:cNvSpPr/>
              <p:nvPr/>
            </p:nvSpPr>
            <p:spPr>
              <a:xfrm>
                <a:off x="1600200" y="28270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600200" y="320832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6140160" y="1987920"/>
              <a:ext cx="1897920" cy="1601280"/>
              <a:chOff x="6140160" y="1987920"/>
              <a:chExt cx="1897920" cy="160128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6140160" y="1987920"/>
                <a:ext cx="1897560" cy="1601280"/>
                <a:chOff x="6140160" y="1987920"/>
                <a:chExt cx="1897560" cy="160128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6140160" y="2065320"/>
                  <a:ext cx="189756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691680" y="1987920"/>
                  <a:ext cx="959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Rue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140160" y="2446200"/>
                  <a:ext cx="189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0" name=""/>
              <p:cNvSpPr/>
              <p:nvPr/>
            </p:nvSpPr>
            <p:spPr>
              <a:xfrm>
                <a:off x="6140160" y="282708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140160" y="320832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98840" y="2979720"/>
              <a:ext cx="26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98080" y="297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98840" y="2751120"/>
              <a:ext cx="572400" cy="4521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609360" y="3207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6227640" y="3986640"/>
              <a:ext cx="1897920" cy="1601280"/>
              <a:chOff x="6227640" y="3986640"/>
              <a:chExt cx="1897920" cy="160128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6227640" y="3986640"/>
                <a:ext cx="1897560" cy="1601280"/>
                <a:chOff x="6227640" y="3986640"/>
                <a:chExt cx="1897560" cy="160128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6227640" y="4064040"/>
                  <a:ext cx="189756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786720" y="3986640"/>
                  <a:ext cx="94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o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227640" y="4444920"/>
                  <a:ext cx="189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6227640" y="482580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27640" y="520704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4121280" y="2979720"/>
              <a:ext cx="210636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775120" y="412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77520" y="272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gregación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EB3-5D49-4483-8CF4-710B2F214C8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/>
          </p:nvPr>
        </p:nvSpPr>
        <p:spPr>
          <a:xfrm>
            <a:off x="496440" y="1327320"/>
            <a:ext cx="9409320" cy="20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Com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“especial” de agregación: exclusiva y depe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parte pertenece a un único agregado (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exclusiv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se elimina un agregado se eliminan todas sus partes (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dependen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parte se puede añadir o eliminar en cualquier instante al agreg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title"/>
          </p:nvPr>
        </p:nvSpPr>
        <p:spPr>
          <a:xfrm>
            <a:off x="677520" y="272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soci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58" name=""/>
          <p:cNvSpPr/>
          <p:nvPr/>
        </p:nvSpPr>
        <p:spPr>
          <a:xfrm>
            <a:off x="7007040" y="330372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Tahoma"/>
              </a:rPr>
              <a:t>agreg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9" name=""/>
          <p:cNvCxnSpPr>
            <a:stCxn id="1058" idx="2"/>
          </p:cNvCxnSpPr>
          <p:nvPr/>
        </p:nvCxnSpPr>
        <p:spPr>
          <a:xfrm flipV="1" rot="16200000">
            <a:off x="6495480" y="2482560"/>
            <a:ext cx="46800" cy="2510280"/>
          </a:xfrm>
          <a:prstGeom prst="curvedConnector5">
            <a:avLst>
              <a:gd name="adj1" fmla="val -496124"/>
              <a:gd name="adj2" fmla="val 37148"/>
              <a:gd name="adj3" fmla="val -496124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060" name=""/>
          <p:cNvSpPr/>
          <p:nvPr/>
        </p:nvSpPr>
        <p:spPr>
          <a:xfrm>
            <a:off x="4268880" y="6431040"/>
            <a:ext cx="101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Tahoma"/>
              </a:rPr>
              <a:t>par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1" name=""/>
          <p:cNvCxnSpPr/>
          <p:nvPr/>
        </p:nvCxnSpPr>
        <p:spPr>
          <a:xfrm flipV="1" rot="16200000">
            <a:off x="4381920" y="5940360"/>
            <a:ext cx="591120" cy="297720"/>
          </a:xfrm>
          <a:prstGeom prst="curvedConnector5">
            <a:avLst>
              <a:gd name="adj1" fmla="val 49969"/>
              <a:gd name="adj2" fmla="val 50000"/>
              <a:gd name="adj3" fmla="val 49969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947880" y="3322800"/>
            <a:ext cx="7161120" cy="25938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2342520" y="451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4" name=""/>
          <p:cNvCxnSpPr>
            <a:stCxn id="1060" idx="1"/>
          </p:cNvCxnSpPr>
          <p:nvPr/>
        </p:nvCxnSpPr>
        <p:spPr>
          <a:xfrm rot="10800000">
            <a:off x="2179080" y="5630040"/>
            <a:ext cx="2122920" cy="1015200"/>
          </a:xfrm>
          <a:prstGeom prst="curvedConnector5">
            <a:avLst>
              <a:gd name="adj1" fmla="val 49949"/>
              <a:gd name="adj2" fmla="val 49982"/>
              <a:gd name="adj3" fmla="val 49949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65" name=""/>
          <p:cNvCxnSpPr/>
          <p:nvPr/>
        </p:nvCxnSpPr>
        <p:spPr>
          <a:xfrm flipV="1">
            <a:off x="5176440" y="5633280"/>
            <a:ext cx="1702440" cy="1011960"/>
          </a:xfrm>
          <a:prstGeom prst="curvedConnector5">
            <a:avLst>
              <a:gd name="adj1" fmla="val 27030"/>
              <a:gd name="adj2" fmla="val 50000"/>
              <a:gd name="adj3" fmla="val 27030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AEC-577C-4690-BC0B-0E2609EAAFC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"/>
          <p:cNvGrpSpPr/>
          <p:nvPr/>
        </p:nvGrpSpPr>
        <p:grpSpPr>
          <a:xfrm>
            <a:off x="1650960" y="1370520"/>
            <a:ext cx="1896840" cy="1601280"/>
            <a:chOff x="1650960" y="1370520"/>
            <a:chExt cx="1896840" cy="1601280"/>
          </a:xfrm>
        </p:grpSpPr>
        <p:grpSp>
          <p:nvGrpSpPr>
            <p:cNvPr id="1067" name=""/>
            <p:cNvGrpSpPr/>
            <p:nvPr/>
          </p:nvGrpSpPr>
          <p:grpSpPr>
            <a:xfrm>
              <a:off x="1650960" y="1370520"/>
              <a:ext cx="1896480" cy="1601280"/>
              <a:chOff x="1650960" y="1370520"/>
              <a:chExt cx="1896480" cy="1601280"/>
            </a:xfrm>
          </p:grpSpPr>
          <p:sp>
            <p:nvSpPr>
              <p:cNvPr id="1068" name=""/>
              <p:cNvSpPr/>
              <p:nvPr/>
            </p:nvSpPr>
            <p:spPr>
              <a:xfrm>
                <a:off x="1650960" y="1447920"/>
                <a:ext cx="189648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04200" y="1370520"/>
                <a:ext cx="115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lase 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650960" y="1828800"/>
                <a:ext cx="189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1650960" y="2209680"/>
              <a:ext cx="18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650960" y="2590920"/>
              <a:ext cx="18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6191280" y="1370520"/>
            <a:ext cx="1898280" cy="1601280"/>
            <a:chOff x="6191280" y="1370520"/>
            <a:chExt cx="1898280" cy="1601280"/>
          </a:xfrm>
        </p:grpSpPr>
        <p:grpSp>
          <p:nvGrpSpPr>
            <p:cNvPr id="1074" name=""/>
            <p:cNvGrpSpPr/>
            <p:nvPr/>
          </p:nvGrpSpPr>
          <p:grpSpPr>
            <a:xfrm>
              <a:off x="6191280" y="1370520"/>
              <a:ext cx="1897920" cy="1601280"/>
              <a:chOff x="6191280" y="1370520"/>
              <a:chExt cx="1897920" cy="1601280"/>
            </a:xfrm>
          </p:grpSpPr>
          <p:sp>
            <p:nvSpPr>
              <p:cNvPr id="1075" name=""/>
              <p:cNvSpPr/>
              <p:nvPr/>
            </p:nvSpPr>
            <p:spPr>
              <a:xfrm>
                <a:off x="6191280" y="1447920"/>
                <a:ext cx="189792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651000" y="1370520"/>
                <a:ext cx="113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las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191280" y="182880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6191280" y="220968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91280" y="2590920"/>
              <a:ext cx="18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3549600" y="236232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394240" y="2361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49600" y="2133720"/>
            <a:ext cx="573120" cy="4521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4824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1847880" y="5091480"/>
            <a:ext cx="6438240" cy="1677600"/>
            <a:chOff x="1847880" y="5091480"/>
            <a:chExt cx="6438240" cy="1677600"/>
          </a:xfrm>
        </p:grpSpPr>
        <p:grpSp>
          <p:nvGrpSpPr>
            <p:cNvPr id="1085" name=""/>
            <p:cNvGrpSpPr/>
            <p:nvPr/>
          </p:nvGrpSpPr>
          <p:grpSpPr>
            <a:xfrm>
              <a:off x="6388200" y="5167800"/>
              <a:ext cx="1897920" cy="1601280"/>
              <a:chOff x="6388200" y="5167800"/>
              <a:chExt cx="1897920" cy="160128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6388200" y="5167800"/>
                <a:ext cx="1897560" cy="1601280"/>
                <a:chOff x="6388200" y="5167800"/>
                <a:chExt cx="1897560" cy="160128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388200" y="5245200"/>
                  <a:ext cx="189756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847560" y="5167800"/>
                  <a:ext cx="113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388200" y="5626080"/>
                  <a:ext cx="189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0" name=""/>
              <p:cNvSpPr/>
              <p:nvPr/>
            </p:nvSpPr>
            <p:spPr>
              <a:xfrm>
                <a:off x="6388200" y="600696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88200" y="6388200"/>
                <a:ext cx="189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1847880" y="5091480"/>
              <a:ext cx="1898280" cy="1601280"/>
              <a:chOff x="1847880" y="5091480"/>
              <a:chExt cx="1898280" cy="160128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1847880" y="5091480"/>
                <a:ext cx="1897920" cy="1601280"/>
                <a:chOff x="1847880" y="5091480"/>
                <a:chExt cx="1897920" cy="16012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1847880" y="516888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301120" y="5091480"/>
                  <a:ext cx="1154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lase 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847880" y="554976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7" name=""/>
              <p:cNvSpPr/>
              <p:nvPr/>
            </p:nvSpPr>
            <p:spPr>
              <a:xfrm>
                <a:off x="1847880" y="59306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47880" y="631188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746520" y="5931000"/>
              <a:ext cx="264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719960" y="5929920"/>
              <a:ext cx="164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compuestoP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745080" y="5472720"/>
              <a:ext cx="199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esComponente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56760" y="5396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..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927240" y="592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38760" y="3009960"/>
            <a:ext cx="857160" cy="287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050800" y="300996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Única cardinalidad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066760" y="4437000"/>
            <a:ext cx="60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Si se borra el a, se borran lo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11160" y="4437000"/>
            <a:ext cx="6418440" cy="5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77520" y="272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mposi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3439080"/>
            <a:ext cx="9740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 UNA ASOCIACIÓN CON LA 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“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MPUESTO POR/ES COMPONENTE DE”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0FB-BCC2-41C1-9D83-DA1ADF07BE3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0" y="5284800"/>
            <a:ext cx="919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NO se permite tener “motores” ni “ruedas” sueltos; y al borrar el coche, se borra t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eguro que no se trata de un desgu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600200" y="1378440"/>
            <a:ext cx="6525720" cy="3600000"/>
            <a:chOff x="1600200" y="1378440"/>
            <a:chExt cx="6525720" cy="3600000"/>
          </a:xfrm>
        </p:grpSpPr>
        <p:grpSp>
          <p:nvGrpSpPr>
            <p:cNvPr id="1112" name=""/>
            <p:cNvGrpSpPr/>
            <p:nvPr/>
          </p:nvGrpSpPr>
          <p:grpSpPr>
            <a:xfrm>
              <a:off x="1600200" y="1378440"/>
              <a:ext cx="1898280" cy="1601280"/>
              <a:chOff x="1600200" y="1378440"/>
              <a:chExt cx="1898280" cy="1601280"/>
            </a:xfrm>
          </p:grpSpPr>
          <p:grpSp>
            <p:nvGrpSpPr>
              <p:cNvPr id="1113" name=""/>
              <p:cNvGrpSpPr/>
              <p:nvPr/>
            </p:nvGrpSpPr>
            <p:grpSpPr>
              <a:xfrm>
                <a:off x="1600200" y="1378440"/>
                <a:ext cx="1897920" cy="1601280"/>
                <a:chOff x="1600200" y="1378440"/>
                <a:chExt cx="1897920" cy="160128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1600200" y="145584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2152080" y="1378440"/>
                  <a:ext cx="959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och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00200" y="183672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7" name=""/>
              <p:cNvSpPr/>
              <p:nvPr/>
            </p:nvSpPr>
            <p:spPr>
              <a:xfrm>
                <a:off x="1600200" y="22176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00200" y="25988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6140520" y="1378440"/>
              <a:ext cx="1898280" cy="1601280"/>
              <a:chOff x="6140520" y="1378440"/>
              <a:chExt cx="1898280" cy="1601280"/>
            </a:xfrm>
          </p:grpSpPr>
          <p:grpSp>
            <p:nvGrpSpPr>
              <p:cNvPr id="1120" name=""/>
              <p:cNvGrpSpPr/>
              <p:nvPr/>
            </p:nvGrpSpPr>
            <p:grpSpPr>
              <a:xfrm>
                <a:off x="6140520" y="1378440"/>
                <a:ext cx="1897920" cy="1601280"/>
                <a:chOff x="6140520" y="1378440"/>
                <a:chExt cx="1897920" cy="160128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6140520" y="145584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6692400" y="1378440"/>
                  <a:ext cx="959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Rue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140520" y="183672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4" name=""/>
              <p:cNvSpPr/>
              <p:nvPr/>
            </p:nvSpPr>
            <p:spPr>
              <a:xfrm>
                <a:off x="6140520" y="221760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140520" y="259884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3498840" y="2370240"/>
              <a:ext cx="264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97720" y="236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498840" y="2141640"/>
              <a:ext cx="573120" cy="4521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24480" y="259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6227640" y="3377160"/>
              <a:ext cx="1898280" cy="1601280"/>
              <a:chOff x="6227640" y="3377160"/>
              <a:chExt cx="1898280" cy="160128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6227640" y="3377160"/>
                <a:ext cx="1897920" cy="1601280"/>
                <a:chOff x="6227640" y="3377160"/>
                <a:chExt cx="1897920" cy="160128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227640" y="3454560"/>
                  <a:ext cx="1897920" cy="152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787080" y="3377160"/>
                  <a:ext cx="94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o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27640" y="3835440"/>
                  <a:ext cx="18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" name=""/>
              <p:cNvSpPr/>
              <p:nvPr/>
            </p:nvSpPr>
            <p:spPr>
              <a:xfrm>
                <a:off x="6227640" y="421632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7640" y="4597560"/>
                <a:ext cx="18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4121280" y="2370240"/>
              <a:ext cx="210636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775480" y="352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77520" y="272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mposición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70A-5C32-4878-8C6D-E4DD7FE2638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5960" y="290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Del Análisis al Diseñ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parecen las clases de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trones de 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ructuras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r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92F-D558-44F8-9542-86FB9F7E8A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722160" y="3106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Clases Estructuradas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1506600" y="1490760"/>
            <a:ext cx="7172280" cy="440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74C-ED05-48F9-A652-1CE5BF8FE3D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30080" y="2836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Clases Estructuradas: 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>
            <a:off x="1093680" y="1922400"/>
            <a:ext cx="7815240" cy="416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93680" y="2278080"/>
            <a:ext cx="783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00680" y="1925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347840" y="2938320"/>
            <a:ext cx="2438280" cy="10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347840" y="320976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29120" y="2916360"/>
            <a:ext cx="23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udiante: Prestatario [0..*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539720" y="3338640"/>
            <a:ext cx="2058120" cy="523800"/>
            <a:chOff x="1539720" y="3338640"/>
            <a:chExt cx="2058120" cy="523800"/>
          </a:xfrm>
        </p:grpSpPr>
        <p:sp>
          <p:nvSpPr>
            <p:cNvPr id="1150" name=""/>
            <p:cNvSpPr/>
            <p:nvPr/>
          </p:nvSpPr>
          <p:spPr>
            <a:xfrm>
              <a:off x="1539720" y="3338640"/>
              <a:ext cx="1976400" cy="523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591200" y="3495240"/>
              <a:ext cx="200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restamoEstud: Prestamo  [0..4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6164280" y="2963880"/>
            <a:ext cx="2438280" cy="10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164280" y="32353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146280" y="294156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sonal: Prestatario [0..*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6391440" y="3373560"/>
            <a:ext cx="2065680" cy="523800"/>
            <a:chOff x="6391440" y="3373560"/>
            <a:chExt cx="2065680" cy="523800"/>
          </a:xfrm>
        </p:grpSpPr>
        <p:sp>
          <p:nvSpPr>
            <p:cNvPr id="1156" name=""/>
            <p:cNvSpPr/>
            <p:nvPr/>
          </p:nvSpPr>
          <p:spPr>
            <a:xfrm>
              <a:off x="6391440" y="3373560"/>
              <a:ext cx="1974960" cy="523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442920" y="3530160"/>
              <a:ext cx="201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restamoPerso: Prestamo  [0..9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4344840" y="3294000"/>
            <a:ext cx="103356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437000" y="340344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: [0..*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514680" y="3591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386320" y="3573360"/>
            <a:ext cx="10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84440" y="337644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143240" y="3386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338440" y="336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110280" y="339264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024440" y="4335480"/>
            <a:ext cx="19126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259160" y="444492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Bibliotecario [1..*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584520" y="5173560"/>
            <a:ext cx="302256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898800" y="5351400"/>
            <a:ext cx="25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blioConectado:Bibliotecario [0..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468520" y="1343160"/>
            <a:ext cx="54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 interna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680-B31F-40FC-904A-A64CE1164F1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730080" y="2836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Diagrama compuesto de estructura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2" name=""/>
          <p:cNvSpPr/>
          <p:nvPr/>
        </p:nvSpPr>
        <p:spPr>
          <a:xfrm>
            <a:off x="1143000" y="1778040"/>
            <a:ext cx="7831080" cy="43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143000" y="2133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65400" y="17654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397160" y="2793960"/>
            <a:ext cx="2438280" cy="10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397160" y="30654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378080" y="2771640"/>
            <a:ext cx="23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udiante: Prestatario [0..*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1589040" y="3193920"/>
            <a:ext cx="2058120" cy="524160"/>
            <a:chOff x="1589040" y="3193920"/>
            <a:chExt cx="2058120" cy="524160"/>
          </a:xfrm>
        </p:grpSpPr>
        <p:sp>
          <p:nvSpPr>
            <p:cNvPr id="1179" name=""/>
            <p:cNvSpPr/>
            <p:nvPr/>
          </p:nvSpPr>
          <p:spPr>
            <a:xfrm>
              <a:off x="1589040" y="3193920"/>
              <a:ext cx="1976400" cy="52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640520" y="3350520"/>
              <a:ext cx="200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restamoEstud: Prestamo  [0..4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6213600" y="2819520"/>
            <a:ext cx="2438280" cy="104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213600" y="309096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195600" y="279720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sonal: Prestatario [0..*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6440400" y="3228840"/>
            <a:ext cx="2065680" cy="524160"/>
            <a:chOff x="6440400" y="3228840"/>
            <a:chExt cx="2065680" cy="524160"/>
          </a:xfrm>
        </p:grpSpPr>
        <p:sp>
          <p:nvSpPr>
            <p:cNvPr id="1185" name=""/>
            <p:cNvSpPr/>
            <p:nvPr/>
          </p:nvSpPr>
          <p:spPr>
            <a:xfrm>
              <a:off x="6440400" y="3228840"/>
              <a:ext cx="1975320" cy="52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491880" y="3385440"/>
              <a:ext cx="201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restamoPerso: Prestamo  [0..9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4394160" y="3149640"/>
            <a:ext cx="103356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468680" y="325908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: [0..*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64000" y="34466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435640" y="3429000"/>
            <a:ext cx="10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33760" y="323208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92560" y="3241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87760" y="322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59600" y="324792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073400" y="4191120"/>
            <a:ext cx="1913040" cy="5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308120" y="43005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Bibliotecario [1..*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616200" y="5207040"/>
            <a:ext cx="302256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930840" y="5384880"/>
            <a:ext cx="25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blioConectado:Bibliotecario [0..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2717640" y="2039400"/>
            <a:ext cx="144720" cy="9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2852640" y="177804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E08-A5F6-4F6D-9940-CDB2C1C7545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730080" y="255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09640" y="1617480"/>
            <a:ext cx="84852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Re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ón entre una especificación y su imple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ecta un elemento de modelado (p.e., una clase) con otro elemento (p.e., una interfaz), que especifica su comportamiento pero no su imple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387360" y="3313080"/>
            <a:ext cx="8505720" cy="354492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 flipV="1">
            <a:off x="4295880" y="5949720"/>
            <a:ext cx="2068560" cy="33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4309920" y="5225760"/>
            <a:ext cx="2006640" cy="10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C00-3D9F-44F2-91C7-DDED3B0AB97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30080" y="255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 de clas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809280" y="1617840"/>
            <a:ext cx="8085240" cy="26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Notación “</a:t>
            </a:r>
            <a:r>
              <a:rPr b="1" i="1" lang="es-ES_tradnl" sz="2800" spc="-1" strike="noStrike">
                <a:solidFill>
                  <a:srgbClr val="000099"/>
                </a:solidFill>
                <a:latin typeface="Times New Roman"/>
              </a:rPr>
              <a:t>Lollipop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lación de dependencia de un clasificador (una clase, un componente) de una interfaz se muestra mediante un semi-círculo abierto, que significa “interfaz requeri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lación de realización de las interfaces implementadas en una clase o en un componente se muestra con un círculo, que significa “interfaz proporcion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1144440" y="5554800"/>
            <a:ext cx="3257640" cy="1036440"/>
          </a:xfrm>
          <a:prstGeom prst="rect">
            <a:avLst/>
          </a:prstGeom>
          <a:ln w="0">
            <a:noFill/>
          </a:ln>
        </p:spPr>
      </p:pic>
      <p:grpSp>
        <p:nvGrpSpPr>
          <p:cNvPr id="1209" name=""/>
          <p:cNvGrpSpPr/>
          <p:nvPr/>
        </p:nvGrpSpPr>
        <p:grpSpPr>
          <a:xfrm>
            <a:off x="1585800" y="4792680"/>
            <a:ext cx="429840" cy="450720"/>
            <a:chOff x="1585800" y="4792680"/>
            <a:chExt cx="429840" cy="450720"/>
          </a:xfrm>
        </p:grpSpPr>
        <p:sp>
          <p:nvSpPr>
            <p:cNvPr id="1210" name=""/>
            <p:cNvSpPr/>
            <p:nvPr/>
          </p:nvSpPr>
          <p:spPr>
            <a:xfrm>
              <a:off x="1722600" y="4833720"/>
              <a:ext cx="293040" cy="2836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85800" y="4792680"/>
              <a:ext cx="28404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2008080" y="4992840"/>
            <a:ext cx="119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160" y="473724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terfa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requer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440" y="554688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terfa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proporcio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2"/>
          <a:stretch/>
        </p:blipFill>
        <p:spPr>
          <a:xfrm>
            <a:off x="3111480" y="4748040"/>
            <a:ext cx="911160" cy="5335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3"/>
          <a:stretch/>
        </p:blipFill>
        <p:spPr>
          <a:xfrm>
            <a:off x="4371840" y="3917880"/>
            <a:ext cx="5534280" cy="247644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1378080" y="51624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CE8-D168-4E25-A03B-E23240592D0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730080" y="255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 de clas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2033640" y="1284120"/>
            <a:ext cx="6048360" cy="557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C39-3C1C-4A45-933A-8D0EF31D22F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aquet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755280" y="1428480"/>
            <a:ext cx="842004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emento organiz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de agrupar elementos de cualquier ti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Un elemento es exclusivo a un paque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liminamos el paquete se elimina el ele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lece un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spacio de nombr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sibilidad de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anid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aque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1604880" y="4564080"/>
            <a:ext cx="1971720" cy="141444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2"/>
          <a:stretch/>
        </p:blipFill>
        <p:spPr>
          <a:xfrm>
            <a:off x="5635800" y="4151160"/>
            <a:ext cx="220320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62E-B039-4BAA-B5CA-14B5D198CD5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725040" y="1533240"/>
            <a:ext cx="849492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Depen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mportación/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parte públ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un paquete son sus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xporta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partes públicas son visibles en los paquetes que importan al paquete que los conti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un paquete A importa a otro B, todos los elementos públicos de B son añadidos a A y se accede a ellos sin calificar su nom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import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e representa mediante una relación de dependencia estereotipada co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&lt;import&gt;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relación de acceso es igual que la importación pero no se pueden re-exportar los elementos añad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relación de importación es transitiva, mientras que la relación de acceso no lo 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acces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e representa mediante una relación de dependencia estereotipada co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&lt;access&gt;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FBD-28C2-4B54-801F-222499D37C4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1935000" y="2112840"/>
            <a:ext cx="2079720" cy="970200"/>
          </a:xfrm>
          <a:prstGeom prst="rect">
            <a:avLst/>
          </a:prstGeom>
          <a:solidFill>
            <a:srgbClr val="ffffcc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935000" y="1843200"/>
            <a:ext cx="833760" cy="269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935000" y="1843200"/>
            <a:ext cx="833760" cy="26964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653920" y="215100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108160" y="2406600"/>
            <a:ext cx="1749600" cy="180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10320" y="2432160"/>
            <a:ext cx="1157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BaseDeDa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111400" y="2637000"/>
            <a:ext cx="155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ServicioDeRegis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334120" y="1754280"/>
            <a:ext cx="2666880" cy="1380960"/>
          </a:xfrm>
          <a:prstGeom prst="rect">
            <a:avLst/>
          </a:prstGeom>
          <a:solidFill>
            <a:srgbClr val="ffffcc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348160" y="1486080"/>
            <a:ext cx="1060560" cy="280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335560" y="1473120"/>
            <a:ext cx="1060560" cy="28116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396840" y="1792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505480" y="2048040"/>
            <a:ext cx="2338200" cy="144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09440" y="2073240"/>
            <a:ext cx="144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FormularioPedi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11240" y="2278080"/>
            <a:ext cx="205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FormularioDeSegu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0560" y="249552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- Pedi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008080" y="5256360"/>
            <a:ext cx="1749600" cy="1406520"/>
          </a:xfrm>
          <a:prstGeom prst="rect">
            <a:avLst/>
          </a:prstGeom>
          <a:solidFill>
            <a:srgbClr val="ffffcc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022480" y="4987800"/>
            <a:ext cx="703080" cy="28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009880" y="4975200"/>
            <a:ext cx="703080" cy="28116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738520" y="529416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79800" y="5549760"/>
            <a:ext cx="1419120" cy="180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181240" y="5589720"/>
            <a:ext cx="75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Venta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182680" y="5792760"/>
            <a:ext cx="928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Formula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182320" y="5997600"/>
            <a:ext cx="122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# GestorEven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971880" y="3876840"/>
            <a:ext cx="1778040" cy="95868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986280" y="3608280"/>
            <a:ext cx="703080" cy="268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73680" y="3608280"/>
            <a:ext cx="703080" cy="26856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18360" y="391464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143240" y="4170240"/>
            <a:ext cx="1449360" cy="180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145760" y="4195800"/>
            <a:ext cx="124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ReglasPedid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145760" y="4400640"/>
            <a:ext cx="1093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GUI:Venta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5439960" y="3135240"/>
            <a:ext cx="568440" cy="565200"/>
          </a:xfrm>
          <a:prstGeom prst="line">
            <a:avLst/>
          </a:prstGeom>
          <a:ln w="158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5430960" y="3608280"/>
            <a:ext cx="19980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423040" y="3506760"/>
            <a:ext cx="6984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3770280" y="4848120"/>
            <a:ext cx="488880" cy="39528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3770280" y="5180040"/>
            <a:ext cx="2160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3770280" y="5064120"/>
            <a:ext cx="1015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998320" y="31924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&lt;&lt;import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159800" y="50450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&lt;&lt;import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pendencia de paquet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47A-0276-48FF-96B6-62460C27A58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pendencia de paquet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914400" y="2035080"/>
            <a:ext cx="7786800" cy="280368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2777760" y="2735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&lt;access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586480" y="310824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&lt;import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624400" y="35514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&lt;import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DDB-41B1-4747-80C9-D9276E88409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19360" y="205920"/>
            <a:ext cx="32594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o del Análisi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65200" y="577800"/>
            <a:ext cx="6659640" cy="63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EFC-A53C-48DD-8456-7C624C720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725040" y="1533240"/>
            <a:ext cx="849492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Ge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generalización entre paquetes es muy parecida a la generalización entre cl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aquete especializado puede usarse donde quiera utilizarse un paquete más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835-771D-479A-A12D-7514275ED88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730080" y="255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Generalización de paquet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3" name=""/>
          <p:cNvSpPr/>
          <p:nvPr/>
        </p:nvSpPr>
        <p:spPr>
          <a:xfrm>
            <a:off x="1862280" y="4354560"/>
            <a:ext cx="1989000" cy="128916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862280" y="4103640"/>
            <a:ext cx="618840" cy="2620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862280" y="4103640"/>
            <a:ext cx="618840" cy="26208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57480" y="4389480"/>
            <a:ext cx="89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Windows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016000" y="4629240"/>
            <a:ext cx="1263600" cy="144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013120" y="4664160"/>
            <a:ext cx="101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+ GUI:Ven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014560" y="48560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+ Formul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012760" y="5046840"/>
            <a:ext cx="145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# GUI:GestorEv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16000" y="5235480"/>
            <a:ext cx="69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+ VB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25720" y="2108160"/>
            <a:ext cx="1749600" cy="119556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40120" y="1839960"/>
            <a:ext cx="703440" cy="280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840120" y="1839960"/>
            <a:ext cx="703440" cy="280800"/>
          </a:xfrm>
          <a:prstGeom prst="rect">
            <a:avLst/>
          </a:pr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569480" y="214632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998880" y="2401920"/>
            <a:ext cx="1419120" cy="144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032360" y="2441520"/>
            <a:ext cx="75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Venta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040640" y="2644920"/>
            <a:ext cx="928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+ Formula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001760" y="2849400"/>
            <a:ext cx="122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# GestorEven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 flipV="1">
            <a:off x="5474880" y="3490560"/>
            <a:ext cx="754200" cy="74772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15040" y="3352680"/>
            <a:ext cx="345960" cy="32076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0" y="0"/>
                </a:moveTo>
                <a:lnTo>
                  <a:pt x="202" y="101"/>
                </a:lnTo>
                <a:lnTo>
                  <a:pt x="88" y="2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3543480" y="3514320"/>
            <a:ext cx="645840" cy="74772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035600" y="3341520"/>
            <a:ext cx="331560" cy="320760"/>
          </a:xfrm>
          <a:custGeom>
            <a:avLst/>
            <a:gdLst/>
            <a:ahLst/>
            <a:rect l="l" t="t" r="r" b="b"/>
            <a:pathLst>
              <a:path w="193" h="202">
                <a:moveTo>
                  <a:pt x="193" y="0"/>
                </a:moveTo>
                <a:lnTo>
                  <a:pt x="123" y="202"/>
                </a:lnTo>
                <a:lnTo>
                  <a:pt x="0" y="118"/>
                </a:lnTo>
                <a:lnTo>
                  <a:pt x="193" y="0"/>
                </a:lnTo>
                <a:close/>
              </a:path>
            </a:pathLst>
          </a:custGeom>
          <a:solidFill>
            <a:srgbClr val="ffffff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70440" y="4687920"/>
            <a:ext cx="1836720" cy="9493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770440" y="4394160"/>
            <a:ext cx="74160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70440" y="4394160"/>
            <a:ext cx="741600" cy="293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24480" y="471492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c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27B-5ED8-4AF5-B3CC-CD18E35EB99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" descr=""/>
          <p:cNvPicPr/>
          <p:nvPr/>
        </p:nvPicPr>
        <p:blipFill>
          <a:blip r:embed="rId1"/>
          <a:stretch/>
        </p:blipFill>
        <p:spPr>
          <a:xfrm>
            <a:off x="1163520" y="1373040"/>
            <a:ext cx="7515360" cy="5484960"/>
          </a:xfrm>
          <a:prstGeom prst="rect">
            <a:avLst/>
          </a:prstGeom>
          <a:ln w="0">
            <a:noFill/>
          </a:ln>
        </p:spPr>
      </p:pic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 de paquet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D8C-A0CD-47C3-BBDE-4E84D467BAF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9400" y="1501920"/>
            <a:ext cx="6828120" cy="4897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19360" y="205920"/>
            <a:ext cx="32594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o del Diseñ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AB7-DD9B-4A23-BF89-5263A6D50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8120" y="325080"/>
            <a:ext cx="89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Modelado estructural y del comportamient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720800"/>
            <a:ext cx="8218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Colaboracione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 Patrones de diseño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n una parte estructural y otra de compor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30200" y="3141720"/>
            <a:ext cx="65185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F84-FB4C-481D-BFAA-5ED516307D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12:07:21Z</dcterms:created>
  <dc:creator>MCO</dc:creator>
  <dc:description/>
  <dc:language>en-US</dc:language>
  <cp:lastModifiedBy>MCO</cp:lastModifiedBy>
  <cp:lastPrinted>2001-02-12T13:12:26Z</cp:lastPrinted>
  <dcterms:modified xsi:type="dcterms:W3CDTF">2008-12-02T16:40:18Z</dcterms:modified>
  <cp:revision>223</cp:revision>
  <dc:subject/>
  <dc:title>Modelado estructural</dc:title>
</cp:coreProperties>
</file>