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37F-B333-4D98-A9DC-082857EF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298D-FBDB-4974-BE24-861E92F5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EA5-7A0A-4617-AD1F-9E1FAC81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07F-F677-463A-9865-D7C26371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E9E-A6BE-4AF3-B798-8F788058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B812-12B9-40D0-BCC7-13CC56FC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153-98A6-45C7-9E59-11765A28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085-0EE3-4978-9F3C-FDE57DBC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A7BA-6C60-4654-ACEB-0A3837A5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E75-1292-4B5C-9F39-65EF558D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1A4-FC2D-4EDD-A78D-AEE16E8E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193-C0E8-4F3E-9E05-66C50DF9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771A-901E-47F5-982D-F29AFA3F2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28600"/>
            <a:ext cx="4724640" cy="624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380880"/>
            <a:ext cx="25146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ayTi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3505320"/>
            <a:ext cx="25146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5029200"/>
            <a:ext cx="25146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600" y="4796280"/>
            <a:ext cx="1652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on-re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actor" descr=""/>
          <p:cNvPicPr/>
          <p:nvPr/>
        </p:nvPicPr>
        <p:blipFill>
          <a:blip r:embed="rId1"/>
          <a:stretch/>
        </p:blipFill>
        <p:spPr>
          <a:xfrm>
            <a:off x="533520" y="3718080"/>
            <a:ext cx="6858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actor" descr=""/>
          <p:cNvPicPr/>
          <p:nvPr/>
        </p:nvPicPr>
        <p:blipFill>
          <a:blip r:embed="rId2"/>
          <a:stretch/>
        </p:blipFill>
        <p:spPr>
          <a:xfrm>
            <a:off x="7696080" y="3718080"/>
            <a:ext cx="68580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108920" y="4796280"/>
            <a:ext cx="1808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nthlyTi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27040" y="5926680"/>
            <a:ext cx="19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arking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1905120"/>
            <a:ext cx="25146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nthlyTi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1148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114800"/>
            <a:ext cx="129528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181480" y="4114800"/>
            <a:ext cx="236232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0960" y="19040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ash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ctor" descr=""/>
          <p:cNvPicPr/>
          <p:nvPr/>
        </p:nvPicPr>
        <p:blipFill>
          <a:blip r:embed="rId3"/>
          <a:stretch/>
        </p:blipFill>
        <p:spPr>
          <a:xfrm>
            <a:off x="533520" y="762120"/>
            <a:ext cx="68580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181480" y="41148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18880" y="19040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ash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ctor" descr=""/>
          <p:cNvPicPr/>
          <p:nvPr/>
        </p:nvPicPr>
        <p:blipFill>
          <a:blip r:embed="rId4"/>
          <a:stretch/>
        </p:blipFill>
        <p:spPr>
          <a:xfrm>
            <a:off x="7561440" y="762120"/>
            <a:ext cx="685800" cy="114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181480" y="1219320"/>
            <a:ext cx="22860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0010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1219320"/>
            <a:ext cx="129528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371600" y="990360"/>
            <a:ext cx="1295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3808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276720" y="3049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ticket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TicketR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76720" y="26668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arking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391520" y="26668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76720" y="50292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exit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44560" y="105480"/>
            <a:ext cx="12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: InsertTick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92920" y="1370880"/>
            <a:ext cx="28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: ValidateTicket (location, number, 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26560" y="223920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1: IsValid (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280" y="98964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actor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988880" y="26964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98680" y="3829680"/>
            <a:ext cx="24879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2: OpenGate (location, date,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4: CloseGat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6094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81080" y="4572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914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48320" y="29718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32767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14800" y="1143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15000" y="26208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38680" y="2773440"/>
            <a:ext cx="990360" cy="152280"/>
            <a:chOff x="5638680" y="2773440"/>
            <a:chExt cx="990360" cy="152280"/>
          </a:xfrm>
        </p:grpSpPr>
        <p:sp>
          <p:nvSpPr>
            <p:cNvPr id="405" name=""/>
            <p:cNvSpPr/>
            <p:nvPr/>
          </p:nvSpPr>
          <p:spPr>
            <a:xfrm>
              <a:off x="6476760" y="2773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5638680" y="2849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114800" y="37339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705360" y="6019920"/>
            <a:ext cx="2210040" cy="609480"/>
            <a:chOff x="6705360" y="6019920"/>
            <a:chExt cx="2210040" cy="609480"/>
          </a:xfrm>
        </p:grpSpPr>
        <p:sp>
          <p:nvSpPr>
            <p:cNvPr id="409" name=""/>
            <p:cNvSpPr/>
            <p:nvPr/>
          </p:nvSpPr>
          <p:spPr>
            <a:xfrm flipH="1">
              <a:off x="6705000" y="6019920"/>
              <a:ext cx="2202840" cy="6094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xitTheGar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se ca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471520" y="614232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8471520" y="6019920"/>
              <a:ext cx="0" cy="12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5715000" y="3124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20360" y="3153600"/>
            <a:ext cx="18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3: DriverLeft (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 flipH="1">
            <a:off x="1447920" y="7938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5105160" y="609840"/>
            <a:ext cx="686160" cy="533520"/>
            <a:chOff x="5105160" y="609840"/>
            <a:chExt cx="686160" cy="533520"/>
          </a:xfrm>
        </p:grpSpPr>
        <p:sp>
          <p:nvSpPr>
            <p:cNvPr id="416" name=""/>
            <p:cNvSpPr/>
            <p:nvPr/>
          </p:nvSpPr>
          <p:spPr>
            <a:xfrm>
              <a:off x="5105520" y="6098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90960" y="610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105160" y="1143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5943600" y="609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83640" y="22788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«self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28195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arking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33920" y="4952880"/>
            <a:ext cx="16761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n-reserved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Non-reserved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45640" y="227880"/>
            <a:ext cx="183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: GiveMoneyToCashier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90240" y="190440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: PayTick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71760" y="71532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2: WaitForChang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314840" y="5790960"/>
            <a:ext cx="1600560" cy="838440"/>
            <a:chOff x="7314840" y="5790960"/>
            <a:chExt cx="1600560" cy="838440"/>
          </a:xfrm>
        </p:grpSpPr>
        <p:sp>
          <p:nvSpPr>
            <p:cNvPr id="427" name=""/>
            <p:cNvSpPr/>
            <p:nvPr/>
          </p:nvSpPr>
          <p:spPr>
            <a:xfrm flipH="1">
              <a:off x="7314480" y="5791320"/>
              <a:ext cx="1595160" cy="8380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ayTi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se ca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593920" y="5959800"/>
              <a:ext cx="32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8593920" y="579096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4883760" y="4037760"/>
            <a:ext cx="203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1: «create» (time, 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99120" y="106596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2.1: ReturnChangeAndTick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038480" y="10976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:Cash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actor" descr=""/>
          <p:cNvPicPr/>
          <p:nvPr/>
        </p:nvPicPr>
        <p:blipFill>
          <a:blip r:embed="rId1"/>
          <a:stretch/>
        </p:blipFill>
        <p:spPr>
          <a:xfrm>
            <a:off x="4267080" y="3366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52280" y="109728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n-reserved Ticket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actor" descr=""/>
          <p:cNvPicPr/>
          <p:nvPr/>
        </p:nvPicPr>
        <p:blipFill>
          <a:blip r:embed="rId2"/>
          <a:stretch/>
        </p:blipFill>
        <p:spPr>
          <a:xfrm>
            <a:off x="685800" y="3366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4572000" y="1341360"/>
            <a:ext cx="0" cy="147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4290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722840" y="167472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22840" y="380844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2209320" y="9907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0" y="609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37440" y="513468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{ new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 flipH="1">
            <a:off x="1447920" y="7938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5105160" y="609840"/>
            <a:ext cx="686160" cy="533520"/>
            <a:chOff x="5105160" y="609840"/>
            <a:chExt cx="686160" cy="533520"/>
          </a:xfrm>
        </p:grpSpPr>
        <p:sp>
          <p:nvSpPr>
            <p:cNvPr id="445" name=""/>
            <p:cNvSpPr/>
            <p:nvPr/>
          </p:nvSpPr>
          <p:spPr>
            <a:xfrm>
              <a:off x="5105520" y="6098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90960" y="610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5105160" y="1143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943600" y="609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83640" y="22788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«self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28195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arking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9880" y="4952880"/>
            <a:ext cx="15242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monthly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Monthly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25480" y="22788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: RequestMonthlyTick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39840" y="190440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: NewMonthlyTick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23880" y="715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2.1: WaitForChang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68200" y="3840840"/>
            <a:ext cx="36460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2 [available-spaces &gt; 0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erved-spaces + 1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0.4 * maximum-number-space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]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«create» (date, 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675440" y="1065960"/>
            <a:ext cx="24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2.1.1: ReturnChangeAndTick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38480" y="10976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:Cash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actor" descr=""/>
          <p:cNvPicPr/>
          <p:nvPr/>
        </p:nvPicPr>
        <p:blipFill>
          <a:blip r:embed="rId1"/>
          <a:stretch/>
        </p:blipFill>
        <p:spPr>
          <a:xfrm>
            <a:off x="4267080" y="3366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52280" y="113220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month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Ticket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actor" descr=""/>
          <p:cNvPicPr/>
          <p:nvPr/>
        </p:nvPicPr>
        <p:blipFill>
          <a:blip r:embed="rId2"/>
          <a:stretch/>
        </p:blipFill>
        <p:spPr>
          <a:xfrm>
            <a:off x="685800" y="3366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4570560" y="1335240"/>
            <a:ext cx="0" cy="14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72000" y="34290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167472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22840" y="380844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209320" y="9907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609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934320" y="5790960"/>
            <a:ext cx="1980720" cy="838440"/>
            <a:chOff x="6934320" y="5790960"/>
            <a:chExt cx="1980720" cy="838440"/>
          </a:xfrm>
        </p:grpSpPr>
        <p:sp>
          <p:nvSpPr>
            <p:cNvPr id="468" name=""/>
            <p:cNvSpPr/>
            <p:nvPr/>
          </p:nvSpPr>
          <p:spPr>
            <a:xfrm flipH="1">
              <a:off x="6934320" y="5791320"/>
              <a:ext cx="1974960" cy="8380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uyMonthlyTi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se ca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517240" y="5959800"/>
              <a:ext cx="39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8517240" y="579096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6102000" y="3001320"/>
            <a:ext cx="21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1: CheckAvailableSpaces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5257440" y="2895480"/>
            <a:ext cx="609840" cy="457200"/>
            <a:chOff x="5257440" y="2895480"/>
            <a:chExt cx="609840" cy="457200"/>
          </a:xfrm>
        </p:grpSpPr>
        <p:sp>
          <p:nvSpPr>
            <p:cNvPr id="473" name=""/>
            <p:cNvSpPr/>
            <p:nvPr/>
          </p:nvSpPr>
          <p:spPr>
            <a:xfrm>
              <a:off x="5257800" y="28954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67280" y="2895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33526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5259960" y="25902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«self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19920" y="289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990360" y="31240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988920" y="1787040"/>
            <a:ext cx="0" cy="133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74600" y="3337560"/>
            <a:ext cx="35733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3 [available-spaces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0 o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erved-spaces + 1 &gt; 0.4 * maximum-number-space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playErrorMessag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057400" y="32767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920" y="513468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{ new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80880" y="9144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2819520" y="914400"/>
            <a:ext cx="2438280" cy="837720"/>
            <a:chOff x="2819520" y="914400"/>
            <a:chExt cx="2438280" cy="837720"/>
          </a:xfrm>
        </p:grpSpPr>
        <p:sp>
          <p:nvSpPr>
            <p:cNvPr id="485" name=""/>
            <p:cNvSpPr/>
            <p:nvPr/>
          </p:nvSpPr>
          <p:spPr>
            <a:xfrm>
              <a:off x="2819520" y="914400"/>
              <a:ext cx="2438280" cy="837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67680" y="112392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Val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2971800" y="1355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106668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90960" y="17524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1840" y="471960"/>
            <a:ext cx="199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yTicket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/ «create» (time, numb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74920" y="1041840"/>
            <a:ext cx="247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sValid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tiempo-elapsed &lt;= 15 minute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257800" y="1066680"/>
            <a:ext cx="685440" cy="533520"/>
            <a:chOff x="5257800" y="1066680"/>
            <a:chExt cx="685440" cy="533520"/>
          </a:xfrm>
        </p:grpSpPr>
        <p:sp>
          <p:nvSpPr>
            <p:cNvPr id="493" name=""/>
            <p:cNvSpPr/>
            <p:nvPr/>
          </p:nvSpPr>
          <p:spPr>
            <a:xfrm>
              <a:off x="5257800" y="1066680"/>
              <a:ext cx="68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43240" y="10666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5257800" y="1600200"/>
              <a:ext cx="68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7238880" y="6172200"/>
            <a:ext cx="1828440" cy="609480"/>
            <a:chOff x="7238880" y="6172200"/>
            <a:chExt cx="1828440" cy="609480"/>
          </a:xfrm>
        </p:grpSpPr>
        <p:sp>
          <p:nvSpPr>
            <p:cNvPr id="497" name=""/>
            <p:cNvSpPr/>
            <p:nvPr/>
          </p:nvSpPr>
          <p:spPr>
            <a:xfrm flipH="1">
              <a:off x="7238880" y="6172200"/>
              <a:ext cx="1823040" cy="6094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Non-reservedTi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700120" y="6294600"/>
              <a:ext cx="36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8700120" y="6172200"/>
              <a:ext cx="0" cy="12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380880" y="1447920"/>
            <a:ext cx="304920" cy="304560"/>
            <a:chOff x="380880" y="1447920"/>
            <a:chExt cx="304920" cy="304560"/>
          </a:xfrm>
        </p:grpSpPr>
        <p:sp>
          <p:nvSpPr>
            <p:cNvPr id="501" name=""/>
            <p:cNvSpPr/>
            <p:nvPr/>
          </p:nvSpPr>
          <p:spPr>
            <a:xfrm>
              <a:off x="380880" y="1447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2800" y="1523880"/>
              <a:ext cx="174600" cy="173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819520" y="4724280"/>
            <a:ext cx="2438280" cy="838080"/>
            <a:chOff x="2819520" y="4724280"/>
            <a:chExt cx="2438280" cy="838080"/>
          </a:xfrm>
        </p:grpSpPr>
        <p:sp>
          <p:nvSpPr>
            <p:cNvPr id="504" name=""/>
            <p:cNvSpPr/>
            <p:nvPr/>
          </p:nvSpPr>
          <p:spPr>
            <a:xfrm>
              <a:off x="2819520" y="4724280"/>
              <a:ext cx="243828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29800" y="493416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xp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 flipH="1">
            <a:off x="685440" y="16002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961880" y="298656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sValid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time-elapsed &gt; 15 minute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200400" y="175212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4040" y="312300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yTicket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3320" y="1218240"/>
            <a:ext cx="110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riverLeft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80880" y="10666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819520" y="838080"/>
            <a:ext cx="2438280" cy="838080"/>
            <a:chOff x="2819520" y="838080"/>
            <a:chExt cx="2438280" cy="838080"/>
          </a:xfrm>
        </p:grpSpPr>
        <p:sp>
          <p:nvSpPr>
            <p:cNvPr id="513" name=""/>
            <p:cNvSpPr/>
            <p:nvPr/>
          </p:nvSpPr>
          <p:spPr>
            <a:xfrm>
              <a:off x="2819520" y="838080"/>
              <a:ext cx="243828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67680" y="104796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Val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609480" y="121932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167652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8880" y="335160"/>
            <a:ext cx="418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ewMonthlyTicket () [available-spaces &gt; 0 an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served-spaces +  1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0.4 * maximum-number-space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/ «create» (date, numb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978520" y="965520"/>
            <a:ext cx="169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sValid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days-elapsed &lt;= 3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5257800" y="990720"/>
            <a:ext cx="685440" cy="533160"/>
            <a:chOff x="5257800" y="990720"/>
            <a:chExt cx="685440" cy="533160"/>
          </a:xfrm>
        </p:grpSpPr>
        <p:sp>
          <p:nvSpPr>
            <p:cNvPr id="520" name=""/>
            <p:cNvSpPr/>
            <p:nvPr/>
          </p:nvSpPr>
          <p:spPr>
            <a:xfrm>
              <a:off x="5257800" y="990720"/>
              <a:ext cx="68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943240" y="990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5257800" y="1523880"/>
              <a:ext cx="68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7238880" y="6172200"/>
            <a:ext cx="1828440" cy="609480"/>
            <a:chOff x="7238880" y="6172200"/>
            <a:chExt cx="1828440" cy="609480"/>
          </a:xfrm>
        </p:grpSpPr>
        <p:sp>
          <p:nvSpPr>
            <p:cNvPr id="524" name=""/>
            <p:cNvSpPr/>
            <p:nvPr/>
          </p:nvSpPr>
          <p:spPr>
            <a:xfrm flipH="1">
              <a:off x="7238880" y="6172200"/>
              <a:ext cx="1823040" cy="6094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onthlyTi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700120" y="6294600"/>
              <a:ext cx="36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700120" y="6172200"/>
              <a:ext cx="0" cy="12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380880" y="4952880"/>
            <a:ext cx="304920" cy="304560"/>
            <a:chOff x="380880" y="4952880"/>
            <a:chExt cx="304920" cy="304560"/>
          </a:xfrm>
        </p:grpSpPr>
        <p:sp>
          <p:nvSpPr>
            <p:cNvPr id="528" name=""/>
            <p:cNvSpPr/>
            <p:nvPr/>
          </p:nvSpPr>
          <p:spPr>
            <a:xfrm>
              <a:off x="380880" y="495288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2800" y="5028840"/>
              <a:ext cx="174600" cy="173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819520" y="4648320"/>
            <a:ext cx="2438280" cy="837720"/>
            <a:chOff x="2819520" y="4648320"/>
            <a:chExt cx="2438280" cy="837720"/>
          </a:xfrm>
        </p:grpSpPr>
        <p:sp>
          <p:nvSpPr>
            <p:cNvPr id="531" name=""/>
            <p:cNvSpPr/>
            <p:nvPr/>
          </p:nvSpPr>
          <p:spPr>
            <a:xfrm>
              <a:off x="2819520" y="4648320"/>
              <a:ext cx="2438280" cy="837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29800" y="485784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xp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 flipH="1">
            <a:off x="685440" y="5105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1920" y="2779920"/>
            <a:ext cx="159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sValid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days-elapsed &gt; 3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80880" y="762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819520" y="457200"/>
            <a:ext cx="2438280" cy="837720"/>
            <a:chOff x="2819520" y="457200"/>
            <a:chExt cx="2438280" cy="837720"/>
          </a:xfrm>
        </p:grpSpPr>
        <p:sp>
          <p:nvSpPr>
            <p:cNvPr id="537" name=""/>
            <p:cNvSpPr/>
            <p:nvPr/>
          </p:nvSpPr>
          <p:spPr>
            <a:xfrm>
              <a:off x="2819520" y="457200"/>
              <a:ext cx="2438280" cy="837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22520" y="66672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Vacanc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2971800" y="898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91440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90960" y="12952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78880" y="69120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available-spaces &gt; 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5257800" y="609480"/>
            <a:ext cx="685440" cy="533520"/>
            <a:chOff x="5257800" y="609480"/>
            <a:chExt cx="685440" cy="533520"/>
          </a:xfrm>
        </p:grpSpPr>
        <p:sp>
          <p:nvSpPr>
            <p:cNvPr id="544" name=""/>
            <p:cNvSpPr/>
            <p:nvPr/>
          </p:nvSpPr>
          <p:spPr>
            <a:xfrm>
              <a:off x="5257800" y="609480"/>
              <a:ext cx="68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43240" y="609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5257800" y="1143000"/>
              <a:ext cx="68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7238880" y="6172200"/>
            <a:ext cx="1828440" cy="609480"/>
            <a:chOff x="7238880" y="6172200"/>
            <a:chExt cx="1828440" cy="609480"/>
          </a:xfrm>
        </p:grpSpPr>
        <p:sp>
          <p:nvSpPr>
            <p:cNvPr id="548" name=""/>
            <p:cNvSpPr/>
            <p:nvPr/>
          </p:nvSpPr>
          <p:spPr>
            <a:xfrm flipH="1">
              <a:off x="7238880" y="6172200"/>
              <a:ext cx="1823040" cy="6094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arkingGar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700120" y="6294600"/>
              <a:ext cx="36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8700120" y="6172200"/>
              <a:ext cx="0" cy="12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2819520" y="4267080"/>
            <a:ext cx="2438280" cy="838080"/>
            <a:chOff x="2819520" y="4267080"/>
            <a:chExt cx="2438280" cy="838080"/>
          </a:xfrm>
        </p:grpSpPr>
        <p:sp>
          <p:nvSpPr>
            <p:cNvPr id="552" name=""/>
            <p:cNvSpPr/>
            <p:nvPr/>
          </p:nvSpPr>
          <p:spPr>
            <a:xfrm>
              <a:off x="2819520" y="4267080"/>
              <a:ext cx="243828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749400" y="447696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F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936680" y="2293920"/>
            <a:ext cx="4144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icketRequested () [available-spaces = 1]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ewMonthlyTicket () [available-spaces = 1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served-spaces + 1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0.4 * maximum-number-space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200400" y="129492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-11160" y="2413440"/>
            <a:ext cx="389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riverLeft ()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monthlyTicket.purchase-date — current-date &gt; 3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978880" y="45010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available-spaces &lt;= 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257800" y="4419720"/>
            <a:ext cx="685440" cy="533160"/>
            <a:chOff x="5257800" y="4419720"/>
            <a:chExt cx="685440" cy="533160"/>
          </a:xfrm>
        </p:grpSpPr>
        <p:sp>
          <p:nvSpPr>
            <p:cNvPr id="559" name=""/>
            <p:cNvSpPr/>
            <p:nvPr/>
          </p:nvSpPr>
          <p:spPr>
            <a:xfrm>
              <a:off x="5257800" y="4419720"/>
              <a:ext cx="68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43240" y="4419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5257800" y="4952880"/>
              <a:ext cx="68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28240" y="5410080"/>
            <a:ext cx="2811240" cy="1218960"/>
            <a:chOff x="228240" y="5410080"/>
            <a:chExt cx="2811240" cy="1218960"/>
          </a:xfrm>
        </p:grpSpPr>
        <p:sp>
          <p:nvSpPr>
            <p:cNvPr id="563" name=""/>
            <p:cNvSpPr/>
            <p:nvPr/>
          </p:nvSpPr>
          <p:spPr>
            <a:xfrm flipH="1">
              <a:off x="227880" y="5410080"/>
              <a:ext cx="2811240" cy="121896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476800" y="5653800"/>
              <a:ext cx="5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2680" y="5544000"/>
              <a:ext cx="26924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very morning at 12:01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ystem checks how many monthl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ickets have expired alread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2476800" y="5411160"/>
              <a:ext cx="0" cy="24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 flipV="1">
            <a:off x="1600200" y="28195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5562720" y="4226040"/>
            <a:ext cx="796320" cy="838800"/>
            <a:chOff x="5562720" y="4226040"/>
            <a:chExt cx="796320" cy="838800"/>
          </a:xfrm>
        </p:grpSpPr>
        <p:sp>
          <p:nvSpPr>
            <p:cNvPr id="65" name=""/>
            <p:cNvSpPr/>
            <p:nvPr/>
          </p:nvSpPr>
          <p:spPr>
            <a:xfrm flipV="1">
              <a:off x="5562720" y="4723920"/>
              <a:ext cx="0" cy="34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62720" y="4724280"/>
              <a:ext cx="68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30800" y="4226040"/>
              <a:ext cx="228240" cy="228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248160" y="4453920"/>
              <a:ext cx="0" cy="2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03960" y="4226040"/>
            <a:ext cx="797040" cy="838800"/>
            <a:chOff x="7203960" y="4226040"/>
            <a:chExt cx="797040" cy="838800"/>
          </a:xfrm>
        </p:grpSpPr>
        <p:sp>
          <p:nvSpPr>
            <p:cNvPr id="70" name=""/>
            <p:cNvSpPr/>
            <p:nvPr/>
          </p:nvSpPr>
          <p:spPr>
            <a:xfrm flipV="1">
              <a:off x="8001000" y="4723920"/>
              <a:ext cx="0" cy="34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315200" y="4724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203600" y="4226040"/>
              <a:ext cx="228600" cy="228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315200" y="4453920"/>
              <a:ext cx="0" cy="2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 flipH="1">
            <a:off x="1752480" y="76212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9680" y="456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..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48320" y="5029200"/>
            <a:ext cx="1828800" cy="1447920"/>
            <a:chOff x="4648320" y="5029200"/>
            <a:chExt cx="1828800" cy="1447920"/>
          </a:xfrm>
        </p:grpSpPr>
        <p:sp>
          <p:nvSpPr>
            <p:cNvPr id="77" name=""/>
            <p:cNvSpPr/>
            <p:nvPr/>
          </p:nvSpPr>
          <p:spPr>
            <a:xfrm>
              <a:off x="4648320" y="5029200"/>
              <a:ext cx="182880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16360" y="5134680"/>
              <a:ext cx="168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onthlyTi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48320" y="586764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48320" y="55627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02320" y="5942520"/>
              <a:ext cx="1622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sValid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reat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24280" y="556164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urchase-date: 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010280" y="5028120"/>
            <a:ext cx="1981080" cy="1677600"/>
            <a:chOff x="7010280" y="5028120"/>
            <a:chExt cx="1981080" cy="1677600"/>
          </a:xfrm>
        </p:grpSpPr>
        <p:sp>
          <p:nvSpPr>
            <p:cNvPr id="84" name=""/>
            <p:cNvSpPr/>
            <p:nvPr/>
          </p:nvSpPr>
          <p:spPr>
            <a:xfrm>
              <a:off x="7010280" y="5029200"/>
              <a:ext cx="1981080" cy="1676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86240" y="5028120"/>
              <a:ext cx="18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Non-reservedTicke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10280" y="586764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10280" y="533412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86240" y="589788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sValid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reat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riverLeft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534888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ime-paid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mount-paid: flo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486400" y="2589480"/>
            <a:ext cx="2666880" cy="1601640"/>
            <a:chOff x="5486400" y="2589480"/>
            <a:chExt cx="2666880" cy="1601640"/>
          </a:xfrm>
        </p:grpSpPr>
        <p:sp>
          <p:nvSpPr>
            <p:cNvPr id="91" name=""/>
            <p:cNvSpPr/>
            <p:nvPr/>
          </p:nvSpPr>
          <p:spPr>
            <a:xfrm>
              <a:off x="5486400" y="2590920"/>
              <a:ext cx="2666880" cy="160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38680" y="2589480"/>
              <a:ext cx="2438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Ti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{abstract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86400" y="34290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312408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6400" y="3427560"/>
              <a:ext cx="266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sValid () {abstract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reate () {abstract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riverLeft () {abstract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86400" y="31230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number: inte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6320" y="74880"/>
            <a:ext cx="1752480" cy="1296720"/>
            <a:chOff x="76320" y="74880"/>
            <a:chExt cx="1752480" cy="1296720"/>
          </a:xfrm>
        </p:grpSpPr>
        <p:sp>
          <p:nvSpPr>
            <p:cNvPr id="98" name=""/>
            <p:cNvSpPr/>
            <p:nvPr/>
          </p:nvSpPr>
          <p:spPr>
            <a:xfrm>
              <a:off x="76320" y="76320"/>
              <a:ext cx="1676160" cy="1295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360" y="74880"/>
              <a:ext cx="1532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Ti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ead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320" y="914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320" y="609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0320" y="989640"/>
              <a:ext cx="162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nsertTicket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280" y="6084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location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69520" y="456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562720" y="1523880"/>
            <a:ext cx="1218960" cy="1068120"/>
            <a:chOff x="5562720" y="1523880"/>
            <a:chExt cx="1218960" cy="1068120"/>
          </a:xfrm>
        </p:grpSpPr>
        <p:sp>
          <p:nvSpPr>
            <p:cNvPr id="106" name=""/>
            <p:cNvSpPr/>
            <p:nvPr/>
          </p:nvSpPr>
          <p:spPr>
            <a:xfrm>
              <a:off x="5562720" y="1523880"/>
              <a:ext cx="533160" cy="304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1676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1680" y="1676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52720" y="1827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78200" y="2284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371600" y="3809880"/>
            <a:ext cx="1523520" cy="1447920"/>
            <a:chOff x="1371600" y="3809880"/>
            <a:chExt cx="1523520" cy="1447920"/>
          </a:xfrm>
        </p:grpSpPr>
        <p:sp>
          <p:nvSpPr>
            <p:cNvPr id="112" name=""/>
            <p:cNvSpPr/>
            <p:nvPr/>
          </p:nvSpPr>
          <p:spPr>
            <a:xfrm>
              <a:off x="1371600" y="3809880"/>
              <a:ext cx="144756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39640" y="3915000"/>
              <a:ext cx="122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G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1600" y="464796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71600" y="434340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25240" y="4723200"/>
              <a:ext cx="1317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penGat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loseGat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47560" y="434232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location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829880" y="2514600"/>
            <a:ext cx="2437200" cy="1295280"/>
            <a:chOff x="1829880" y="2514600"/>
            <a:chExt cx="2437200" cy="1295280"/>
          </a:xfrm>
        </p:grpSpPr>
        <p:sp>
          <p:nvSpPr>
            <p:cNvPr id="119" name=""/>
            <p:cNvSpPr/>
            <p:nvPr/>
          </p:nvSpPr>
          <p:spPr>
            <a:xfrm rot="5400000">
              <a:off x="3848040" y="2629080"/>
              <a:ext cx="533520" cy="30456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0481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133360" y="342900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133720" y="34290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29880" y="342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12520" y="258984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..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56160"/>
            <a:ext cx="2819160" cy="2455560"/>
            <a:chOff x="2819520" y="56160"/>
            <a:chExt cx="2819160" cy="2455560"/>
          </a:xfrm>
        </p:grpSpPr>
        <p:sp>
          <p:nvSpPr>
            <p:cNvPr id="126" name=""/>
            <p:cNvSpPr/>
            <p:nvPr/>
          </p:nvSpPr>
          <p:spPr>
            <a:xfrm>
              <a:off x="2819520" y="77760"/>
              <a:ext cx="2743200" cy="243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95480" y="5616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arkingGar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19520" y="38268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520" y="1139040"/>
              <a:ext cx="2666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ValidateTicket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icketRequested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icketTaken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NewMonthlyTicket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ayTicket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heckAvailableSpaces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19520" y="382680"/>
              <a:ext cx="2819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aximum-number-spaces: inte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eserved-spaces: inte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ccupied-non-reserved-spaces: 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114912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>
            <a:off x="1676160" y="2133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7240" y="18277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..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30320" y="1600200"/>
            <a:ext cx="1546200" cy="1220760"/>
            <a:chOff x="130320" y="1600200"/>
            <a:chExt cx="1546200" cy="1220760"/>
          </a:xfrm>
        </p:grpSpPr>
        <p:sp>
          <p:nvSpPr>
            <p:cNvPr id="135" name=""/>
            <p:cNvSpPr/>
            <p:nvPr/>
          </p:nvSpPr>
          <p:spPr>
            <a:xfrm>
              <a:off x="152280" y="1600200"/>
              <a:ext cx="1524240" cy="121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280" y="1690920"/>
              <a:ext cx="152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Ti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chi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280" y="2362320"/>
              <a:ext cx="15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280" y="2286000"/>
              <a:ext cx="15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320" y="2300760"/>
              <a:ext cx="1546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essButton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intTicket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369520" y="18277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952880" y="3049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arking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3049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entry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6002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9144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9144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53280" y="9144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828800"/>
            <a:ext cx="152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1981080"/>
            <a:ext cx="15228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1981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2133720"/>
            <a:ext cx="152280" cy="12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21337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077320" y="4114800"/>
            <a:ext cx="152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41148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6758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ssButton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3600" y="18280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cketRequested 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20760" y="2133000"/>
            <a:ext cx="175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ckAvailableSpaces 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46483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7640" y="434268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oseGat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400440" y="5790960"/>
            <a:ext cx="2514600" cy="838440"/>
            <a:chOff x="6400440" y="5790960"/>
            <a:chExt cx="2514600" cy="838440"/>
          </a:xfrm>
        </p:grpSpPr>
        <p:sp>
          <p:nvSpPr>
            <p:cNvPr id="160" name=""/>
            <p:cNvSpPr/>
            <p:nvPr/>
          </p:nvSpPr>
          <p:spPr>
            <a:xfrm flipH="1">
              <a:off x="6400080" y="5791320"/>
              <a:ext cx="2506680" cy="8380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nterTheGar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se case of 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river with a non-reserved ticke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09960" y="595980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8409960" y="579096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868000" y="38091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enGat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77320" y="4648320"/>
            <a:ext cx="152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76320" y="91296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n-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Ticket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Non-reserved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actor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685800" cy="8384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5715000" y="2438280"/>
            <a:ext cx="609120" cy="456840"/>
            <a:chOff x="5715000" y="2438280"/>
            <a:chExt cx="609120" cy="456840"/>
          </a:xfrm>
        </p:grpSpPr>
        <p:sp>
          <p:nvSpPr>
            <p:cNvPr id="168" name=""/>
            <p:cNvSpPr/>
            <p:nvPr/>
          </p:nvSpPr>
          <p:spPr>
            <a:xfrm>
              <a:off x="5715000" y="2438280"/>
              <a:ext cx="60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24120" y="243828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715000" y="2895120"/>
              <a:ext cx="60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981080" y="304920"/>
            <a:ext cx="1828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m: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Mach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71440" y="32004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56760" y="28328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available-spaces &gt; 0] PrintTick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914400" y="3505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57320" y="319968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turnTick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8098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53520" y="350460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cketTaken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800240" y="26668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914040" y="26668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7920" y="2315520"/>
            <a:ext cx="297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available-spaces &lt;= 0] DisplayParkingFull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2666880"/>
            <a:ext cx="152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3505320"/>
            <a:ext cx="152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3200400"/>
            <a:ext cx="1522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3809880"/>
            <a:ext cx="15228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981080" y="3049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ticket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TicketR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3049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arking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3049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monthly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Monthly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0120" y="3049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entry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16002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9144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9144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9144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05920" y="9144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828800"/>
            <a:ext cx="1522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90920" y="1981080"/>
            <a:ext cx="152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981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2133720"/>
            <a:ext cx="152640" cy="266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21337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2362320"/>
            <a:ext cx="1522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23623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29600" y="3581280"/>
            <a:ext cx="1522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35812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79560" y="16758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Tick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65880" y="1828080"/>
            <a:ext cx="22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lidateTicket (location, 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27880" y="2086920"/>
            <a:ext cx="12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Valid (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41911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27880" y="388548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oseGat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553080" y="5790960"/>
            <a:ext cx="2361960" cy="838440"/>
            <a:chOff x="6553080" y="5790960"/>
            <a:chExt cx="2361960" cy="838440"/>
          </a:xfrm>
        </p:grpSpPr>
        <p:sp>
          <p:nvSpPr>
            <p:cNvPr id="209" name=""/>
            <p:cNvSpPr/>
            <p:nvPr/>
          </p:nvSpPr>
          <p:spPr>
            <a:xfrm flipH="1">
              <a:off x="6553080" y="5791320"/>
              <a:ext cx="2355120" cy="8380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nterTheGar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se case of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river with a monthly ticke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40560" y="5959800"/>
              <a:ext cx="47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8440560" y="579096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52280" y="94464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month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Ticket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Monthly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actor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flipH="1">
            <a:off x="4648320" y="29718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66640" y="266616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50920" y="3276000"/>
            <a:ext cx="210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enGate (location, date,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29600" y="4191120"/>
            <a:ext cx="152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28195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981080" y="3049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ticket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TicketR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049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arking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1320" y="3049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0120" y="3049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exit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21932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9144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9144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9144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9144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1523880"/>
            <a:ext cx="15228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90920" y="1676520"/>
            <a:ext cx="152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16765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1828800"/>
            <a:ext cx="15264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43200" y="18288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00800" y="2057400"/>
            <a:ext cx="1522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20574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29600" y="3276720"/>
            <a:ext cx="152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32767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9080" y="137088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Tick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6280" y="1553400"/>
            <a:ext cx="25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lidateTicket (location, number, 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07360" y="1782000"/>
            <a:ext cx="12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Valid (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46483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8320" y="38862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7880" y="434268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oseGat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705360" y="6019920"/>
            <a:ext cx="2210040" cy="609480"/>
            <a:chOff x="6705360" y="6019920"/>
            <a:chExt cx="2210040" cy="609480"/>
          </a:xfrm>
        </p:grpSpPr>
        <p:sp>
          <p:nvSpPr>
            <p:cNvPr id="244" name=""/>
            <p:cNvSpPr/>
            <p:nvPr/>
          </p:nvSpPr>
          <p:spPr>
            <a:xfrm flipH="1">
              <a:off x="6705000" y="6019920"/>
              <a:ext cx="2202840" cy="6094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xitTheGar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se ca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71520" y="614232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8471520" y="6019920"/>
              <a:ext cx="0" cy="12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61160" y="91332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actor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H="1">
            <a:off x="4648320" y="26668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66640" y="23616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31840" y="2971080"/>
            <a:ext cx="210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enGate (location, date,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29680" y="358056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iverLeft (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00800" y="3886200"/>
            <a:ext cx="152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229600" y="4648320"/>
            <a:ext cx="152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25146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952880" y="3049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arking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91520" y="1981080"/>
            <a:ext cx="16761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n-reserved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Non-reserved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16002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117936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9144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29600" y="259092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828800"/>
            <a:ext cx="152280" cy="259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1981080"/>
            <a:ext cx="152280" cy="243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1981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62720" y="2133720"/>
            <a:ext cx="15228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21337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22860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82080" y="1675800"/>
            <a:ext cx="168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veMoneyToCashier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70800" y="182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yTick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75960" y="259020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itForChang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314840" y="5790960"/>
            <a:ext cx="1600560" cy="838440"/>
            <a:chOff x="7314840" y="5790960"/>
            <a:chExt cx="1600560" cy="838440"/>
          </a:xfrm>
        </p:grpSpPr>
        <p:sp>
          <p:nvSpPr>
            <p:cNvPr id="272" name=""/>
            <p:cNvSpPr/>
            <p:nvPr/>
          </p:nvSpPr>
          <p:spPr>
            <a:xfrm flipH="1">
              <a:off x="7314480" y="5791320"/>
              <a:ext cx="1595160" cy="8380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ayTi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se ca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93920" y="5959800"/>
              <a:ext cx="32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8593920" y="579096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5739480" y="1980360"/>
            <a:ext cx="164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«create» (time, 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971800" y="2514600"/>
            <a:ext cx="609120" cy="456840"/>
            <a:chOff x="2971800" y="2514600"/>
            <a:chExt cx="609120" cy="456840"/>
          </a:xfrm>
        </p:grpSpPr>
        <p:sp>
          <p:nvSpPr>
            <p:cNvPr id="277" name=""/>
            <p:cNvSpPr/>
            <p:nvPr/>
          </p:nvSpPr>
          <p:spPr>
            <a:xfrm>
              <a:off x="2971800" y="2514600"/>
              <a:ext cx="60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0920" y="251460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971800" y="2971440"/>
              <a:ext cx="60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 flipH="1">
            <a:off x="914400" y="33526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64080" y="304740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turnChangeAndTick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71800" y="3352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62320" y="913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:Cash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actor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0" y="91296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n-reserved Ticket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actor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6858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952880" y="3049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arking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91520" y="3429000"/>
            <a:ext cx="15238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monthly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Monthly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16002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117936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9144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153280" y="40384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2057400"/>
            <a:ext cx="152280" cy="304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1981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2209680"/>
            <a:ext cx="15228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71800" y="22096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3733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37800" y="1675800"/>
            <a:ext cx="17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questMonthlyTick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2080" y="1828080"/>
            <a:ext cx="155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MonthlyTicket 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75960" y="380916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itForChang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6934320" y="5790960"/>
            <a:ext cx="1980720" cy="838440"/>
            <a:chOff x="6934320" y="5790960"/>
            <a:chExt cx="1980720" cy="838440"/>
          </a:xfrm>
        </p:grpSpPr>
        <p:sp>
          <p:nvSpPr>
            <p:cNvPr id="302" name=""/>
            <p:cNvSpPr/>
            <p:nvPr/>
          </p:nvSpPr>
          <p:spPr>
            <a:xfrm flipH="1">
              <a:off x="6934320" y="5791320"/>
              <a:ext cx="1974960" cy="8380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uyMonthlyTi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se ca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517240" y="5959800"/>
              <a:ext cx="39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8517240" y="579096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645160" y="2970720"/>
            <a:ext cx="35575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available-spaces &gt; 0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erved-spaces + 1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0.4 * maximum-number-space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«create» (date, 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971800" y="3733920"/>
            <a:ext cx="609120" cy="456840"/>
            <a:chOff x="2971800" y="3733920"/>
            <a:chExt cx="609120" cy="456840"/>
          </a:xfrm>
        </p:grpSpPr>
        <p:sp>
          <p:nvSpPr>
            <p:cNvPr id="307" name=""/>
            <p:cNvSpPr/>
            <p:nvPr/>
          </p:nvSpPr>
          <p:spPr>
            <a:xfrm>
              <a:off x="2971800" y="3733920"/>
              <a:ext cx="60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80920" y="373392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971800" y="4190760"/>
              <a:ext cx="60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 flipH="1">
            <a:off x="914400" y="45720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89640" y="426636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turnChangeAndTick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913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:Cash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actor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52280" y="91296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month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Ticket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actor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5797080" y="2056680"/>
            <a:ext cx="172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ckAvailableSpaces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715000" y="2362320"/>
            <a:ext cx="609120" cy="456840"/>
            <a:chOff x="5715000" y="2362320"/>
            <a:chExt cx="609120" cy="456840"/>
          </a:xfrm>
        </p:grpSpPr>
        <p:sp>
          <p:nvSpPr>
            <p:cNvPr id="318" name=""/>
            <p:cNvSpPr/>
            <p:nvPr/>
          </p:nvSpPr>
          <p:spPr>
            <a:xfrm>
              <a:off x="5715000" y="2362320"/>
              <a:ext cx="60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24120" y="236232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715000" y="2819160"/>
              <a:ext cx="60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999000" y="2284920"/>
            <a:ext cx="35229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available-spaces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0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erved-spaces + 1 &gt; 0.4 * maximum-number-space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playErrorMessag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1828800"/>
            <a:ext cx="152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4800600" y="2971440"/>
            <a:ext cx="9144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914040" y="297180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2120" y="2971800"/>
            <a:ext cx="152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4572000"/>
            <a:ext cx="152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038480" y="2895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arking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38480" y="54864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entry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05120" y="105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: PressButton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92440" y="3077280"/>
            <a:ext cx="21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1: CheckAvailableSpaces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400440" y="5790960"/>
            <a:ext cx="2514600" cy="838440"/>
            <a:chOff x="6400440" y="5790960"/>
            <a:chExt cx="2514600" cy="838440"/>
          </a:xfrm>
        </p:grpSpPr>
        <p:sp>
          <p:nvSpPr>
            <p:cNvPr id="332" name=""/>
            <p:cNvSpPr/>
            <p:nvPr/>
          </p:nvSpPr>
          <p:spPr>
            <a:xfrm flipH="1">
              <a:off x="6400080" y="5791320"/>
              <a:ext cx="2506680" cy="8380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nterTheGarag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se case of 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river with a non-reserved ticket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409960" y="595980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8409960" y="579096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0" y="91296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n-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Ticket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Non-reserved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actor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685800" cy="83844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5410080" y="2971800"/>
            <a:ext cx="609840" cy="457200"/>
            <a:chOff x="5410080" y="2971800"/>
            <a:chExt cx="609840" cy="457200"/>
          </a:xfrm>
        </p:grpSpPr>
        <p:sp>
          <p:nvSpPr>
            <p:cNvPr id="338" name=""/>
            <p:cNvSpPr/>
            <p:nvPr/>
          </p:nvSpPr>
          <p:spPr>
            <a:xfrm>
              <a:off x="5410080" y="2971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19920" y="2971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410080" y="34290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3809880" y="304920"/>
            <a:ext cx="1828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m: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Mach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1858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3 [available-spaces &gt; 0]: PrintTick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25560" y="8373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3.1: ReturnTick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6094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33720" y="457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58280" y="1674000"/>
            <a:ext cx="1613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: TicketRequested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3.2: TicketTaken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9144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24280" y="35053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76920" y="1600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31280" y="4340880"/>
            <a:ext cx="1567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3.2.1: OpenGat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3.2.2: CloseGat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51360" y="4267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133720" y="762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572000" y="1600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12240" y="266616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«self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7220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16002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38080" y="3200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09440" y="3458520"/>
            <a:ext cx="339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2 [available-spaces &lt;= 0]: DisplayParkingFull (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980720" y="33526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276720" y="3049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ticket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TicketR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76720" y="26668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arkingGa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91520" y="26668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monthly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MonthlyTi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76720" y="50292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entry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744560" y="105480"/>
            <a:ext cx="12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: InsertTick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18480" y="1523160"/>
            <a:ext cx="252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: ValidateTicket (location, 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28360" y="220896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1: IsValid (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553080" y="5790960"/>
            <a:ext cx="2361960" cy="838440"/>
            <a:chOff x="6553080" y="5790960"/>
            <a:chExt cx="2361960" cy="838440"/>
          </a:xfrm>
        </p:grpSpPr>
        <p:sp>
          <p:nvSpPr>
            <p:cNvPr id="368" name=""/>
            <p:cNvSpPr/>
            <p:nvPr/>
          </p:nvSpPr>
          <p:spPr>
            <a:xfrm flipH="1">
              <a:off x="6553080" y="5791320"/>
              <a:ext cx="2355120" cy="8380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nterTheGarag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se case of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river with a monthly ticket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440560" y="5959800"/>
              <a:ext cx="47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8440560" y="579096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52280" y="91296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month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Ticket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MonthlyTick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actor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4988880" y="266616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98680" y="3829680"/>
            <a:ext cx="24879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2: OpenGate (location, date,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3: CloseGat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6094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1080" y="4572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914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48320" y="29718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62520" y="32767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14800" y="12952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15000" y="2590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638680" y="2743200"/>
            <a:ext cx="990360" cy="152280"/>
            <a:chOff x="5638680" y="2743200"/>
            <a:chExt cx="990360" cy="152280"/>
          </a:xfrm>
        </p:grpSpPr>
        <p:sp>
          <p:nvSpPr>
            <p:cNvPr id="383" name=""/>
            <p:cNvSpPr/>
            <p:nvPr/>
          </p:nvSpPr>
          <p:spPr>
            <a:xfrm>
              <a:off x="6476760" y="2743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638680" y="28195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4114800" y="37339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1T19:15:58Z</dcterms:created>
  <dc:creator>MariCarmen Otero.</dc:creator>
  <dc:description/>
  <dc:language>en-US</dc:language>
  <cp:lastModifiedBy>Mari Carmen Otero.</cp:lastModifiedBy>
  <cp:lastPrinted>2002-04-10T10:33:27Z</cp:lastPrinted>
  <dcterms:modified xsi:type="dcterms:W3CDTF">2002-04-11T09:25:19Z</dcterms:modified>
  <cp:revision>306</cp:revision>
  <dc:subject/>
  <dc:title>Sin título de diapositiva</dc:title>
</cp:coreProperties>
</file>