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BF9-1AEC-4083-82D5-5C64C557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55A-0B80-47CE-8D0C-EAE52D20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756-EC92-4572-8CCF-50E06A0E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E97-C1AC-4339-B412-10F59BFE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A80-3631-4272-B62A-27856986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897-1252-4D66-9A73-9F982024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17F-812F-44C3-8EB7-ECDD15F9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55C-C73B-4A8D-B4B8-3BAFADB5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139-D322-4850-8CF1-E0DD055F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98C-D75B-4750-9C05-38D7F384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B16-5A8C-4A3D-B885-D11A73F7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E99-A853-465D-BE53-B1764BE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7324-A6A4-4415-9842-F41437248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28600"/>
            <a:ext cx="5715000" cy="624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80880"/>
            <a:ext cx="2133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360" y="46314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ctor" descr=""/>
          <p:cNvPicPr/>
          <p:nvPr/>
        </p:nvPicPr>
        <p:blipFill>
          <a:blip r:embed="rId1"/>
          <a:stretch/>
        </p:blipFill>
        <p:spPr>
          <a:xfrm>
            <a:off x="420840" y="341316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59960" y="600300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suran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819520"/>
            <a:ext cx="25146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ncellation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6680" y="15991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ctor" descr=""/>
          <p:cNvPicPr/>
          <p:nvPr/>
        </p:nvPicPr>
        <p:blipFill>
          <a:blip r:embed="rId2"/>
          <a:stretch/>
        </p:blipFill>
        <p:spPr>
          <a:xfrm>
            <a:off x="420840" y="45720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94560" y="37933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ctor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72540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800600" y="83772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37120" y="10346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Includ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1600200"/>
            <a:ext cx="21333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895480"/>
            <a:ext cx="18288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nc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4038480"/>
            <a:ext cx="21333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410080"/>
            <a:ext cx="21333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voi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838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1980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Includ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74800" y="4114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Includ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43200" y="3657240"/>
            <a:ext cx="144792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43200" y="2057400"/>
            <a:ext cx="14479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93976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Includ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33560" y="33526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335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181120" y="3352680"/>
            <a:ext cx="266724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248160" y="3352680"/>
            <a:ext cx="16002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838080"/>
            <a:ext cx="29718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43000" y="1168560"/>
            <a:ext cx="0" cy="46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609480"/>
            <a:ext cx="10670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Invoi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5000" y="609480"/>
            <a:ext cx="9907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9152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4852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010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1523880"/>
            <a:ext cx="152640" cy="365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629040" y="6019920"/>
            <a:ext cx="2210040" cy="533160"/>
            <a:chOff x="6629040" y="6019920"/>
            <a:chExt cx="2210040" cy="533160"/>
          </a:xfrm>
        </p:grpSpPr>
        <p:sp>
          <p:nvSpPr>
            <p:cNvPr id="364" name=""/>
            <p:cNvSpPr/>
            <p:nvPr/>
          </p:nvSpPr>
          <p:spPr>
            <a:xfrm flipH="1">
              <a:off x="6628680" y="6019920"/>
              <a:ext cx="220284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nvoicing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95200" y="61272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83952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57000" y="91332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actor" descr=""/>
          <p:cNvPicPr/>
          <p:nvPr/>
        </p:nvPicPr>
        <p:blipFill>
          <a:blip r:embed="rId1"/>
          <a:stretch/>
        </p:blipFill>
        <p:spPr>
          <a:xfrm>
            <a:off x="8287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962520" y="609480"/>
            <a:ext cx="10666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17524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8520" y="1477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voicing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61280" y="2437560"/>
            <a:ext cx="382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payment-date.month = invoicing-date.month] PrintLabel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1981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89720" y="1705680"/>
            <a:ext cx="88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Invoic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22096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63800" y="190440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payment-date.month = invoicing-date.month] Emi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1752480"/>
            <a:ext cx="15264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1981080"/>
            <a:ext cx="15228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209680"/>
            <a:ext cx="152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27432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2743200"/>
            <a:ext cx="152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066680" y="4572000"/>
            <a:ext cx="10670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d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96080" y="2514600"/>
            <a:ext cx="1143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5334120"/>
            <a:ext cx="9907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38098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rovi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71560" y="1416960"/>
            <a:ext cx="140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RequestBudg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: Sig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 Pay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35160" y="8370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actor" descr=""/>
          <p:cNvPicPr/>
          <p:nvPr/>
        </p:nvPicPr>
        <p:blipFill>
          <a:blip r:embed="rId1"/>
          <a:stretch/>
        </p:blipFill>
        <p:spPr>
          <a:xfrm>
            <a:off x="1262160" y="76320"/>
            <a:ext cx="685800" cy="83808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6629040" y="6019920"/>
            <a:ext cx="2210040" cy="533160"/>
            <a:chOff x="6629040" y="6019920"/>
            <a:chExt cx="2210040" cy="533160"/>
          </a:xfrm>
        </p:grpSpPr>
        <p:sp>
          <p:nvSpPr>
            <p:cNvPr id="390" name=""/>
            <p:cNvSpPr/>
            <p:nvPr/>
          </p:nvSpPr>
          <p:spPr>
            <a:xfrm flipH="1">
              <a:off x="6628680" y="6019920"/>
              <a:ext cx="220284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udget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95200" y="61272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3952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267080" y="304920"/>
            <a:ext cx="10670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76040" y="319932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actor" descr=""/>
          <p:cNvPicPr/>
          <p:nvPr/>
        </p:nvPicPr>
        <p:blipFill>
          <a:blip r:embed="rId2"/>
          <a:stretch/>
        </p:blipFill>
        <p:spPr>
          <a:xfrm>
            <a:off x="1247760" y="2438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267080" y="2514600"/>
            <a:ext cx="10670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46040" y="1294560"/>
            <a:ext cx="243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1: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 [client does not exist]: «creat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680" y="159948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3: Budg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: Bill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69040" y="380916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: Modificati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1143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447920" y="1371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52480" y="1371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28195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28195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33680" y="1980360"/>
            <a:ext cx="141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New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: Confirmati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1: FirstPaymen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2666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3446640"/>
            <a:ext cx="0" cy="11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3580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00600" y="914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952880" y="1143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3720" y="48769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31240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95520" y="441900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.1: ChangesI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4724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21480" y="181368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: «creat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.1.1: Chan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.1.2: Prin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.1: Accep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666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05520" y="3124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41148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060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11200" y="449496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.2: «creat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42663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257440" y="56386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20040" y="365688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1.1: Char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6584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296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24400" y="51346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.2.1: Emi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2376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08640" y="551592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{ new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02800" y="220896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{ new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62520" y="254484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d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67480" y="2514600"/>
            <a:ext cx="9907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p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7242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629040" y="6019920"/>
            <a:ext cx="2210040" cy="533160"/>
            <a:chOff x="6629040" y="6019920"/>
            <a:chExt cx="2210040" cy="533160"/>
          </a:xfrm>
        </p:grpSpPr>
        <p:sp>
          <p:nvSpPr>
            <p:cNvPr id="434" name=""/>
            <p:cNvSpPr/>
            <p:nvPr/>
          </p:nvSpPr>
          <p:spPr>
            <a:xfrm flipH="1">
              <a:off x="6628680" y="6019920"/>
              <a:ext cx="220284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ification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95200" y="61272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3952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57000" y="304704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actor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962520" y="380880"/>
            <a:ext cx="10666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0560" y="2361600"/>
            <a:ext cx="12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Modificati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77840" y="3839400"/>
            <a:ext cx="195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3 [cancel]: Open (p:Poli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89760" y="1962720"/>
            <a:ext cx="2782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Find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 [suspend or reactivate]: ChangeSt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33360" y="1447200"/>
            <a:ext cx="24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4 [change conditions]: ChangesI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1952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28195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990720"/>
            <a:ext cx="0" cy="156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94240" y="3159000"/>
            <a:ext cx="1440" cy="15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2666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5812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648320" y="12193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4229280" y="76212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895480"/>
            <a:ext cx="9903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p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502920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95880" y="6019920"/>
            <a:ext cx="2742840" cy="533160"/>
            <a:chOff x="6095880" y="6019920"/>
            <a:chExt cx="2742840" cy="533160"/>
          </a:xfrm>
        </p:grpSpPr>
        <p:sp>
          <p:nvSpPr>
            <p:cNvPr id="456" name=""/>
            <p:cNvSpPr/>
            <p:nvPr/>
          </p:nvSpPr>
          <p:spPr>
            <a:xfrm flipH="1">
              <a:off x="6095880" y="6019920"/>
              <a:ext cx="273456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ossibleCancellationList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287920" y="6127200"/>
              <a:ext cx="55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828792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90240" y="121824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actor" descr=""/>
          <p:cNvPicPr/>
          <p:nvPr/>
        </p:nvPicPr>
        <p:blipFill>
          <a:blip r:embed="rId1"/>
          <a:stretch/>
        </p:blipFill>
        <p:spPr>
          <a:xfrm>
            <a:off x="561960" y="4572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432400" y="2010600"/>
            <a:ext cx="224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CancellationSelect (p:Poli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29160" y="411408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: Open (p:Poli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31240" y="151200"/>
            <a:ext cx="24652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* [state = suspend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rrent-date — date-state &gt; 60 day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cellationSelecti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09760" y="10666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75720" y="914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81480" y="1371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4120" y="17517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81480" y="35053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412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733920" y="533520"/>
            <a:ext cx="1828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la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2590920"/>
            <a:ext cx="9907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65480" y="464832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781320" y="6019920"/>
            <a:ext cx="2057760" cy="533160"/>
            <a:chOff x="6781320" y="6019920"/>
            <a:chExt cx="2057760" cy="533160"/>
          </a:xfrm>
        </p:grpSpPr>
        <p:sp>
          <p:nvSpPr>
            <p:cNvPr id="474" name=""/>
            <p:cNvSpPr/>
            <p:nvPr/>
          </p:nvSpPr>
          <p:spPr>
            <a:xfrm flipH="1">
              <a:off x="6780960" y="6019920"/>
              <a:ext cx="205092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im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25800" y="6127200"/>
              <a:ext cx="41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84258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57000" y="10656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actor" descr=""/>
          <p:cNvPicPr/>
          <p:nvPr/>
        </p:nvPicPr>
        <p:blipFill>
          <a:blip r:embed="rId1"/>
          <a:stretch/>
        </p:blipFill>
        <p:spPr>
          <a:xfrm>
            <a:off x="828720" y="30492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812840" y="1505520"/>
            <a:ext cx="3579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FindUnpai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 [limit-date &gt; current-date &gt; payment-date]: Clai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9600" y="3733200"/>
            <a:ext cx="305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3 [current-date &gt; limit-date]: Open (p:Poli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7880" y="334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Clai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105160" y="2743200"/>
            <a:ext cx="533520" cy="380880"/>
            <a:chOff x="5105160" y="2743200"/>
            <a:chExt cx="533520" cy="380880"/>
          </a:xfrm>
        </p:grpSpPr>
        <p:sp>
          <p:nvSpPr>
            <p:cNvPr id="483" name=""/>
            <p:cNvSpPr/>
            <p:nvPr/>
          </p:nvSpPr>
          <p:spPr>
            <a:xfrm>
              <a:off x="5105520" y="27432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38680" y="27432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105160" y="3124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5881320" y="277272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2.1: Emi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838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0" y="685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11430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3200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1447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913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00600" y="35053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219320" y="26668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086240" y="6019920"/>
            <a:ext cx="1752480" cy="533160"/>
            <a:chOff x="7086240" y="6019920"/>
            <a:chExt cx="1752480" cy="533160"/>
          </a:xfrm>
        </p:grpSpPr>
        <p:sp>
          <p:nvSpPr>
            <p:cNvPr id="496" name=""/>
            <p:cNvSpPr/>
            <p:nvPr/>
          </p:nvSpPr>
          <p:spPr>
            <a:xfrm flipH="1">
              <a:off x="7085880" y="6019920"/>
              <a:ext cx="174708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ancellation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87000" y="6127200"/>
              <a:ext cx="35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84870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195080" y="246780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Cancel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26668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297180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67080" y="28195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038480" y="990720"/>
            <a:ext cx="10670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Invoi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238880" y="2895480"/>
            <a:ext cx="9907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80060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629040" y="6019920"/>
            <a:ext cx="2210040" cy="533160"/>
            <a:chOff x="6629040" y="6019920"/>
            <a:chExt cx="2210040" cy="533160"/>
          </a:xfrm>
        </p:grpSpPr>
        <p:sp>
          <p:nvSpPr>
            <p:cNvPr id="507" name=""/>
            <p:cNvSpPr/>
            <p:nvPr/>
          </p:nvSpPr>
          <p:spPr>
            <a:xfrm flipH="1">
              <a:off x="6628680" y="6019920"/>
              <a:ext cx="220284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nvoicing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95200" y="61272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83952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66200" y="15228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actor" descr=""/>
          <p:cNvPicPr/>
          <p:nvPr/>
        </p:nvPicPr>
        <p:blipFill>
          <a:blip r:embed="rId1"/>
          <a:stretch/>
        </p:blipFill>
        <p:spPr>
          <a:xfrm>
            <a:off x="638280" y="76212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038480" y="2895480"/>
            <a:ext cx="10670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17960" y="761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Invoicing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32560" y="3807360"/>
            <a:ext cx="3391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 [payment-date.month = invoicing-date.month]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ntLabel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52000" y="201060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 *: Invoic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5800" y="2496240"/>
            <a:ext cx="334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1 [payment-date.month = invocing-date.month]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i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3733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12952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0" y="16002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3505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05520" y="32004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24280" y="1828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62320" y="1143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15000" y="3048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80880" y="1752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209680" y="1425960"/>
            <a:ext cx="1905120" cy="862560"/>
            <a:chOff x="2209680" y="1425960"/>
            <a:chExt cx="1905120" cy="862560"/>
          </a:xfrm>
        </p:grpSpPr>
        <p:sp>
          <p:nvSpPr>
            <p:cNvPr id="527" name=""/>
            <p:cNvSpPr/>
            <p:nvPr/>
          </p:nvSpPr>
          <p:spPr>
            <a:xfrm>
              <a:off x="2209680" y="1447560"/>
              <a:ext cx="190512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52920" y="1425960"/>
              <a:ext cx="845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09480" y="1905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92520" y="15228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32240" y="37980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dification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667240" y="762120"/>
            <a:ext cx="1066680" cy="685440"/>
            <a:chOff x="2667240" y="762120"/>
            <a:chExt cx="1066680" cy="685440"/>
          </a:xfrm>
        </p:grpSpPr>
        <p:sp>
          <p:nvSpPr>
            <p:cNvPr id="533" name=""/>
            <p:cNvSpPr/>
            <p:nvPr/>
          </p:nvSpPr>
          <p:spPr>
            <a:xfrm flipV="1">
              <a:off x="3733920" y="762120"/>
              <a:ext cx="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2667240" y="7621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67240" y="762120"/>
              <a:ext cx="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238880" y="6172200"/>
            <a:ext cx="1828440" cy="609480"/>
            <a:chOff x="7238880" y="6172200"/>
            <a:chExt cx="1828440" cy="609480"/>
          </a:xfrm>
        </p:grpSpPr>
        <p:sp>
          <p:nvSpPr>
            <p:cNvPr id="537" name=""/>
            <p:cNvSpPr/>
            <p:nvPr/>
          </p:nvSpPr>
          <p:spPr>
            <a:xfrm flipH="1">
              <a:off x="7238880" y="6172200"/>
              <a:ext cx="18230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700120" y="6294600"/>
              <a:ext cx="36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8700120" y="617220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715000" y="5029200"/>
            <a:ext cx="304920" cy="304560"/>
            <a:chOff x="5715000" y="5029200"/>
            <a:chExt cx="304920" cy="304560"/>
          </a:xfrm>
        </p:grpSpPr>
        <p:sp>
          <p:nvSpPr>
            <p:cNvPr id="541" name=""/>
            <p:cNvSpPr/>
            <p:nvPr/>
          </p:nvSpPr>
          <p:spPr>
            <a:xfrm>
              <a:off x="57150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76920" y="5105160"/>
              <a:ext cx="174600" cy="17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611240" y="32169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mit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9051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18640" y="152280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int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89520" y="1425960"/>
            <a:ext cx="1903680" cy="862560"/>
            <a:chOff x="5789520" y="1425960"/>
            <a:chExt cx="1903680" cy="862560"/>
          </a:xfrm>
        </p:grpSpPr>
        <p:sp>
          <p:nvSpPr>
            <p:cNvPr id="547" name=""/>
            <p:cNvSpPr/>
            <p:nvPr/>
          </p:nvSpPr>
          <p:spPr>
            <a:xfrm>
              <a:off x="5789520" y="1447560"/>
              <a:ext cx="190368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37000" y="1425960"/>
              <a:ext cx="10569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Bud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mit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789520" y="3119760"/>
            <a:ext cx="1903680" cy="862560"/>
            <a:chOff x="5789520" y="3119760"/>
            <a:chExt cx="1903680" cy="862560"/>
          </a:xfrm>
        </p:grpSpPr>
        <p:sp>
          <p:nvSpPr>
            <p:cNvPr id="550" name=""/>
            <p:cNvSpPr/>
            <p:nvPr/>
          </p:nvSpPr>
          <p:spPr>
            <a:xfrm>
              <a:off x="5789520" y="3141360"/>
              <a:ext cx="190368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07200" y="3119760"/>
              <a:ext cx="916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ign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7816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67000" y="25898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gn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114440" y="3598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209680" y="3119760"/>
            <a:ext cx="1905120" cy="862560"/>
            <a:chOff x="2209680" y="3119760"/>
            <a:chExt cx="1905120" cy="862560"/>
          </a:xfrm>
        </p:grpSpPr>
        <p:sp>
          <p:nvSpPr>
            <p:cNvPr id="556" name=""/>
            <p:cNvSpPr/>
            <p:nvPr/>
          </p:nvSpPr>
          <p:spPr>
            <a:xfrm>
              <a:off x="2209680" y="3141360"/>
              <a:ext cx="190512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52480" y="3119760"/>
              <a:ext cx="10569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mit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209680" y="4778640"/>
            <a:ext cx="1905120" cy="862560"/>
            <a:chOff x="2209680" y="4778640"/>
            <a:chExt cx="1905120" cy="862560"/>
          </a:xfrm>
        </p:grpSpPr>
        <p:sp>
          <p:nvSpPr>
            <p:cNvPr id="559" name=""/>
            <p:cNvSpPr/>
            <p:nvPr/>
          </p:nvSpPr>
          <p:spPr>
            <a:xfrm>
              <a:off x="2209680" y="4800240"/>
              <a:ext cx="190512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0320" y="4778640"/>
              <a:ext cx="874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3200400" y="39704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37480" y="419004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rstPayment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14800" y="5181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28600" y="1066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057400" y="838080"/>
            <a:ext cx="1828800" cy="838080"/>
            <a:chOff x="2057400" y="838080"/>
            <a:chExt cx="1828800" cy="838080"/>
          </a:xfrm>
        </p:grpSpPr>
        <p:sp>
          <p:nvSpPr>
            <p:cNvPr id="566" name=""/>
            <p:cNvSpPr/>
            <p:nvPr/>
          </p:nvSpPr>
          <p:spPr>
            <a:xfrm>
              <a:off x="2057400" y="838080"/>
              <a:ext cx="182880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46640" y="10479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457200" y="1219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14600" y="16765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4680" y="83700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gn () / «creat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238880" y="6172200"/>
            <a:ext cx="1828440" cy="609480"/>
            <a:chOff x="7238880" y="6172200"/>
            <a:chExt cx="1828440" cy="609480"/>
          </a:xfrm>
        </p:grpSpPr>
        <p:sp>
          <p:nvSpPr>
            <p:cNvPr id="572" name=""/>
            <p:cNvSpPr/>
            <p:nvPr/>
          </p:nvSpPr>
          <p:spPr>
            <a:xfrm flipH="1">
              <a:off x="7238880" y="6172200"/>
              <a:ext cx="18230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oli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700120" y="6294600"/>
              <a:ext cx="36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8700120" y="617220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610480" y="2895480"/>
            <a:ext cx="304920" cy="304560"/>
            <a:chOff x="8610480" y="2895480"/>
            <a:chExt cx="304920" cy="304560"/>
          </a:xfrm>
        </p:grpSpPr>
        <p:sp>
          <p:nvSpPr>
            <p:cNvPr id="576" name=""/>
            <p:cNvSpPr/>
            <p:nvPr/>
          </p:nvSpPr>
          <p:spPr>
            <a:xfrm>
              <a:off x="8610480" y="28954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672400" y="2971440"/>
              <a:ext cx="174600" cy="17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133720" y="4648320"/>
            <a:ext cx="1828800" cy="837720"/>
            <a:chOff x="2133720" y="4648320"/>
            <a:chExt cx="1828800" cy="837720"/>
          </a:xfrm>
        </p:grpSpPr>
        <p:sp>
          <p:nvSpPr>
            <p:cNvPr id="579" name=""/>
            <p:cNvSpPr/>
            <p:nvPr/>
          </p:nvSpPr>
          <p:spPr>
            <a:xfrm>
              <a:off x="2133720" y="4648320"/>
              <a:ext cx="182880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87160" y="485784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uspe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975960" y="2818080"/>
            <a:ext cx="134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suspe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ChangeState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505320" y="167616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66880" y="2818080"/>
            <a:ext cx="134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reactivat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ChangeState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5867280" y="2666880"/>
            <a:ext cx="1828800" cy="838080"/>
            <a:chOff x="5867280" y="2666880"/>
            <a:chExt cx="1828800" cy="838080"/>
          </a:xfrm>
        </p:grpSpPr>
        <p:sp>
          <p:nvSpPr>
            <p:cNvPr id="585" name=""/>
            <p:cNvSpPr/>
            <p:nvPr/>
          </p:nvSpPr>
          <p:spPr>
            <a:xfrm>
              <a:off x="5867280" y="2666880"/>
              <a:ext cx="182880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7520" y="28767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ancel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886200" y="1295280"/>
            <a:ext cx="2971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962160" y="3505320"/>
            <a:ext cx="2895480" cy="1600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11800" y="4342320"/>
            <a:ext cx="286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ncel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current-date — date-state &gt; 60 day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0920" y="15991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ncel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96080" y="3048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28600" y="1066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90920" y="838080"/>
            <a:ext cx="1828800" cy="838080"/>
            <a:chOff x="2590920" y="838080"/>
            <a:chExt cx="1828800" cy="838080"/>
          </a:xfrm>
        </p:grpSpPr>
        <p:sp>
          <p:nvSpPr>
            <p:cNvPr id="594" name=""/>
            <p:cNvSpPr/>
            <p:nvPr/>
          </p:nvSpPr>
          <p:spPr>
            <a:xfrm>
              <a:off x="2590920" y="838080"/>
              <a:ext cx="182880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90520" y="104796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mit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457200" y="12193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920" y="471960"/>
            <a:ext cx="344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payment-date.month = payment-date.month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Emit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238880" y="6172200"/>
            <a:ext cx="1828440" cy="609480"/>
            <a:chOff x="7238880" y="6172200"/>
            <a:chExt cx="1828440" cy="609480"/>
          </a:xfrm>
        </p:grpSpPr>
        <p:sp>
          <p:nvSpPr>
            <p:cNvPr id="600" name=""/>
            <p:cNvSpPr/>
            <p:nvPr/>
          </p:nvSpPr>
          <p:spPr>
            <a:xfrm flipH="1">
              <a:off x="7238880" y="6172200"/>
              <a:ext cx="18230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700120" y="6294600"/>
              <a:ext cx="36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8700120" y="617220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162920" y="4876920"/>
            <a:ext cx="304560" cy="304560"/>
            <a:chOff x="7162920" y="4876920"/>
            <a:chExt cx="304560" cy="304560"/>
          </a:xfrm>
        </p:grpSpPr>
        <p:sp>
          <p:nvSpPr>
            <p:cNvPr id="604" name=""/>
            <p:cNvSpPr/>
            <p:nvPr/>
          </p:nvSpPr>
          <p:spPr>
            <a:xfrm>
              <a:off x="7162920" y="4876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24480" y="4952880"/>
              <a:ext cx="174240" cy="17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592360" y="4648320"/>
            <a:ext cx="1830240" cy="837720"/>
            <a:chOff x="2592360" y="4648320"/>
            <a:chExt cx="1830240" cy="837720"/>
          </a:xfrm>
        </p:grpSpPr>
        <p:sp>
          <p:nvSpPr>
            <p:cNvPr id="607" name=""/>
            <p:cNvSpPr/>
            <p:nvPr/>
          </p:nvSpPr>
          <p:spPr>
            <a:xfrm>
              <a:off x="2592360" y="4648320"/>
              <a:ext cx="1830240" cy="83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25800" y="485784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Unpa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078080" y="304704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mit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038480" y="167616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400800" y="838080"/>
            <a:ext cx="1828800" cy="838080"/>
            <a:chOff x="6400800" y="838080"/>
            <a:chExt cx="1828800" cy="838080"/>
          </a:xfrm>
        </p:grpSpPr>
        <p:sp>
          <p:nvSpPr>
            <p:cNvPr id="612" name=""/>
            <p:cNvSpPr/>
            <p:nvPr/>
          </p:nvSpPr>
          <p:spPr>
            <a:xfrm>
              <a:off x="6400800" y="838080"/>
              <a:ext cx="182880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86520" y="104796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a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 rot="3060000">
            <a:off x="4860360" y="294156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current-date  &gt; limit-dat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419720" y="12193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64400" y="83700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y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600" y="2970720"/>
            <a:ext cx="321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limit-date &gt; current-date &gt; payment-dat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Claim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89480" y="1619280"/>
            <a:ext cx="2806560" cy="332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15200" y="167652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523880" y="1295280"/>
            <a:ext cx="2057400" cy="1447920"/>
            <a:chOff x="1523880" y="1295280"/>
            <a:chExt cx="2057400" cy="1447920"/>
          </a:xfrm>
        </p:grpSpPr>
        <p:sp>
          <p:nvSpPr>
            <p:cNvPr id="70" name=""/>
            <p:cNvSpPr/>
            <p:nvPr/>
          </p:nvSpPr>
          <p:spPr>
            <a:xfrm>
              <a:off x="1523880" y="1752480"/>
              <a:ext cx="205740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190152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nsu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3880" y="1295280"/>
              <a:ext cx="8384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23880" y="3581280"/>
            <a:ext cx="2057400" cy="1447920"/>
            <a:chOff x="1523880" y="3581280"/>
            <a:chExt cx="2057400" cy="1447920"/>
          </a:xfrm>
        </p:grpSpPr>
        <p:sp>
          <p:nvSpPr>
            <p:cNvPr id="74" name=""/>
            <p:cNvSpPr/>
            <p:nvPr/>
          </p:nvSpPr>
          <p:spPr>
            <a:xfrm>
              <a:off x="1523880" y="4038480"/>
              <a:ext cx="205740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0200" y="418752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ser Interface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23880" y="3581280"/>
              <a:ext cx="8384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 flipV="1">
            <a:off x="2590920" y="27432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334120" y="3657600"/>
            <a:ext cx="2598480" cy="1904760"/>
            <a:chOff x="5334120" y="3657600"/>
            <a:chExt cx="2598480" cy="1904760"/>
          </a:xfrm>
        </p:grpSpPr>
        <p:sp>
          <p:nvSpPr>
            <p:cNvPr id="79" name=""/>
            <p:cNvSpPr/>
            <p:nvPr/>
          </p:nvSpPr>
          <p:spPr>
            <a:xfrm flipH="1">
              <a:off x="5334120" y="3657600"/>
              <a:ext cx="2590560" cy="19047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his package contains the classe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udget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ification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ancellation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ancellationSelection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im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nvoicing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10600" y="4041000"/>
              <a:ext cx="52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410600" y="3657600"/>
              <a:ext cx="0" cy="39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581280" y="45720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151200"/>
            <a:ext cx="1927080" cy="4194720"/>
            <a:chOff x="228600" y="151200"/>
            <a:chExt cx="1927080" cy="4194720"/>
          </a:xfrm>
        </p:grpSpPr>
        <p:sp>
          <p:nvSpPr>
            <p:cNvPr id="84" name=""/>
            <p:cNvSpPr/>
            <p:nvPr/>
          </p:nvSpPr>
          <p:spPr>
            <a:xfrm>
              <a:off x="250920" y="152280"/>
              <a:ext cx="1828800" cy="419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000" y="151200"/>
              <a:ext cx="170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Insuran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oli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0920" y="66996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920" y="606960"/>
              <a:ext cx="190476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ate-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ype-pay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iscou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i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ur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0920" y="25909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2547000"/>
              <a:ext cx="19270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umberAccidents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mitBill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ngeSt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ind (nu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nvoic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ancellationSelec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ancel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124080" y="4113360"/>
            <a:ext cx="1676520" cy="2439360"/>
            <a:chOff x="3124080" y="4113360"/>
            <a:chExt cx="1676520" cy="2439360"/>
          </a:xfrm>
        </p:grpSpPr>
        <p:sp>
          <p:nvSpPr>
            <p:cNvPr id="91" name=""/>
            <p:cNvSpPr/>
            <p:nvPr/>
          </p:nvSpPr>
          <p:spPr>
            <a:xfrm>
              <a:off x="3124080" y="4146480"/>
              <a:ext cx="1600200" cy="2406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92480" y="4113360"/>
              <a:ext cx="145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Insuran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556236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4080" y="4617720"/>
              <a:ext cx="137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mission-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imit-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yment-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24080" y="464796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080" y="5584320"/>
              <a:ext cx="1676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mi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rg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indUnpai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im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134800" y="570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91120" y="150840"/>
            <a:ext cx="1676160" cy="2136600"/>
            <a:chOff x="4191120" y="150840"/>
            <a:chExt cx="1676160" cy="2136600"/>
          </a:xfrm>
        </p:grpSpPr>
        <p:sp>
          <p:nvSpPr>
            <p:cNvPr id="99" name=""/>
            <p:cNvSpPr/>
            <p:nvPr/>
          </p:nvSpPr>
          <p:spPr>
            <a:xfrm>
              <a:off x="4191120" y="183960"/>
              <a:ext cx="1600200" cy="21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9160" y="150840"/>
              <a:ext cx="145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Insuran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1120" y="1599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1120" y="655200"/>
              <a:ext cx="137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ele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1120" y="685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91120" y="1554120"/>
              <a:ext cx="167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in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intLabel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934320" y="1599120"/>
            <a:ext cx="1371600" cy="2365200"/>
            <a:chOff x="6934320" y="1599120"/>
            <a:chExt cx="1371600" cy="2365200"/>
          </a:xfrm>
        </p:grpSpPr>
        <p:sp>
          <p:nvSpPr>
            <p:cNvPr id="106" name=""/>
            <p:cNvSpPr/>
            <p:nvPr/>
          </p:nvSpPr>
          <p:spPr>
            <a:xfrm>
              <a:off x="6934320" y="1632240"/>
              <a:ext cx="1295280" cy="233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34320" y="1599120"/>
              <a:ext cx="130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Insuran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34320" y="3048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2103480"/>
              <a:ext cx="137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i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34320" y="21337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4320" y="3017880"/>
              <a:ext cx="1218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ng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in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ccep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076480" y="91440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30040" y="532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76480" y="2895480"/>
            <a:ext cx="485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0760" y="25135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86200" y="251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914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620120" y="91440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8360" y="532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52880" y="1294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4343400"/>
            <a:ext cx="2880" cy="9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218960" y="533412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20600" y="495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5480" y="4418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757760" y="5179680"/>
            <a:ext cx="1251000" cy="228600"/>
            <a:chOff x="4757760" y="5179680"/>
            <a:chExt cx="1251000" cy="228600"/>
          </a:xfrm>
        </p:grpSpPr>
        <p:sp>
          <p:nvSpPr>
            <p:cNvPr id="126" name=""/>
            <p:cNvSpPr/>
            <p:nvPr/>
          </p:nvSpPr>
          <p:spPr>
            <a:xfrm rot="16200000">
              <a:off x="4757760" y="51796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83120" y="5289480"/>
              <a:ext cx="10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019920" y="4875840"/>
            <a:ext cx="1608120" cy="839160"/>
            <a:chOff x="6019920" y="4875840"/>
            <a:chExt cx="1608120" cy="839160"/>
          </a:xfrm>
        </p:grpSpPr>
        <p:sp>
          <p:nvSpPr>
            <p:cNvPr id="129" name=""/>
            <p:cNvSpPr/>
            <p:nvPr/>
          </p:nvSpPr>
          <p:spPr>
            <a:xfrm>
              <a:off x="6019920" y="4908600"/>
              <a:ext cx="1600200" cy="80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4875840"/>
              <a:ext cx="160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Insuran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rovisional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19920" y="5486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19920" y="5410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800" y="5714640"/>
            <a:ext cx="2658960" cy="838440"/>
            <a:chOff x="388800" y="5714640"/>
            <a:chExt cx="2658960" cy="838440"/>
          </a:xfrm>
        </p:grpSpPr>
        <p:sp>
          <p:nvSpPr>
            <p:cNvPr id="134" name=""/>
            <p:cNvSpPr/>
            <p:nvPr/>
          </p:nvSpPr>
          <p:spPr>
            <a:xfrm flipH="1">
              <a:off x="388800" y="5715000"/>
              <a:ext cx="2658960" cy="8380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n insurance policy can be pa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n three means: annual, half-year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r three-monthly pay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588312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514600" y="5714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62120" y="1447920"/>
            <a:ext cx="990360" cy="4267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6531120" y="303480"/>
            <a:ext cx="1850760" cy="3735000"/>
            <a:chOff x="6531120" y="303480"/>
            <a:chExt cx="1850760" cy="3735000"/>
          </a:xfrm>
        </p:grpSpPr>
        <p:sp>
          <p:nvSpPr>
            <p:cNvPr id="139" name=""/>
            <p:cNvSpPr/>
            <p:nvPr/>
          </p:nvSpPr>
          <p:spPr>
            <a:xfrm>
              <a:off x="6553080" y="304920"/>
              <a:ext cx="1828800" cy="373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1120" y="303480"/>
              <a:ext cx="183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UserInterfa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ancellation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822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75400" y="796680"/>
              <a:ext cx="157788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date-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type-pay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discou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ri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d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addr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tele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3080" y="36576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53080" y="36565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Open (p: Polic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483000" y="303480"/>
            <a:ext cx="1851120" cy="3735000"/>
            <a:chOff x="3483000" y="303480"/>
            <a:chExt cx="1851120" cy="3735000"/>
          </a:xfrm>
        </p:grpSpPr>
        <p:sp>
          <p:nvSpPr>
            <p:cNvPr id="146" name=""/>
            <p:cNvSpPr/>
            <p:nvPr/>
          </p:nvSpPr>
          <p:spPr>
            <a:xfrm>
              <a:off x="3505320" y="304920"/>
              <a:ext cx="1828800" cy="373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83000" y="303480"/>
              <a:ext cx="183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UserInterfa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odification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822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7280" y="796680"/>
              <a:ext cx="157824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date-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type-pay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discou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ri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d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addr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tele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5320" y="36576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7280" y="3656520"/>
              <a:ext cx="157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Modification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34880" y="303480"/>
            <a:ext cx="1851120" cy="3203640"/>
            <a:chOff x="434880" y="303480"/>
            <a:chExt cx="1851120" cy="3203640"/>
          </a:xfrm>
        </p:grpSpPr>
        <p:sp>
          <p:nvSpPr>
            <p:cNvPr id="153" name=""/>
            <p:cNvSpPr/>
            <p:nvPr/>
          </p:nvSpPr>
          <p:spPr>
            <a:xfrm>
              <a:off x="457200" y="304920"/>
              <a:ext cx="1828800" cy="32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4880" y="303480"/>
              <a:ext cx="183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UserInterfa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udget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822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794520"/>
              <a:ext cx="15778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ri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d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addr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tele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2575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2560680"/>
              <a:ext cx="157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New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ChangesIn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Confirmation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FirstPayment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4723200"/>
            <a:ext cx="2057400" cy="1252080"/>
            <a:chOff x="380880" y="4723200"/>
            <a:chExt cx="2057400" cy="1252080"/>
          </a:xfrm>
        </p:grpSpPr>
        <p:sp>
          <p:nvSpPr>
            <p:cNvPr id="160" name=""/>
            <p:cNvSpPr/>
            <p:nvPr/>
          </p:nvSpPr>
          <p:spPr>
            <a:xfrm>
              <a:off x="380880" y="4756320"/>
              <a:ext cx="197820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4120" y="4723200"/>
              <a:ext cx="205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UserInterfa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ancellationSelection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880" y="5562720"/>
              <a:ext cx="197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5257800"/>
              <a:ext cx="197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880" y="525672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list-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5455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CancellationSelection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505320" y="4723200"/>
            <a:ext cx="1828800" cy="1145520"/>
            <a:chOff x="3505320" y="4723200"/>
            <a:chExt cx="1828800" cy="1145520"/>
          </a:xfrm>
        </p:grpSpPr>
        <p:sp>
          <p:nvSpPr>
            <p:cNvPr id="167" name=""/>
            <p:cNvSpPr/>
            <p:nvPr/>
          </p:nvSpPr>
          <p:spPr>
            <a:xfrm>
              <a:off x="3505320" y="4756320"/>
              <a:ext cx="182880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05320" y="47232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UserInterfa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laim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55627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52578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52567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list-b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55616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Claim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553080" y="4723200"/>
            <a:ext cx="1828800" cy="1145520"/>
            <a:chOff x="6553080" y="4723200"/>
            <a:chExt cx="1828800" cy="1145520"/>
          </a:xfrm>
        </p:grpSpPr>
        <p:sp>
          <p:nvSpPr>
            <p:cNvPr id="174" name=""/>
            <p:cNvSpPr/>
            <p:nvPr/>
          </p:nvSpPr>
          <p:spPr>
            <a:xfrm>
              <a:off x="6553080" y="4756320"/>
              <a:ext cx="1828800" cy="111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47232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UserInterface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nvoicing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55627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53080" y="52578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52567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invoicing-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53080" y="556164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Invoicing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71600" y="1168560"/>
            <a:ext cx="0" cy="46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609480"/>
            <a:ext cx="10666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d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2209680"/>
            <a:ext cx="1143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4267080"/>
            <a:ext cx="9907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5168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rovi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281952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4876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53452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5238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1523880"/>
            <a:ext cx="152640" cy="426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16765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5840" y="121860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questBudg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50440" y="14011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5920" y="91332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actor" descr=""/>
          <p:cNvPicPr/>
          <p:nvPr/>
        </p:nvPicPr>
        <p:blipFill>
          <a:blip r:embed="rId1"/>
          <a:stretch/>
        </p:blipFill>
        <p:spPr>
          <a:xfrm>
            <a:off x="1429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5760" y="1168560"/>
            <a:ext cx="1440" cy="46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371600"/>
            <a:ext cx="1526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676520"/>
            <a:ext cx="1526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2895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505320"/>
            <a:ext cx="15264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3505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629040" y="6019920"/>
            <a:ext cx="2210040" cy="533160"/>
            <a:chOff x="6629040" y="6019920"/>
            <a:chExt cx="2210040" cy="533160"/>
          </a:xfrm>
        </p:grpSpPr>
        <p:sp>
          <p:nvSpPr>
            <p:cNvPr id="204" name=""/>
            <p:cNvSpPr/>
            <p:nvPr/>
          </p:nvSpPr>
          <p:spPr>
            <a:xfrm flipH="1">
              <a:off x="6628680" y="6019920"/>
              <a:ext cx="220284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udget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95200" y="61272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3952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38680" y="609480"/>
            <a:ext cx="10670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85600" y="91332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actor" descr=""/>
          <p:cNvPicPr/>
          <p:nvPr/>
        </p:nvPicPr>
        <p:blipFill>
          <a:blip r:embed="rId2"/>
          <a:stretch/>
        </p:blipFill>
        <p:spPr>
          <a:xfrm>
            <a:off x="10573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124080" y="609480"/>
            <a:ext cx="10670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18288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182880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41840" y="152316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21337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21337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6080" y="1828080"/>
            <a:ext cx="20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client does not exist] «creat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2514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20600" y="220896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creat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895480"/>
            <a:ext cx="1526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45920" y="25902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sI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6040" y="31536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dge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8098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20" y="353448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g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39625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4680" y="365688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rmati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962520"/>
            <a:ext cx="15264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41148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18880" y="380916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p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4876920"/>
            <a:ext cx="1526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45720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14200" y="426636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creat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58200" y="51055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5105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40120" y="483012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i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33520" y="49528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" y="464760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ll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52578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7480" y="498240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y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952880"/>
            <a:ext cx="15264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410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69160" y="510480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Paymen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5410080"/>
            <a:ext cx="15264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556272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5820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10240" y="525708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r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64120" y="24678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dificati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743200"/>
            <a:ext cx="1522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30481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3048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65600" y="27727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33526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33526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0880" y="304740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n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1168560"/>
            <a:ext cx="0" cy="46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609480"/>
            <a:ext cx="10670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od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609480"/>
            <a:ext cx="9907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p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9152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010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523880"/>
            <a:ext cx="152640" cy="365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629040" y="6019920"/>
            <a:ext cx="2210040" cy="533160"/>
            <a:chOff x="6629040" y="6019920"/>
            <a:chExt cx="2210040" cy="533160"/>
          </a:xfrm>
        </p:grpSpPr>
        <p:sp>
          <p:nvSpPr>
            <p:cNvPr id="267" name=""/>
            <p:cNvSpPr/>
            <p:nvPr/>
          </p:nvSpPr>
          <p:spPr>
            <a:xfrm flipH="1">
              <a:off x="6628680" y="6019920"/>
              <a:ext cx="220284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ification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95200" y="61272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3952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57000" y="91332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actor" descr=""/>
          <p:cNvPicPr/>
          <p:nvPr/>
        </p:nvPicPr>
        <p:blipFill>
          <a:blip r:embed="rId1"/>
          <a:stretch/>
        </p:blipFill>
        <p:spPr>
          <a:xfrm>
            <a:off x="8287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962520" y="609480"/>
            <a:ext cx="10666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03480" y="17524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5000" y="14472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dificati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274320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88960" y="2437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cancel] Open (p:Poli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03680" y="19810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3320" y="167580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03680" y="23623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0800" y="2086920"/>
            <a:ext cx="25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suspend or reactivate] ChangeStat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51040" y="1752480"/>
            <a:ext cx="168480" cy="21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56360" y="1981080"/>
            <a:ext cx="1522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08840" y="2743200"/>
            <a:ext cx="1526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3124080"/>
            <a:ext cx="1522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31240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29880" y="2818800"/>
            <a:ext cx="22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change conditions] ChangesI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819520" y="23623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819520" y="236232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43000" y="1168560"/>
            <a:ext cx="0" cy="46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609480"/>
            <a:ext cx="1828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609480"/>
            <a:ext cx="9907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p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152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010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676520"/>
            <a:ext cx="152640" cy="35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2057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095880" y="6019920"/>
            <a:ext cx="2742840" cy="533160"/>
            <a:chOff x="6095880" y="6019920"/>
            <a:chExt cx="2742840" cy="533160"/>
          </a:xfrm>
        </p:grpSpPr>
        <p:sp>
          <p:nvSpPr>
            <p:cNvPr id="299" name=""/>
            <p:cNvSpPr/>
            <p:nvPr/>
          </p:nvSpPr>
          <p:spPr>
            <a:xfrm flipH="1">
              <a:off x="6095880" y="6019920"/>
              <a:ext cx="273456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ossibleCancellationList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87920" y="6127200"/>
              <a:ext cx="55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28792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57000" y="91332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actor" descr=""/>
          <p:cNvPicPr/>
          <p:nvPr/>
        </p:nvPicPr>
        <p:blipFill>
          <a:blip r:embed="rId1"/>
          <a:stretch/>
        </p:blipFill>
        <p:spPr>
          <a:xfrm>
            <a:off x="8287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664080" y="1751760"/>
            <a:ext cx="20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cellationSelect  (p:Poli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2895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5800" y="25441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n (p:Poli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18288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23280" y="1324440"/>
            <a:ext cx="3949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[state = suspended and current-date — date-state &gt; 60 day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cellationSelection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1828800"/>
            <a:ext cx="15228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057400"/>
            <a:ext cx="1526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24680" y="2895480"/>
            <a:ext cx="1526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1168560"/>
            <a:ext cx="0" cy="46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609480"/>
            <a:ext cx="1828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la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480"/>
            <a:ext cx="9907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9152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36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010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1676520"/>
            <a:ext cx="152640" cy="35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057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781320" y="6019920"/>
            <a:ext cx="2057760" cy="533160"/>
            <a:chOff x="6781320" y="6019920"/>
            <a:chExt cx="2057760" cy="533160"/>
          </a:xfrm>
        </p:grpSpPr>
        <p:sp>
          <p:nvSpPr>
            <p:cNvPr id="322" name=""/>
            <p:cNvSpPr/>
            <p:nvPr/>
          </p:nvSpPr>
          <p:spPr>
            <a:xfrm flipH="1">
              <a:off x="6780960" y="6019920"/>
              <a:ext cx="205092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im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25800" y="6127200"/>
              <a:ext cx="41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4258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57000" y="91332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actor" descr=""/>
          <p:cNvPicPr/>
          <p:nvPr/>
        </p:nvPicPr>
        <p:blipFill>
          <a:blip r:embed="rId1"/>
          <a:stretch/>
        </p:blipFill>
        <p:spPr>
          <a:xfrm>
            <a:off x="82872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659760" y="175176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Unpai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1280" y="36576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66600" y="3382200"/>
            <a:ext cx="27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current-date &gt; limit-date] Open (p:Poli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19320" y="18288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8160" y="152316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i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1828800"/>
            <a:ext cx="15228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2057400"/>
            <a:ext cx="15264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24680" y="3657600"/>
            <a:ext cx="1526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2438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69480" y="2133000"/>
            <a:ext cx="33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limit-date &gt; current-date &gt; payment-date] Clai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019560" y="2666880"/>
            <a:ext cx="533520" cy="381240"/>
            <a:chOff x="6019560" y="2666880"/>
            <a:chExt cx="533520" cy="381240"/>
          </a:xfrm>
        </p:grpSpPr>
        <p:sp>
          <p:nvSpPr>
            <p:cNvPr id="338" name=""/>
            <p:cNvSpPr/>
            <p:nvPr/>
          </p:nvSpPr>
          <p:spPr>
            <a:xfrm>
              <a:off x="6019920" y="2666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2666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019560" y="3048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648120" y="269640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it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676520" y="6094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anc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146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20574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086240" y="6019920"/>
            <a:ext cx="1752480" cy="533160"/>
            <a:chOff x="7086240" y="6019920"/>
            <a:chExt cx="1752480" cy="533160"/>
          </a:xfrm>
        </p:grpSpPr>
        <p:sp>
          <p:nvSpPr>
            <p:cNvPr id="347" name=""/>
            <p:cNvSpPr/>
            <p:nvPr/>
          </p:nvSpPr>
          <p:spPr>
            <a:xfrm flipH="1">
              <a:off x="7085880" y="6019920"/>
              <a:ext cx="174708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ancellation use ca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87000" y="6127200"/>
              <a:ext cx="35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84870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670840" y="17517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cel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1828800"/>
            <a:ext cx="15264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2057400"/>
            <a:ext cx="1526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6094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1T19:15:58Z</dcterms:created>
  <dc:creator>MariCarmen Otero.</dc:creator>
  <dc:description/>
  <dc:language>en-US</dc:language>
  <cp:lastModifiedBy>Mari Carmen Otero.</cp:lastModifiedBy>
  <cp:lastPrinted>2002-04-11T15:19:48Z</cp:lastPrinted>
  <dcterms:modified xsi:type="dcterms:W3CDTF">2002-04-11T15:26:19Z</dcterms:modified>
  <cp:revision>364</cp:revision>
  <dc:subject/>
  <dc:title>Sin título de diapositiva</dc:title>
</cp:coreProperties>
</file>